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6C6-070E-4CD2-9541-68D2C988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3D0-F2E3-4F7B-8E66-B7B4F03A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C8B-6F5B-4941-9123-F8377E69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9A1-405C-469F-BE01-0FAA8022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D85B-58A3-4797-9BF6-49043872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DB56-B4B5-41F5-AEBC-AED6F704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7A37-3CE7-4A59-ABF6-1FCA3662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1A4A-D6E3-4417-B1F7-3AA459E8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3DA6-EF10-4166-B287-2693429E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041A-1EC7-4286-97F7-CAB6AE50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9FE8-F588-44A4-9D1A-5401387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949-9A6B-4E3C-9D26-6A975D83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EA92-BD24-4A96-80FA-3A9F6AC4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E236-6118-4F9D-9339-517AD32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8127-D4DC-4D0F-A24B-7705A2AF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899F-4E26-4252-846C-D0C78515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0DE4-D419-42B0-A350-8E12FF19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B4C-19B2-480F-989F-103B7912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7BA-BA6D-4868-B06D-161C242A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40C-481A-4C64-9C20-DD895B15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979-08EF-4EF2-AA5B-7294C324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73E-94C4-4554-9117-297A274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DCA-3444-40C8-845F-0416E87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2CC-67A1-4F1A-923D-D9C2A8A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D5CE-71B2-4BFF-A73A-C2367E5ED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20C-D81A-4F58-A316-CD906543E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     </a:t>
            </a:r>
            <a:r>
              <a:rPr b="1" i="1" lang="ru-RU" sz="5400" spc="-1" strike="noStrike">
                <a:solidFill>
                  <a:srgbClr val="000000"/>
                </a:solidFill>
                <a:latin typeface="KZ Boyarsky"/>
              </a:rPr>
              <a:t>Презент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KZ Boyarsky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KZ Boyarsky"/>
              </a:rPr>
              <a:t>учителя русского язык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KZ Boyarsky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KZ Boyarsky"/>
              </a:rPr>
              <a:t>и литератур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KZ Boyarsky"/>
              </a:rPr>
              <a:t>средней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KZ Boyarsky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KZ Boyarsky"/>
              </a:rPr>
              <a:t>общеобразовательной                 школы № 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KZ Boyarsky"/>
              </a:rPr>
              <a:t>Васильевой Е.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KZ Jikharev"/>
              </a:rPr>
              <a:t>Новые (основные) образовательные технологии, используемые в учебно-воспитательном процесс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чная техноло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критического мыш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ое обуч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 тестового контроля ЗУН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3600" spc="-1" strike="noStrike">
                <a:solidFill>
                  <a:srgbClr val="666633"/>
                </a:solidFill>
                <a:latin typeface="Monotype Corsiva"/>
              </a:rPr>
              <a:t>Классические типы урок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Monotype Corsiva"/>
              </a:rPr>
              <a:t>                      </a:t>
            </a:r>
            <a:r>
              <a:rPr b="1" lang="ru-RU" sz="3600" spc="-1" strike="noStrike">
                <a:solidFill>
                  <a:srgbClr val="666633"/>
                </a:solidFill>
                <a:latin typeface="Monotype Corsiva"/>
              </a:rPr>
              <a:t>используемые в практи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водный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мбинированный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рок первичного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Урок закрепления знаний, умений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ы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Урок с использованием ТС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рок развития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овторительно-обобщающий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Урок контроля знаний, умений и навык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3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666633"/>
                </a:solidFill>
                <a:latin typeface="Monotype Corsiva"/>
              </a:rPr>
              <a:t>Нетрадиционные типы</a:t>
            </a:r>
            <a:r>
              <a:rPr b="1" lang="ru-RU" sz="3600" spc="-1" strike="noStrike">
                <a:solidFill>
                  <a:srgbClr val="666633"/>
                </a:solidFill>
                <a:latin typeface="Monotype Corsiva"/>
              </a:rPr>
              <a:t>	</a:t>
            </a:r>
            <a:r>
              <a:rPr b="1" lang="ru-RU" sz="3600" spc="-1" strike="noStrike">
                <a:solidFill>
                  <a:srgbClr val="666633"/>
                </a:solidFill>
                <a:latin typeface="Monotype Corsiva"/>
              </a:rPr>
              <a:t>уроков, наиболе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Monotype Corsiva"/>
              </a:rPr>
              <a:t>                 </a:t>
            </a:r>
            <a:r>
              <a:rPr b="1" lang="ru-RU" sz="3600" spc="-1" strike="noStrike">
                <a:solidFill>
                  <a:srgbClr val="666633"/>
                </a:solidFill>
                <a:latin typeface="Monotype Corsiva"/>
              </a:rPr>
              <a:t>часто используемые в практи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рок-путеше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рок-экскур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ематический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Урок-конферен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Урок-ле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рок-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Урок-практику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Интегрированный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600" spc="-1" strike="noStrike">
                <a:solidFill>
                  <a:srgbClr val="3366cc"/>
                </a:solidFill>
                <a:latin typeface="Monotype Corsiva"/>
              </a:rPr>
              <a:t>Методы и приемы обуче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cc"/>
                </a:solidFill>
                <a:latin typeface="Monotype Corsiva"/>
              </a:rPr>
              <a:t>                        </a:t>
            </a:r>
            <a:r>
              <a:rPr b="1" i="1" lang="ru-RU" sz="3600" spc="-1" strike="noStrike">
                <a:solidFill>
                  <a:srgbClr val="3366cc"/>
                </a:solidFill>
                <a:latin typeface="Monotype Corsiva"/>
              </a:rPr>
              <a:t>используемые в практи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ъяснительно-демонстрационный метод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епродуктивны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етод проблемного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Частично-поисковы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Методы стимулирования и мотив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контр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бучение в сотруднич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7"/>
          <p:cNvSpPr/>
          <p:nvPr/>
        </p:nvSpPr>
        <p:spPr>
          <a:xfrm>
            <a:off x="2819520" y="1828800"/>
            <a:ext cx="3352680" cy="2590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Z Jikharev"/>
              </a:rPr>
              <a:t>Формы организ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Z Jikharev"/>
              </a:rPr>
              <a:t>учебных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228600" y="228600"/>
            <a:ext cx="1828800" cy="190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Z Vivaldi"/>
              </a:rPr>
              <a:t>Индиви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Z Vivaldi"/>
              </a:rPr>
              <a:t>ду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10280" y="151920"/>
            <a:ext cx="1905480" cy="154764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а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/>
          <p:cNvSpPr/>
          <p:nvPr/>
        </p:nvSpPr>
        <p:spPr>
          <a:xfrm>
            <a:off x="304920" y="4572000"/>
            <a:ext cx="1828800" cy="190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Z Jikharev"/>
              </a:rPr>
              <a:t>Групп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3"/>
          <p:cNvSpPr/>
          <p:nvPr/>
        </p:nvSpPr>
        <p:spPr>
          <a:xfrm>
            <a:off x="6781680" y="4572000"/>
            <a:ext cx="2133720" cy="190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Z Vivaldi"/>
              </a:rPr>
              <a:t>Коллектив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Z Vivaldi"/>
              </a:rPr>
              <a:t>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5"/>
          <p:cNvSpPr/>
          <p:nvPr/>
        </p:nvSpPr>
        <p:spPr>
          <a:xfrm flipH="1" flipV="1">
            <a:off x="2057040" y="190476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 flipV="1">
            <a:off x="6172200" y="182844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2133360" y="3657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617220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00"/>
                </a:solidFill>
                <a:latin typeface="Arial"/>
              </a:rPr>
              <a:t>Качество зна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8,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6,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Открытые уро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Z Jikharev"/>
              </a:rPr>
              <a:t>Областной семинар учителей русского языка и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Z Jikharev"/>
              </a:rPr>
              <a:t>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KZ Jikharev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Z Jikharev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KZ Jikharev"/>
              </a:rPr>
              <a:t>Тема: Наре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900"/>
                            </p:stCondLst>
                            <p:childTnLst>
                              <p:par>
                                <p:cTn id="7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400"/>
                            </p:stCondLst>
                            <p:childTnLst>
                              <p:par>
                                <p:cTn id="7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KZ Cooper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KZ Cooper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KZ Cooper"/>
              </a:rPr>
              <a:t>Мастер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KZ Jikharev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KZ Jikharev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KZ Jikharev"/>
              </a:rPr>
              <a:t>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Тема: Изображение народного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восстания и образ Е.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Пугачева в произведении А.С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Пушкина «Капитан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KZ Boyarsky"/>
              </a:rPr>
              <a:t>д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ие, возьмите в подмастер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оглашусь таить в себе г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и нетерпелив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увидеть жадными гла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инственную сущность масте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KZ Boyarsky"/>
              </a:rPr>
              <a:t>Цель воспит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развитие гармоничной личности с учётом возрастных и индивидуальных особенностей школьн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     </a:t>
            </a: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Главное в это время не то, где мы, а то,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Monotype Corsiva"/>
              </a:rPr>
              <a:t>каком направлении мы движемся.</a:t>
            </a:r>
            <a:r>
              <a:rPr b="0" lang="ru-RU" sz="4000" spc="-1" strike="noStrike">
                <a:solidFill>
                  <a:srgbClr val="cc99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4800" spc="-1" strike="noStrike">
                <a:solidFill>
                  <a:srgbClr val="333399"/>
                </a:solidFill>
                <a:latin typeface="KZ Vivaldi"/>
              </a:rPr>
              <a:t>Холм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5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KZ Boyarsky"/>
              </a:rPr>
              <a:t>   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KZ Boyarsky"/>
              </a:rPr>
              <a:t>Направления воспитательной работ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рганизация учебной работы с учителями – предмет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Воспитание познавательной самосто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Нравственное вос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Воспитание коммуникативных ум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оспитание личностных качеств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6633"/>
                </a:solidFill>
                <a:latin typeface="KZ Cooper"/>
              </a:rPr>
              <a:t>Участие в городских мероприят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611280"/>
          <a:ext cx="8534160" cy="5746680"/>
        </p:xfrm>
        <a:graphic>
          <a:graphicData uri="http://schemas.openxmlformats.org/drawingml/2006/table">
            <a:tbl>
              <a:tblPr/>
              <a:tblGrid>
                <a:gridCol w="3962160"/>
                <a:gridCol w="2590920"/>
                <a:gridCol w="1981080"/>
              </a:tblGrid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онкурс выразительного чтения, посвященного Дню Независимости Р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кина Валер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«Б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онкурс сочинений, посвященный Дню Независимости Р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гитаева М., Талапкерова 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«В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лимпиада по русскому язык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гитаева М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«В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алая олимпиада по русскому язык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иров Д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«Б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Конкурс чтецов, посвященный Дню Побед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рич 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«В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KZ Boyarsky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KZ Boyarsky"/>
              </a:rPr>
              <a:t>   </a:t>
            </a:r>
            <a:r>
              <a:rPr b="0" lang="ru-RU" sz="4400" spc="-1" strike="noStrike">
                <a:solidFill>
                  <a:srgbClr val="9933ff"/>
                </a:solidFill>
                <a:latin typeface="KZ Boyarsky"/>
              </a:rPr>
              <a:t>Метод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лен жюри на Малой олимпиа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страничный анализ учебников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а на базе ОБЛИ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сещение уроков уч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крытые уро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бмен опытом с уч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KZ Jikharev"/>
              </a:rPr>
              <a:t>  </a:t>
            </a:r>
            <a:r>
              <a:rPr b="0" lang="ru-RU" sz="4400" spc="-1" strike="noStrike">
                <a:solidFill>
                  <a:srgbClr val="336600"/>
                </a:solidFill>
                <a:latin typeface="KZ Jikharev"/>
              </a:rPr>
              <a:t>Неделя русского языка и лит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крытый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езентация проектов «Золот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 русской поэз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сещение ЦБС №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Литературная игра «Крестик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л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Выставка поделок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400" spc="-1" strike="noStrike">
                <a:solidFill>
                  <a:srgbClr val="0066ff"/>
                </a:solidFill>
                <a:latin typeface="KZ Jikharev"/>
              </a:rPr>
              <a:t>Кружковая деятель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KZ Vivaldi"/>
              </a:rPr>
              <a:t>Театр! Театр! Теат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ыступление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истическом Фестивале уч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Европа – Ази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атрализованный фрагмент «Праздник осени» ( 2 класс «Б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Фольклорный праздник «Ярмарк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Участие в выставке подел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История Дня Святого Валент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Скажем курению: «Нет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Консультации к сказке: «Красная шапочка» на английс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Участие в городском конкурсе инсценировок на экологическую 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Участие в концерте, посвященного Дню Поб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 Представление театрального фрагмента на празднике 8 Марта в 0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58640" y="15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забывай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акаренко сказ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родителей бы на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зко к детям не пус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что же за 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меет песни 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лыбки, без весе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могут умере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ж такая Ваша до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м духе нужно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глаголы – исключ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Вам нужно повто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е жалуйтесь на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и славные дру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всегда п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е быть никак 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KZ Vivald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KZ Vivaldi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KZ Vivaldi"/>
              </a:rPr>
              <a:t>Педагог дополнительного обра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3 место в городском конкурсе по экскурсионному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иентиро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иплом за участие в городском конкур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йық толқы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Участие в областном конкурсе науч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ой работы: «Родная школа 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ы В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ткрытое мероприятие «Девушка, ставш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ендой» (Памяти Маншук посвящается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Грамота за активное участие в конкур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гитбригад, посвященном Дню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                 </a:t>
            </a: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Позитивные тенден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оиск способов активизации познавательн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менение новых техн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Использование разнообразных форм учеб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Дополнительные занятия с учащим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асширение связей с внешкольны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режд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Использование индивидуального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рованного подхода к учащимс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1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4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9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4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7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2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5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KZ Jikharev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KZ Jikharev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KZ Jikharev"/>
              </a:rPr>
              <a:t>Воспитание детей – рекордно сложное занятие, самое запутанное из всех видов творчества. Это творение живых характеров, создание необыкновенно сложных микроорганизмов, а для такого творчества нужна и глубокая интуиция, и глубокие знания. К воспитанию детей стоило бы относиться как к самой важной из всех земных професс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Ю.Рюриков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Organization Chart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1349"/>
              </a:spcBef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KZ Vivaldi"/>
              </a:rPr>
              <a:t>         </a:t>
            </a:r>
            <a:r>
              <a:rPr b="0" lang="ru-RU" sz="5400" spc="-1" strike="noStrike">
                <a:solidFill>
                  <a:srgbClr val="333399"/>
                </a:solidFill>
                <a:latin typeface="KZ Vivaldi"/>
              </a:rPr>
              <a:t>Творческий отчёт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KZ Vivaldi"/>
              </a:rPr>
              <a:t>                    </a:t>
            </a:r>
            <a:r>
              <a:rPr b="0" lang="ru-RU" sz="5400" spc="-1" strike="noStrike">
                <a:solidFill>
                  <a:srgbClr val="333399"/>
                </a:solidFill>
                <a:latin typeface="KZ Vivaldi"/>
              </a:rPr>
              <a:t>учител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KZ Vivaldi"/>
              </a:rPr>
              <a:t>        </a:t>
            </a:r>
            <a:r>
              <a:rPr b="0" lang="ru-RU" sz="5400" spc="-1" strike="noStrike">
                <a:solidFill>
                  <a:srgbClr val="333399"/>
                </a:solidFill>
                <a:latin typeface="KZ Vivaldi"/>
              </a:rPr>
              <a:t>русского языка и литерату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7c80"/>
                </a:solidFill>
                <a:latin typeface="KZ Vivaldi"/>
              </a:rPr>
              <a:t>                        </a:t>
            </a:r>
            <a:r>
              <a:rPr b="1" lang="ru-RU" sz="5400" spc="-1" strike="noStrike">
                <a:solidFill>
                  <a:srgbClr val="333399"/>
                </a:solidFill>
                <a:latin typeface="KZ Vivaldi"/>
              </a:rPr>
              <a:t>Васильевой Е.В.</a:t>
            </a:r>
            <a:r>
              <a:rPr b="0" lang="ru-RU" sz="2800" spc="-1" strike="noStrike">
                <a:solidFill>
                  <a:srgbClr val="ff7c80"/>
                </a:solidFill>
                <a:latin typeface="KZ Vivald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KZ Vivaldi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KZ Vivald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KZ Vivaldi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666633"/>
                </a:solidFill>
                <a:latin typeface="KZ Vivaldi"/>
              </a:rPr>
              <a:t>Вся радость жизни – в творч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KZ Vivald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666633"/>
                </a:solidFill>
                <a:latin typeface="KZ Vivaldi"/>
              </a:rPr>
              <a:t>Творить – значит убивать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33"/>
                </a:solidFill>
                <a:latin typeface="KZ Vivaldi"/>
              </a:rPr>
              <a:t>         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KZ Vivaldi"/>
              </a:rPr>
              <a:t>Ромен Рол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writingonbook"/>
          <p:cNvPicPr/>
          <p:nvPr/>
        </p:nvPicPr>
        <p:blipFill>
          <a:blip r:embed="rId1"/>
          <a:stretch/>
        </p:blipFill>
        <p:spPr>
          <a:xfrm>
            <a:off x="0" y="5105520"/>
            <a:ext cx="23623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26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KZ Cooper"/>
              </a:rPr>
              <a:t>Каждому учителю я жел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KZ Vivaldi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KZ Vivaldi"/>
              </a:rPr>
              <a:t>«Люби, твори, прощай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KZ Vivaldi"/>
              </a:rPr>
              <a:t>Васильева Е.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Новый рисунок"/>
          <p:cNvPicPr/>
          <p:nvPr/>
        </p:nvPicPr>
        <p:blipFill>
          <a:blip r:embed="rId1"/>
          <a:srcRect l="10332" t="0" r="36761" b="25032"/>
          <a:stretch/>
        </p:blipFill>
        <p:spPr>
          <a:xfrm>
            <a:off x="7321680" y="4648320"/>
            <a:ext cx="18223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0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KZ Vivaldi"/>
              </a:rPr>
              <a:t>Творче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ятельность, порождающая нечто качественно новое и отличающаяся неповторимостью, оригинальностью. Творчество специфично для человека, так как всегда предполагает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3"/>
          <p:cNvSpPr/>
          <p:nvPr/>
        </p:nvSpPr>
        <p:spPr>
          <a:xfrm>
            <a:off x="990720" y="838080"/>
            <a:ext cx="746748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Z Boyarsky"/>
              </a:rPr>
              <a:t>Направления работы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2743200"/>
            <a:ext cx="304812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KZ Cooper"/>
              </a:rPr>
              <a:t>Учитель – предме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4648320" y="5486400"/>
            <a:ext cx="44956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KZ Cooper"/>
              </a:rPr>
              <a:t>Педагог дополни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KZ Cooper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5334120" y="4114800"/>
            <a:ext cx="3809880" cy="10666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KZ Cooper"/>
              </a:rPr>
              <a:t>Член творческ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KZ Cooper"/>
              </a:rPr>
              <a:t>«Новато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5715000" y="2590920"/>
            <a:ext cx="3429000" cy="838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KZ Cooper"/>
              </a:rPr>
              <a:t>Руководител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KZ Cooper"/>
              </a:rPr>
              <a:t>театрального круж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0" y="3886200"/>
            <a:ext cx="4038480" cy="1066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KZ Cooper"/>
              </a:rPr>
              <a:t>Учитель –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KZ Cooper"/>
              </a:rPr>
              <a:t>(классный руководител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990720" y="5410080"/>
            <a:ext cx="2971800" cy="8384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KZ Cooper"/>
              </a:rPr>
              <a:t>Руководитель Ш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361960" y="182880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4800600" y="1905120"/>
            <a:ext cx="53352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H="1">
            <a:off x="3200040" y="1905120"/>
            <a:ext cx="7621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H="1">
            <a:off x="3962160" y="1905120"/>
            <a:ext cx="53316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6095880" y="18288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5105520" y="1905120"/>
            <a:ext cx="6094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6"/>
          <p:cNvSpPr txBox="1"/>
          <p:nvPr/>
        </p:nvSpPr>
        <p:spPr>
          <a:xfrm>
            <a:off x="1752480" y="380880"/>
            <a:ext cx="609624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atin typeface="Arial"/>
              </a:rPr>
              <a:t>САМО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KZ Jikharev"/>
              </a:rPr>
              <a:t>Учитель учит, пока учится 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KZ Vivaldi"/>
              </a:rPr>
              <a:t>А.С.Макаренк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KZ Jikharev"/>
              </a:rPr>
              <a:t>              </a:t>
            </a:r>
            <a:r>
              <a:rPr b="1" lang="ru-RU" sz="4000" spc="-1" strike="noStrike">
                <a:solidFill>
                  <a:srgbClr val="336699"/>
                </a:solidFill>
                <a:latin typeface="KZ Jikharev"/>
              </a:rPr>
              <a:t>Самообраз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стандарт общего среднего образования Республики Казахст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нцепция общего средне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декс законов о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ограмма 20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Закон о язы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Литература по методической теме (Обучение в сотрудниче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Методическая литература по предм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Литература по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Интер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KZ Jikharev"/>
              </a:rPr>
              <a:t>       </a:t>
            </a:r>
            <a:r>
              <a:rPr b="0" lang="ru-RU" sz="4800" spc="-1" strike="noStrike">
                <a:solidFill>
                  <a:srgbClr val="336699"/>
                </a:solidFill>
                <a:latin typeface="KZ Jikharev"/>
              </a:rPr>
              <a:t>Негативные тенден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нижение интереса к учебному процес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ток информационных технолог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нил чт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ократилось количество часов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Упал уровень врожденной грамо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Нет поддержки школьной библиот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KZ Vivaldi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KZ Vivaldi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KZ Vivaldi"/>
              </a:rPr>
              <a:t>       </a:t>
            </a:r>
            <a:r>
              <a:rPr b="1" lang="ru-RU" sz="5400" spc="-1" strike="noStrike">
                <a:solidFill>
                  <a:srgbClr val="006666"/>
                </a:solidFill>
                <a:latin typeface="KZ Vivaldi"/>
              </a:rPr>
              <a:t>Способы активизации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KZ Vivaldi"/>
              </a:rPr>
              <a:t>       </a:t>
            </a:r>
            <a:r>
              <a:rPr b="1" lang="ru-RU" sz="5400" spc="-1" strike="noStrike">
                <a:solidFill>
                  <a:srgbClr val="006666"/>
                </a:solidFill>
                <a:latin typeface="KZ Vivaldi"/>
              </a:rPr>
              <a:t>познавательной деятельност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еобычное начало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ематические ур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жпредметные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Урок-ис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роки развития речи и твор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09-12-01T12:16:4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