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BDE-B789-428D-952F-9584D720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82A-DBF7-4479-91E8-C46BF56F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236-A024-41EC-92FF-14D6B59C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5A8-63C8-4F12-95D7-840EB7E6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BBD-FC90-410E-8B62-D605382B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79C-276E-41E0-9769-D733CF4D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4A6-793D-4A6D-A35E-6E869414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07C-1AEE-4996-9763-5571985C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E74-7034-4D42-9665-E626E824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447-FC6A-41BD-AAE2-DF0E088C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9C7-5A5A-4BA8-88BC-30BF2A6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BE1-450A-4249-982F-7781F1D0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9C80-C5C5-4E92-9558-DA0B1F5D17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19_2_photo25_017"/>
          <p:cNvPicPr/>
          <p:nvPr/>
        </p:nvPicPr>
        <p:blipFill>
          <a:blip r:embed="rId2"/>
          <a:stretch/>
        </p:blipFill>
        <p:spPr>
          <a:xfrm>
            <a:off x="3714840" y="2428920"/>
            <a:ext cx="2087640" cy="241776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1571760" y="428760"/>
            <a:ext cx="6500520" cy="17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л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ета и Тьмы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омане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. А. Булгакова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Мастер и Маргарита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0" y="5357880"/>
            <a:ext cx="9144000" cy="7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готовила Нездолина А. В.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 русского языка и литературы СОШ № 2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 rot="16200000">
            <a:off x="7761240" y="2985480"/>
            <a:ext cx="214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снодар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07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Мастер в шапочке"/>
          <p:cNvPicPr/>
          <p:nvPr/>
        </p:nvPicPr>
        <p:blipFill>
          <a:blip r:embed="rId1"/>
          <a:srcRect l="2653" t="12198" r="22864" b="1324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0" y="41846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Bookman Old Style"/>
              </a:rPr>
              <a:t>Мастер обладает всеми высокими нравственными качествами, испытывая лишь недостаток, как и  сам 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Bookman Old Style"/>
              </a:rPr>
              <a:t>М. Булгаков, в практическом начале. Он податливо проникается крайним отчаянием, а также свободно возносится в самые выси. Его свободная личность равно воспринимает и зло, и добро, оставаясь при этом собой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Bookman Old Style"/>
              </a:rPr>
              <a:t>В этом обществе Мастеру нет места, несмотря на всю его гениальност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Мастер"/>
          <p:cNvPicPr/>
          <p:nvPr/>
        </p:nvPicPr>
        <p:blipFill>
          <a:blip r:embed="rId1"/>
          <a:srcRect l="0" t="0" r="237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73080" y="1923840"/>
            <a:ext cx="521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У Булгакова и Мастера одна общая трагедия - трагедия непризнания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В романе четко звучит мотив ответственности и вины творческой личности, которая идет на компромисс с обществом и властью, уходит от проблемы морального выбора, искусственно изолирует себя, чтобы получить возможность реализовать свой творческий потенц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Но в отличие от Булгакова Мастер не борется за свое признание, он остается самим собой - воплощением "безмерной силы и безмерной, беззащитной слабости творчества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Мастер и Маргарита"/>
          <p:cNvPicPr/>
          <p:nvPr/>
        </p:nvPicPr>
        <p:blipFill>
          <a:blip r:embed="rId1"/>
          <a:srcRect l="25586" t="13136" r="0" b="12067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364000" y="1914120"/>
            <a:ext cx="3780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Покой для Мастера и Маргариты - очищение. А очистившись, они могут прийти в мир вечного Света, в царство Божие, в бессмертие. Покой просто необходим таким настрадавшимся, неприкаянным и уставшим от жизни людям, какими были Мастер и Маргар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Покой - это и возможность творчества, и несбыточная романтическая мечта художника.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Понтий Пилат"/>
          <p:cNvPicPr/>
          <p:nvPr/>
        </p:nvPicPr>
        <p:blipFill>
          <a:blip r:embed="rId1"/>
          <a:srcRect l="0" t="13136" r="26088" b="13366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4920" y="105120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В Понтии Пилате мы видим грозного властелина, перед которым все трепещет. Он хмур, одинок, бремя жизни тяготит ег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mm4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4716360" y="630000"/>
            <a:ext cx="435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Пилат - носитель и олицетворение “самого странного порока” – трус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Трусость в соединении с ложью как источник предательства, зависти, злобы и других пороков, которые нравственный человек способен держать под контролем, - питательная среда деспотизма и неразумной власти. «Значит, изъяны великого общества, очевидно, полагал и Булгаков, зависят от степени страха, владеющего гражданами». «Человека умного, смелого и благодетельного он (страх) способен превратить в жалкую тряпицу, обессилить и обесславить. Единственное, что может его спасти - внутренняя стойкость, доверие к собственному разуму и голосу своей сове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Иешуа и Понтий Пилат"/>
          <p:cNvPicPr/>
          <p:nvPr/>
        </p:nvPicPr>
        <p:blipFill>
          <a:blip r:embed="rId1"/>
          <a:srcRect l="20753" t="13136" r="6063" b="13366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4643280" y="136080"/>
            <a:ext cx="46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Понтий Пилат и Иешуа Га-Ноцри ведут дискуссию о человеческой природе. Иешуа верит в наличие добра в мире, в предопределенность исторического развития, ведущего к единой истине. Пилат убежден в незыблемости зла, неискоренимости его в человеке. Ошибаются об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В финале романа они продолжают на лунной дороге свой двухтысячелетний спор, навечно их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сблизивший; так зло и добро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     слились воедино в человеческой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            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воланд"/>
          <p:cNvPicPr/>
          <p:nvPr/>
        </p:nvPicPr>
        <p:blipFill>
          <a:blip r:embed="rId1"/>
          <a:srcRect l="17293" t="13110" r="9518" b="13399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0" y="4200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Bookman Old Style"/>
              </a:rPr>
              <a:t>…</a:t>
            </a:r>
            <a:r>
              <a:rPr b="1" i="1" lang="ru-RU" sz="2400" spc="-1" strike="noStrike">
                <a:solidFill>
                  <a:srgbClr val="f2f2f2"/>
                </a:solidFill>
                <a:latin typeface="Bookman Old Style"/>
              </a:rPr>
              <a:t>так кто ж ты, наконе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Bookman Old Style"/>
              </a:rPr>
              <a:t>- Я – часть той</a:t>
            </a:r>
            <a:br>
              <a:rPr sz="2400"/>
            </a:br>
            <a:r>
              <a:rPr b="1" i="1" lang="ru-RU" sz="2400" spc="-1" strike="noStrike">
                <a:solidFill>
                  <a:srgbClr val="f2f2f2"/>
                </a:solidFill>
                <a:latin typeface="Bookman Old Style"/>
              </a:rPr>
              <a:t>силы, что вечно</a:t>
            </a:r>
            <a:br>
              <a:rPr sz="2400"/>
            </a:br>
            <a:r>
              <a:rPr b="1" i="1" lang="ru-RU" sz="2400" spc="-1" strike="noStrike">
                <a:solidFill>
                  <a:srgbClr val="f2f2f2"/>
                </a:solidFill>
                <a:latin typeface="Bookman Old Style"/>
              </a:rPr>
              <a:t>хочет зла и вечно совершает бла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Bookman Old Style"/>
              </a:rPr>
              <a:t>           </a:t>
            </a:r>
            <a:r>
              <a:rPr b="1" i="1" lang="ru-RU" sz="2400" spc="-1" strike="noStrike">
                <a:solidFill>
                  <a:srgbClr val="f2f2f2"/>
                </a:solidFill>
                <a:latin typeface="Bookman Old Style"/>
              </a:rPr>
              <a:t>Гёте. «Фау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булгаков"/>
          <p:cNvPicPr/>
          <p:nvPr/>
        </p:nvPicPr>
        <p:blipFill>
          <a:blip r:embed="rId1"/>
          <a:stretch/>
        </p:blipFill>
        <p:spPr>
          <a:xfrm>
            <a:off x="0" y="0"/>
            <a:ext cx="43005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4356000" y="194400"/>
            <a:ext cx="4788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Булгаков не истолковывает функцию Воланда традиционно - т. е. собственно отрицательную силу, собственно силу зла на земле. В этом и смысл самого эпиграфа и первой части романа «Мастер и Маргарита». Это метафора человеческой противоречивости, разрешение которой должно утвердить в обществе исторический оптимум. Даже карающие действия «нечистой силы» сначала дают человеку шанс проявить свою порядочность. Для цельного человека сознание чести не даст переступить черту, за которой пошлость и тунеядство. И такого человека Воланд и его свита готовы уважать. Но те, кто не сумеет выдержать подобного испытания, получат по заслу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Воланд на сцене"/>
          <p:cNvPicPr/>
          <p:nvPr/>
        </p:nvPicPr>
        <p:blipFill>
          <a:blip r:embed="rId1"/>
          <a:srcRect l="10709" t="13018" r="11624" b="9547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211640" y="43200"/>
            <a:ext cx="489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2f2f2"/>
                </a:solidFill>
                <a:latin typeface="Bookman Old Style"/>
              </a:rPr>
              <a:t>Воланд и его свита пытаются энергией реальных людей подключиться к пластам их подсознания, в особенности к их скрытым побуждениям. Но все они совершенно пассивны в тех случаях, когда люди сами могут принимать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булгаков"/>
          <p:cNvPicPr/>
          <p:nvPr/>
        </p:nvPicPr>
        <p:blipFill>
          <a:blip r:embed="rId1"/>
          <a:stretch/>
        </p:blipFill>
        <p:spPr>
          <a:xfrm>
            <a:off x="0" y="0"/>
            <a:ext cx="43876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4427640" y="262800"/>
            <a:ext cx="4716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Все, на что обращает свой взгляд Воланд, предстает в своем истинном свете. Воланд не сеет Зло и Тьму, не внушает его, не лжет, не искушает и потому не предает. Он всего лишь вскрывает зло, разоблачая, сжигая, уничтожая то, что действительно ничт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Воланд провоцирует истину, доказывая ее от противного; с Воландом встречаются лишь «однобокие верующие». А сам Дьявол призван восстановить справедливость и равновесие добрых и злых сил. В романе нет посрамления сил безбожников, зла или его торжества. Но «добро без границ» тоже несет зло, насилие, страд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-4122720" y="383688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2" action="ppaction://hlinksldjump"/>
          </p:cNvPr>
          <p:cNvSpPr/>
          <p:nvPr/>
        </p:nvSpPr>
        <p:spPr>
          <a:xfrm>
            <a:off x="-4122720" y="38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SC_8757_1_119"/>
          <p:cNvPicPr/>
          <p:nvPr/>
        </p:nvPicPr>
        <p:blipFill>
          <a:blip r:embed="rId1"/>
          <a:srcRect l="1969" t="2333" r="1969" b="2071"/>
          <a:stretch/>
        </p:blipFill>
        <p:spPr>
          <a:xfrm>
            <a:off x="0" y="71280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2600" y="-15840"/>
            <a:ext cx="91440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 «Мастер и Маргарита» вошел в золотой фонд русской и мировой культуры. Его читают, анализируют, им восхищаются. Проблемы, поднятые в этом произведении, не устарели, они актуальны сегодня, они будут актуальны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булгаков"/>
          <p:cNvPicPr/>
          <p:nvPr/>
        </p:nvPicPr>
        <p:blipFill>
          <a:blip r:embed="rId1"/>
          <a:stretch/>
        </p:blipFill>
        <p:spPr>
          <a:xfrm>
            <a:off x="0" y="0"/>
            <a:ext cx="33876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3492360" y="318240"/>
            <a:ext cx="5651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В образе Маргариты ярко отражены творческая смелость, дерзкий вызов Булгакова устойчивым эстетическим закон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С одной стороны, в уста Маргариты вложены самые поэтические слова о Творце, о его бессмертии, о прекрасном «вечном доме», который станет ему наградой. С другой - ведь это именно возлюбленная Мастера летает на половой щетке над бульварами и крышами Москвы, крушит оконные стекла, запускает «острые когти» в ухо Бегемота и называет его бранным словом, просит Воланда превратить домработницу Наташу в ведьму, мстит ничтожному литературному критику Латунскому, выливая ведра воды в ящики его письменного стола. Трудно найти в мировой литературе другое подобное смешение с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булгаков"/>
          <p:cNvPicPr/>
          <p:nvPr/>
        </p:nvPicPr>
        <p:blipFill>
          <a:blip r:embed="rId1"/>
          <a:stretch/>
        </p:blipFill>
        <p:spPr>
          <a:xfrm>
            <a:off x="0" y="0"/>
            <a:ext cx="4221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4356000" y="334440"/>
            <a:ext cx="4608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«В Мастере и Маргарите» Булгакову удалось выразить «настоящую, верную, вечную любовь», которые естественным образом проясняет главную мысль романа. Любовь Маргариты и Мастера необычна, вызывающа, безрассудна - и этим как раз привлекательна. В нее верится сразу и навсегда. «За мной, читатель. и только за мной, и я покажу тебе такую любовь!».Булгаковская Маргарита - символ женственности, верности, красоты, самопожертвования во имя любви. Именно в любви женщины, а не в себе черпает силы мастер, вновь возвращенный в свою квартиру в арбатском переул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Маргарита"/>
          <p:cNvPicPr/>
          <p:nvPr/>
        </p:nvPicPr>
        <p:blipFill>
          <a:blip r:embed="rId1"/>
          <a:srcRect l="20285" t="13136" r="6097" b="13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4954680" y="-9000"/>
            <a:ext cx="418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2f2f2"/>
                </a:solidFill>
                <a:latin typeface="Bookman Old Style"/>
              </a:rPr>
              <a:t>У Булгакова Маргарита борется за свое счастье до конца, готова на все, даже на сделку с самим Сатан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Мастер и Маргарита 2"/>
          <p:cNvPicPr/>
          <p:nvPr/>
        </p:nvPicPr>
        <p:blipFill>
          <a:blip r:embed="rId1"/>
          <a:srcRect l="10207" t="13110" r="15748" b="133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5076720" y="5501160"/>
            <a:ext cx="40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2f2f2"/>
                </a:solidFill>
                <a:latin typeface="Bookman Old Style"/>
              </a:rPr>
              <a:t>…</a:t>
            </a:r>
            <a:r>
              <a:rPr b="0" i="1" lang="ru-RU" sz="2000" spc="-1" strike="noStrike">
                <a:solidFill>
                  <a:srgbClr val="f2f2f2"/>
                </a:solidFill>
                <a:latin typeface="Bookman Old Style"/>
              </a:rPr>
              <a:t>любовь Маргариты на редкость самоотверженна, так может любить только истинно земная женщин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булгаков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3196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>
            <a:hlinkClick r:id="rId3" action="ppaction://hlinksldjump"/>
          </p:cNvPr>
          <p:cNvSpPr/>
          <p:nvPr/>
        </p:nvSpPr>
        <p:spPr>
          <a:xfrm>
            <a:off x="4356000" y="155160"/>
            <a:ext cx="478800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Bookman Old Style"/>
              </a:rPr>
              <a:t>Тьма, или Зло, по Булгакову, не в имеющих власть, не в правительстве, не в том или ином социальном устройстве, а в людях, в качестве массового человека данного обще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Bookman Old Style"/>
              </a:rPr>
              <a:t>Как же победить Зло и Тьму? Для этого нужно прежде всего утвердить в обществе торжество принципа справедливости, то есть неотвратимости разоблачения и наказания непрофессионализма, недобросовестности, подлости, подхалимства, лжи. Однако это ещё не будет конечным торжеством добр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Bookman Old Style"/>
              </a:rPr>
              <a:t>Чтобы Свет окончательно победил Тьму, люди должны научиться творить чудо человечности, нужен “...акт милосердия, которое, в отличие от понятной и доступной человеку справедливости, остаётся для человека и чудом, и тайной”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булгаков1"/>
          <p:cNvPicPr/>
          <p:nvPr/>
        </p:nvPicPr>
        <p:blipFill>
          <a:blip r:embed="rId1"/>
          <a:stretch/>
        </p:blipFill>
        <p:spPr>
          <a:xfrm>
            <a:off x="0" y="0"/>
            <a:ext cx="4789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4906800" y="47160"/>
            <a:ext cx="42372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Основные персонажи романа “Мастер и Маргарита”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Иешуа Га-Ноц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ас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онтий Пил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ол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аргари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Задача – воссоздать  портрет каждого из них, выяснить систему возможных прототипов, рассмотреть их эволюции во взаимодействии с другими персонажами. Все это позволяет яснее представлять их роль в ром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mm1"/>
          <p:cNvPicPr/>
          <p:nvPr/>
        </p:nvPicPr>
        <p:blipFill>
          <a:blip r:embed="rId1"/>
          <a:srcRect l="3421" t="719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 rot="20458200">
            <a:off x="3635280" y="4276800"/>
            <a:ext cx="3587760" cy="21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облема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Света и Тьмы,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Добра и Зла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рассматривается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ак стержень,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бъединяющий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бразы героев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  </a:t>
            </a: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романа в единую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систему. </a:t>
            </a:r>
            <a:endParaRPr b="0" i="1" lang="en-US" sz="1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nochnojdozor_12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942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24000" y="537192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Представления о борьбе Света и Тьмы, Добра и Зла так или иначе отражены в мифах самых различных культу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nochnojdozor_15"/>
          <p:cNvPicPr/>
          <p:nvPr/>
        </p:nvPicPr>
        <p:blipFill>
          <a:blip r:embed="rId1"/>
          <a:srcRect l="13303" t="0" r="13714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4920" y="2325600"/>
            <a:ext cx="439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Ведь смысл нашего бытия и заключён в беспредельном деятельном совершенствовании, а материальные миры, по своему назначению – поле становления и творчества духа. Не удивительно, что борьба сил Света и Тьмы, Добра и Зла выражается в стремлении целенаправленно создавать и перестраивать мировую реальность по своим принцип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lack_Cavalier"/>
          <p:cNvPicPr/>
          <p:nvPr/>
        </p:nvPicPr>
        <p:blipFill>
          <a:blip r:embed="rId1"/>
          <a:srcRect l="11709" t="0" r="334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0" y="437220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Центральная проблема романа «Мастер и Маргарита» — это проблема взаимодействия Света и Тьмы, Добра и Зла. Почему в мире существует Зло, почему оно часто торжествует над Добром? Как победить Тьму и возможно ли это вообще? Что есть Свет для человека и что есть Тьма для него? Эти вопросы волнуют каждого из нас, а для Булгакова они приобрели особую остроту оттого, что вся его жизнь была искалечена, смята торжествовавшей в его время и в его стране Тьмо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Иешуа"/>
          <p:cNvPicPr/>
          <p:nvPr/>
        </p:nvPicPr>
        <p:blipFill>
          <a:blip r:embed="rId1"/>
          <a:srcRect l="0" t="13110" r="0" b="13366"/>
          <a:stretch/>
        </p:blipFill>
        <p:spPr>
          <a:xfrm>
            <a:off x="0" y="-27000"/>
            <a:ext cx="9144000" cy="5041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79280" y="521244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В трактовке образа Иисуса Христа как идеала нравственного совершенства Булгаков отошел от традиционных, канонических представлений, основанных на четырех  евангелиях и апостольских послания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Иешуа_Казнь"/>
          <p:cNvPicPr/>
          <p:nvPr/>
        </p:nvPicPr>
        <p:blipFill>
          <a:blip r:embed="rId1"/>
          <a:srcRect l="13617" t="15768" r="3538" b="13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Bookman Old Style"/>
              </a:rPr>
              <a:t>Бродяга-философ крепок своей наивной верой в добро, которую не могут отнять у него ни страх наказания, ни зрелище вопиющей несправедливости, чьей  жертвой становится он сам. Его неизменная вера существует вопреки обыденной мудрости и наглядным уроком казни. 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Bookman Old Style"/>
              </a:rPr>
              <a:t>В житейской практике эта идея добра, к сожалению, не защищен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948040"/>
            <a:ext cx="205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Bookman Old Style"/>
              </a:rPr>
              <a:t>Иешуа на крестном его пути сопровождает Солнце - «привычный символ жизни, радости, подлинного света», «излучение жаркой и опаляющей реаль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8:58:34Z</dcterms:created>
  <dc:creator>Luan</dc:creator>
  <dc:description/>
  <dc:language>en-US</dc:language>
  <cp:lastModifiedBy>Аня</cp:lastModifiedBy>
  <dcterms:modified xsi:type="dcterms:W3CDTF">2009-11-12T03:25:38Z</dcterms:modified>
  <cp:revision>79</cp:revision>
  <dc:subject/>
  <dc:title>Слайд 1</dc:title>
</cp:coreProperties>
</file>