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B2C2-CD0E-4D57-841C-6CB96197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2369-4AE6-44C1-8944-0D4D17E0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3E41-5723-4E51-801F-1276E005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1D8A-A0CD-40E3-9607-87BD3249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D412-68CE-4B92-84C6-6C889465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57B-CA04-40D4-9F60-FB3FFD39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5A55-75F3-401F-A355-2C448784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27FD-7F45-43D2-A749-6F779221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BE1D-942E-450F-A9B1-AC8CDD47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0C9A-2529-49C3-9D6F-9CCAB983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A5A3-33D7-4DE7-A883-95A82A1C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3D38-D11B-45A6-B6D5-D1255514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4BF7-6DD8-42B9-89DB-E8FD4A6687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77708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ма: Перенос веществ в организме позвоночных животн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Изображение 246"/>
          <p:cNvPicPr/>
          <p:nvPr/>
        </p:nvPicPr>
        <p:blipFill>
          <a:blip r:embed="rId1"/>
          <a:stretch/>
        </p:blipFill>
        <p:spPr>
          <a:xfrm>
            <a:off x="2843280" y="1844640"/>
            <a:ext cx="3341520" cy="4897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Изображение 010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2340000" y="-100080"/>
            <a:ext cx="5367240" cy="4594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Изображение 247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08000" y="3213000"/>
            <a:ext cx="2581200" cy="3645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Изображение 259"/>
          <p:cNvPicPr/>
          <p:nvPr/>
        </p:nvPicPr>
        <p:blipFill>
          <a:blip r:embed="rId3">
            <a:lum contrast="46000"/>
          </a:blip>
          <a:stretch/>
        </p:blipFill>
        <p:spPr>
          <a:xfrm>
            <a:off x="4211640" y="4653000"/>
            <a:ext cx="428472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Изображение 257"/>
          <p:cNvPicPr/>
          <p:nvPr/>
        </p:nvPicPr>
        <p:blipFill>
          <a:blip r:embed="rId1"/>
          <a:stretch/>
        </p:blipFill>
        <p:spPr>
          <a:xfrm>
            <a:off x="2195640" y="0"/>
            <a:ext cx="4752720" cy="3629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Изображение 249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332000" y="3068640"/>
            <a:ext cx="31795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Изображение 258"/>
          <p:cNvPicPr/>
          <p:nvPr/>
        </p:nvPicPr>
        <p:blipFill>
          <a:blip r:embed="rId1"/>
          <a:stretch/>
        </p:blipFill>
        <p:spPr>
          <a:xfrm>
            <a:off x="1655640" y="981000"/>
            <a:ext cx="7488360" cy="3878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Изображение 256"/>
          <p:cNvPicPr/>
          <p:nvPr/>
        </p:nvPicPr>
        <p:blipFill>
          <a:blip r:embed="rId2"/>
          <a:stretch/>
        </p:blipFill>
        <p:spPr>
          <a:xfrm>
            <a:off x="468360" y="3860640"/>
            <a:ext cx="1332000" cy="777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Изображение 255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1692360" y="2637000"/>
            <a:ext cx="622080" cy="1182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Изображение 002"/>
          <p:cNvPicPr/>
          <p:nvPr/>
        </p:nvPicPr>
        <p:blipFill>
          <a:blip r:embed="rId4"/>
          <a:stretch/>
        </p:blipFill>
        <p:spPr>
          <a:xfrm>
            <a:off x="2411280" y="2060640"/>
            <a:ext cx="789120" cy="100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Изображение 254"/>
          <p:cNvPicPr/>
          <p:nvPr/>
        </p:nvPicPr>
        <p:blipFill>
          <a:blip r:embed="rId5"/>
          <a:stretch/>
        </p:blipFill>
        <p:spPr>
          <a:xfrm>
            <a:off x="2987640" y="1341360"/>
            <a:ext cx="1008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Изображение 248"/>
          <p:cNvPicPr/>
          <p:nvPr/>
        </p:nvPicPr>
        <p:blipFill>
          <a:blip r:embed="rId1"/>
          <a:stretch/>
        </p:blipFill>
        <p:spPr>
          <a:xfrm>
            <a:off x="2060640" y="0"/>
            <a:ext cx="502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ораторная работа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оение клеток крови лягушки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Изучить под микроскопом микропрепараты крови лягушки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Сравнить строение клеток крови лягушки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пределить, чья кровь способна переносить больше кисло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струкция по технике безопасности для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Будьте осторожны при работе с использованием режущих и колющих инстру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мните, что  даже при незначительном нажиме возможны глубокие ранения, которые могут привести к нагноению и заражению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Помните, что стекло хрупкое, легко бьётся, будьте аккуратны при работе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В случае необходимости сразу воспользуйтесь аптеч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д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Рассмотрите под микроскопом препарат крови человека, обратите внимание на форму, величину и количество эритроцитов, на  отсутствие ядра в эритроцитах. Зарисуйте три эритроц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Рассмотрите под микроскопом препарат крови лягушки, обратите внимание на величину, форму и количество эритроцитов. Зарисуйте три эритроцита. Обозначьте яд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Эритроциты крови лягушки и человека сходн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Имеют различи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Эритроциты чьей крови способны переносить больше кислоро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Эволюция эритроцитов позвоночных шла в направлени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000" y="1412640"/>
            <a:ext cx="84358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У всех многоклеточных животных красная кров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Кровь состоит из плазмы и клеток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Кровь у всех животных переносит только кисл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Кровеносная система позвоночных животных замкнутая и состоит из сердца и сосу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У рыб трехкамерное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Кровь позвоночных животных несёт меньшее количество кислорода к тканям, чем беспозвоно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У позвоночных высокий уровень обмена веществ по сравнению с беспозвоноч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Гемолимфа – бесцветная или зеленоватая жид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 Птицы и млекопитающие – холоднокровные живот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340000" y="5661000"/>
          <a:ext cx="4038480" cy="1096920"/>
        </p:xfrm>
        <a:graphic>
          <a:graphicData uri="http://schemas.openxmlformats.org/drawingml/2006/table">
            <a:tbl>
              <a:tblPr/>
              <a:tblGrid>
                <a:gridCol w="449280"/>
                <a:gridCol w="447480"/>
                <a:gridCol w="449280"/>
                <a:gridCol w="449280"/>
                <a:gridCol w="447840"/>
                <a:gridCol w="449280"/>
                <a:gridCol w="449280"/>
                <a:gridCol w="447480"/>
                <a:gridCol w="449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WordArt 40"/>
          <p:cNvSpPr txBox="1"/>
          <p:nvPr/>
        </p:nvSpPr>
        <p:spPr>
          <a:xfrm>
            <a:off x="1547640" y="115920"/>
            <a:ext cx="6085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рю - не верю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яза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изучить раздел 12 до конца, пересказать, выучить все основные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нава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заполнить рабочие тетр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подготовить дополнительную информацию о разнообразии кровеносных систем.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96360" cy="40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ознакомиться с особенностями переноса веществ в организме позвоночных животны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Рассмотреть значение этого процесс в жизни                 животны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Изучить состав крови позвоночных животных, строение кровеносной системы и ёё функци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родолжить работу с материалами Е Г 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158560" y="4005360"/>
            <a:ext cx="698508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лжить формирование умений учащихся работать с микроскопом и микропрепаратами, схемами, рисун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бобщать изученный материал и 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-603360"/>
            <a:ext cx="784872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царство Одноклеточ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9640" y="5444640"/>
            <a:ext cx="792000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ёба обыкновенная             Инфузория туфел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Изображение 250"/>
          <p:cNvPicPr/>
          <p:nvPr/>
        </p:nvPicPr>
        <p:blipFill>
          <a:blip r:embed="rId1"/>
          <a:stretch/>
        </p:blipFill>
        <p:spPr>
          <a:xfrm rot="910200">
            <a:off x="4932000" y="1052640"/>
            <a:ext cx="3741840" cy="410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Изображение"/>
          <p:cNvPicPr/>
          <p:nvPr/>
        </p:nvPicPr>
        <p:blipFill>
          <a:blip r:embed="rId2"/>
          <a:stretch/>
        </p:blipFill>
        <p:spPr>
          <a:xfrm>
            <a:off x="324000" y="1484280"/>
            <a:ext cx="3628800" cy="3619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царство Многоклеточные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 Кольчатые чер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479736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ждевой чер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Изображение 251"/>
          <p:cNvPicPr/>
          <p:nvPr/>
        </p:nvPicPr>
        <p:blipFill>
          <a:blip r:embed="rId1"/>
          <a:stretch/>
        </p:blipFill>
        <p:spPr>
          <a:xfrm>
            <a:off x="0" y="1855800"/>
            <a:ext cx="9144000" cy="2608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 моллю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4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ыкновенный пруд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Изображение 252"/>
          <p:cNvPicPr/>
          <p:nvPr/>
        </p:nvPicPr>
        <p:blipFill>
          <a:blip r:embed="rId1"/>
          <a:stretch/>
        </p:blipFill>
        <p:spPr>
          <a:xfrm>
            <a:off x="1547640" y="1413000"/>
            <a:ext cx="5688360" cy="3560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 Членистоноги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 Насекомы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03280" y="5105160"/>
            <a:ext cx="6400800" cy="9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чела медонос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Изображение 263"/>
          <p:cNvPicPr/>
          <p:nvPr/>
        </p:nvPicPr>
        <p:blipFill>
          <a:blip r:embed="rId1"/>
          <a:stretch/>
        </p:blipFill>
        <p:spPr>
          <a:xfrm>
            <a:off x="250920" y="1700280"/>
            <a:ext cx="889308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7770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ГЭ. Раздел 2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78920" y="69192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4. Установите соответствие между признаком и видом живых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знак                                     Вид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Незамкнутая кровеносная           А) Дождевой чер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.                                          Б) Пчела медоно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Кровь перенос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тательные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Замкнутая кровено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Сердце в виде тру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Кровь содержит гемоглоб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755640" y="836640"/>
            <a:ext cx="777708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0" y="836640"/>
            <a:ext cx="91440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68360" y="5516640"/>
          <a:ext cx="4319640" cy="1066680"/>
        </p:xfrm>
        <a:graphic>
          <a:graphicData uri="http://schemas.openxmlformats.org/drawingml/2006/table">
            <a:tbl>
              <a:tblPr/>
              <a:tblGrid>
                <a:gridCol w="865440"/>
                <a:gridCol w="861840"/>
                <a:gridCol w="865440"/>
                <a:gridCol w="861840"/>
                <a:gridCol w="865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Изображение 261"/>
          <p:cNvPicPr/>
          <p:nvPr/>
        </p:nvPicPr>
        <p:blipFill>
          <a:blip r:embed="rId1"/>
          <a:stretch/>
        </p:blipFill>
        <p:spPr>
          <a:xfrm>
            <a:off x="0" y="-6480"/>
            <a:ext cx="9036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овеносные системы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Изображение 251"/>
          <p:cNvPicPr/>
          <p:nvPr/>
        </p:nvPicPr>
        <p:blipFill>
          <a:blip r:embed="rId1"/>
          <a:stretch/>
        </p:blipFill>
        <p:spPr>
          <a:xfrm>
            <a:off x="1042920" y="981000"/>
            <a:ext cx="7344000" cy="2092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306828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ждевой чер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Изображение 001"/>
          <p:cNvPicPr/>
          <p:nvPr/>
        </p:nvPicPr>
        <p:blipFill>
          <a:blip r:embed="rId2"/>
          <a:stretch/>
        </p:blipFill>
        <p:spPr>
          <a:xfrm>
            <a:off x="1042920" y="3500280"/>
            <a:ext cx="6913800" cy="28418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"/>
          <p:cNvSpPr/>
          <p:nvPr/>
        </p:nvSpPr>
        <p:spPr>
          <a:xfrm>
            <a:off x="0" y="6426360"/>
            <a:ext cx="91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ака домаш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8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6:57:04Z</dcterms:created>
  <dc:creator>Олег</dc:creator>
  <dc:description/>
  <dc:language>en-US</dc:language>
  <cp:lastModifiedBy>Колбаса В.И.</cp:lastModifiedBy>
  <dcterms:modified xsi:type="dcterms:W3CDTF">2009-10-13T16:56:10Z</dcterms:modified>
  <cp:revision>33</cp:revision>
  <dc:subject/>
  <dc:title>Тема: Перенос веществ в организме позвоночных животных.</dc:title>
</cp:coreProperties>
</file>