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3.gif" ContentType="image/gif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71AB-E441-4F87-8030-FC02CF0BB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EDDB-A30B-46AC-A244-2C6F007BC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C82-F872-4339-A17D-FEA84073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BA3-C5BC-4F3E-94AF-FE6B3699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8C3-3564-4E54-8995-3D1EE3B3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5D8-CEFF-4D67-89A1-B39CB79B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031-FD85-4513-8FAE-FD6B8C89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013-F68E-4600-BCE7-61A409EA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6EE-E14A-4DCA-9B1D-A78A3D1B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F40-58EB-48D5-B5F6-57869130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2F0-338F-4EAC-8119-CD3FB493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4EF-BDBE-4899-A8E9-F5FC6DA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7B9-A31B-4F66-BF5B-47C6807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D48-20B3-4FD1-A4D3-2DC7E904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C53E-D7CB-4A4B-A75B-07A1D69F5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ua.com.ua/img/th4/2149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go.mail.ru/frame.html?imgurl=http://clip-arts.ru/data/thumbnails/85/313372-007.jpg&amp;pageurl=http://fotki.yandex.ru%2Fusers%2Fmin-net05%2Fview%2F47614%2F&amp;id=41163369&amp;iid=8&amp;imgwidth=319&amp;imgheight=480&amp;imgsize=23226&amp;images_links=b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photo.mbnews.ru/d/33248-3/DSC_7148.JPG&amp;pageurl=http://photo.mbnews.ru%2Fv%2Fglamurmansk%2Fta2006_001%2FDSC_3473.jpg.html&amp;id=47549656&amp;iid=0&amp;imgwidth=101&amp;imgheight=150&amp;imgsize=64292&amp;images_links=b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lady74.ru/forum/uploads/av-2363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dv-people.ru/photo/albums/userpics/thumb_ruka4_web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c.dk/images/globalisering-lille.jpg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www.igolki.net/thumb-images/tniivqwljwfv.jpg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go.mail.ru/frame.html?imgurl=http://filolingvia.com/_ph/18/1/407336898.jpg&amp;pageurl=http://finansir.ru%2Flichnye-finansy%2Fnamechaem-finansovye-celi.html&amp;id=70402798&amp;iid=4&amp;imgwidth=110&amp;imgheight=110&amp;imgsize=552428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www.samara-photo.ru/images/4811a878b35da.jpg.thumb.jpg&amp;pageurl=http://www.samara-photo.ru%2Fbrowse%2Fcat.5.p.30.html&amp;id=69432674&amp;iid=6&amp;imgwidth=150&amp;imgheight=100&amp;imgsize=200037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adme.ru/img/news/23152/preview-170x138.jpg&amp;pageurl=http://www.marketing20.ru%2Faggregator%2Fsources%2F8%3Fpage%3D12&amp;id=53861490&amp;iid=6&amp;imgwidth=320&amp;imgheight=260&amp;imgsize=8705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2"/>
          <p:cNvPicPr/>
          <p:nvPr/>
        </p:nvPicPr>
        <p:blipFill>
          <a:blip r:embed="rId1"/>
          <a:stretch/>
        </p:blipFill>
        <p:spPr>
          <a:xfrm>
            <a:off x="1500120" y="0"/>
            <a:ext cx="5351400" cy="5975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920" y="713880"/>
            <a:ext cx="2643120" cy="1428840"/>
          </a:xfrm>
          <a:prstGeom prst="rect">
            <a:avLst/>
          </a:prstGeom>
          <a:solidFill>
            <a:srgbClr val="193c1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de3e5"/>
                </a:solidFill>
                <a:latin typeface="Arial"/>
              </a:rPr>
              <a:t>ЧЕЛОВЕК. ЛИЧНОСТЬ. ГРАЖДАН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школа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ятно 2 12"/>
          <p:cNvSpPr/>
          <p:nvPr/>
        </p:nvSpPr>
        <p:spPr>
          <a:xfrm>
            <a:off x="5286240" y="0"/>
            <a:ext cx="4071960" cy="1214280"/>
          </a:xfrm>
          <a:prstGeom prst="irregularSeal2">
            <a:avLst/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ятно 2 15"/>
          <p:cNvSpPr/>
          <p:nvPr/>
        </p:nvSpPr>
        <p:spPr>
          <a:xfrm>
            <a:off x="1785960" y="0"/>
            <a:ext cx="3857760" cy="128592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ятно 2 16"/>
          <p:cNvSpPr/>
          <p:nvPr/>
        </p:nvSpPr>
        <p:spPr>
          <a:xfrm>
            <a:off x="2714760" y="1285920"/>
            <a:ext cx="3429000" cy="1071360"/>
          </a:xfrm>
          <a:prstGeom prst="irregularSeal2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2-конечная звезда 13"/>
          <p:cNvSpPr/>
          <p:nvPr/>
        </p:nvSpPr>
        <p:spPr>
          <a:xfrm>
            <a:off x="3929040" y="857160"/>
            <a:ext cx="450072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ятно 1 17"/>
          <p:cNvSpPr/>
          <p:nvPr/>
        </p:nvSpPr>
        <p:spPr>
          <a:xfrm>
            <a:off x="5857920" y="1643040"/>
            <a:ext cx="3286080" cy="914400"/>
          </a:xfrm>
          <a:prstGeom prst="irregularSeal1">
            <a:avLst/>
          </a:prstGeom>
          <a:solidFill>
            <a:srgbClr val="f6a8e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3333cc"/>
                </a:solidFill>
                <a:latin typeface="Arial"/>
              </a:rPr>
              <a:t>ЧЕЛОВ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i?id=39648801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328840"/>
            <a:ext cx="3857400" cy="39625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59" name="Picture 3" descr="http://im8-tub.mail.ru/i?id=41163369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91280" y="214200"/>
            <a:ext cx="2666880" cy="4000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ransition spd="slow">
    <p:cover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5760" y="4642920"/>
            <a:ext cx="500076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ЛИЧНОСТЬ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?id=4754965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643120"/>
            <a:ext cx="2640240" cy="3940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62" name="Picture 2" descr="C:\Documents and Settings\Юра\Рабочий стол\Отсканировано 13.01.2009 23-14.bmp"/>
          <p:cNvPicPr/>
          <p:nvPr/>
        </p:nvPicPr>
        <p:blipFill>
          <a:blip r:embed="rId3"/>
          <a:stretch/>
        </p:blipFill>
        <p:spPr>
          <a:xfrm>
            <a:off x="3189240" y="690480"/>
            <a:ext cx="5668920" cy="3621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ransition spd="slow">
    <p:cover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Comic Sans MS"/>
              </a:rPr>
              <a:t>«СОСТАВЬ СЛО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5676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МЕ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Л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ВТОР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ТВОР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ТВЕТСТВЕ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ЛЮБ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ВЕ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ОБРО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ЦЕЛ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208200"/>
          <p:cNvPicPr/>
          <p:nvPr/>
        </p:nvPicPr>
        <p:blipFill>
          <a:blip r:embed="rId1"/>
          <a:stretch/>
        </p:blipFill>
        <p:spPr>
          <a:xfrm>
            <a:off x="2857680" y="1000080"/>
            <a:ext cx="858600" cy="7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im7-tub.mail.ru/i?id=39056845&amp;tov=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14720" y="3643200"/>
            <a:ext cx="1143000" cy="81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?id=39248659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00920" y="3000240"/>
            <a:ext cx="100332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?id=5683915&amp;tov=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858080" y="3357720"/>
            <a:ext cx="868320" cy="571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i?id=14655359&amp;tov=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14680" y="3857760"/>
            <a:ext cx="785520" cy="80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i?id=70402798&amp;tov=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43720" y="5715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i?id=69432674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785960" y="5072040"/>
            <a:ext cx="1177920" cy="78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i?id=53861490&amp;tov=6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000840" y="4357800"/>
            <a:ext cx="1181160" cy="96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i?id=99398941&amp;tov=0"/>
          <p:cNvPicPr/>
          <p:nvPr/>
        </p:nvPicPr>
        <p:blipFill>
          <a:blip r:embed="rId16"/>
          <a:stretch/>
        </p:blipFill>
        <p:spPr>
          <a:xfrm>
            <a:off x="6572160" y="1357200"/>
            <a:ext cx="1071720" cy="108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i?id=41721587&amp;tov=4"/>
          <p:cNvPicPr/>
          <p:nvPr/>
        </p:nvPicPr>
        <p:blipFill>
          <a:blip r:embed="rId17"/>
          <a:stretch/>
        </p:blipFill>
        <p:spPr>
          <a:xfrm>
            <a:off x="2357280" y="2286000"/>
            <a:ext cx="1057320" cy="801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120" y="4214520"/>
            <a:ext cx="55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ГРАЖДАН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im5-tub.mail.ru/i?id=9097153&amp;tov=5"/>
          <p:cNvPicPr/>
          <p:nvPr/>
        </p:nvPicPr>
        <p:blipFill>
          <a:blip r:embed="rId1"/>
          <a:stretch/>
        </p:blipFill>
        <p:spPr>
          <a:xfrm>
            <a:off x="5929200" y="1714680"/>
            <a:ext cx="2786040" cy="4446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8" name="Picture 5" descr="i?id=10043037&amp;tov=6"/>
          <p:cNvPicPr/>
          <p:nvPr/>
        </p:nvPicPr>
        <p:blipFill>
          <a:blip r:embed="rId2"/>
          <a:stretch/>
        </p:blipFill>
        <p:spPr>
          <a:xfrm>
            <a:off x="714240" y="428760"/>
            <a:ext cx="4610160" cy="3714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ransition spd="slow">
    <p:cover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4:41:28Z</dcterms:created>
  <dc:creator>256</dc:creator>
  <dc:description/>
  <dc:language>en-US</dc:language>
  <cp:lastModifiedBy>Юра</cp:lastModifiedBy>
  <dcterms:modified xsi:type="dcterms:W3CDTF">2009-01-13T20:54:35Z</dcterms:modified>
  <cp:revision>55</cp:revision>
  <dc:subject/>
  <dc:title>Непроизносимые согласные</dc:title>
</cp:coreProperties>
</file>