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481-5BAD-418A-AD53-D54A55E7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C4D-16CB-4FFB-9434-1FDEF26C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F2B-B315-419C-A85E-4841F5CA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227-0F0D-4C2C-8CF9-41C6C066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51B-780E-4C2F-A251-CC9CCF9C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A28-FE43-4BD2-AF90-3AF1EF11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A3F-9ACB-4E85-BCFB-0B06F5F4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6BB-76AE-46F7-B0A0-D32A58A9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287-E4DB-4735-800B-A595C9FE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34A-70B5-40F6-A61C-3790ED9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65C-BC16-4010-BC57-D6A0B367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CEB-C7AE-48AA-AFB5-5C6C984F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DA4D-3207-4622-8BED-ABA05B0EBE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02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22720" y="1494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2920" y="3477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5605200" y="4868640"/>
            <a:ext cx="990360" cy="10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511280" y="3698640"/>
            <a:ext cx="1754280" cy="94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740200" y="3699000"/>
            <a:ext cx="1935000" cy="179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360" y="52704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ba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79720" y="5688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ba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680" y="44719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ba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7880" y="907920"/>
            <a:ext cx="7873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90560" y="692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him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4840" y="244800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on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405560" y="2798640"/>
            <a:ext cx="495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5920" y="4194000"/>
            <a:ext cx="1530360" cy="9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47880" y="4923000"/>
            <a:ext cx="8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28960" y="4025520"/>
            <a:ext cx="137160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9840" y="5184720"/>
            <a:ext cx="11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oor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581280" y="4377960"/>
            <a:ext cx="405000" cy="10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07880" y="536400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oor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5200" y="3392640"/>
            <a:ext cx="58572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760" y="30322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37480" y="907920"/>
            <a:ext cx="38880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06280" y="5666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91280" y="495360"/>
            <a:ext cx="314280" cy="11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24640" y="1494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lowerb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39840" y="2707920"/>
            <a:ext cx="31608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95160" y="339264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94280" y="546120"/>
            <a:ext cx="971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4840" y="19692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arden 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07560" y="49752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7630920" y="4508640"/>
            <a:ext cx="539640" cy="67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47880" y="4824360"/>
            <a:ext cx="7873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5920" y="4738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481640" y="2708280"/>
            <a:ext cx="449280" cy="30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94480" y="56786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ut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9840" y="2664000"/>
            <a:ext cx="6796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7000" y="2401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46640" y="56786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l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930560" y="3159000"/>
            <a:ext cx="495000" cy="250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9000" y="4025880"/>
            <a:ext cx="1231920" cy="16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3400" y="37893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la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11280" y="1943280"/>
            <a:ext cx="247500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15920" y="1682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l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84920" y="1522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91280" y="495360"/>
            <a:ext cx="1125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2880" y="1403280"/>
            <a:ext cx="193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6120" y="118728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05560" y="2168280"/>
            <a:ext cx="76500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61640" y="20336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ky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740560" y="3563640"/>
            <a:ext cx="78408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70560" y="39164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tai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595920" y="2889360"/>
            <a:ext cx="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9040" y="338472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865560" y="3032280"/>
            <a:ext cx="871560" cy="99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35520" y="3968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windows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2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2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2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2000" y="6084720"/>
            <a:ext cx="88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set of steps that allow you to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om one level of a building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741640" y="3563640"/>
            <a:ext cx="7239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3880" y="387828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stair</a:t>
            </a:r>
            <a:r>
              <a:rPr b="1" lang="en-US" sz="2400" spc="-1" strike="noStrike">
                <a:solidFill>
                  <a:srgbClr val="f22e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6597720" y="2889360"/>
            <a:ext cx="0" cy="892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95440" y="378144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2000" y="6058080"/>
            <a:ext cx="877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frame in a wall with glass in it that lets light and air into a room and lets you see what is outs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6867000" y="3032280"/>
            <a:ext cx="871560" cy="99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39640" y="405144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windows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1640" y="6129360"/>
            <a:ext cx="310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shelf under a wind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4292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719840" y="781200"/>
            <a:ext cx="389160" cy="80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88120" y="27936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920" y="6084720"/>
            <a:ext cx="884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flat upright structure made of wood or w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at surrounds an area of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2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2000" y="6137280"/>
            <a:ext cx="88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 area in a garden or park where flowers are g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093080" y="546120"/>
            <a:ext cx="314280" cy="108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83800" y="1429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flowe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2000" y="6137280"/>
            <a:ext cx="88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way from one place to another that people can walk a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18760" y="982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495360"/>
            <a:ext cx="94608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202360" y="414360"/>
            <a:ext cx="765000" cy="49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04280" y="792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garden 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6280" y="6084720"/>
            <a:ext cx="87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small building for storing garden too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icycles, and other equip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02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22720" y="1494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12920" y="3477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605200" y="4868640"/>
            <a:ext cx="990360" cy="10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511280" y="3698640"/>
            <a:ext cx="1754280" cy="94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740200" y="3699000"/>
            <a:ext cx="1935000" cy="179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2360" y="52704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ba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79720" y="5688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ba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680" y="44719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bay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7880" y="907920"/>
            <a:ext cx="7873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90560" y="692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him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4840" y="244800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on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405560" y="2798640"/>
            <a:ext cx="495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455920" y="4194000"/>
            <a:ext cx="1530360" cy="9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47880" y="4923000"/>
            <a:ext cx="8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928960" y="4025520"/>
            <a:ext cx="137160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9840" y="5184720"/>
            <a:ext cx="11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oor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581280" y="4377960"/>
            <a:ext cx="405000" cy="10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07880" y="536400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oor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200" y="3392640"/>
            <a:ext cx="58572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6760" y="30322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37480" y="907920"/>
            <a:ext cx="38880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06280" y="5666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91280" y="495360"/>
            <a:ext cx="314280" cy="11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4640" y="14940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lowerb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139840" y="2707920"/>
            <a:ext cx="31608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95160" y="339264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94280" y="546120"/>
            <a:ext cx="971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94840" y="19692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arden 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7560" y="49752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630920" y="4508640"/>
            <a:ext cx="539640" cy="67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847880" y="4824360"/>
            <a:ext cx="7873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85920" y="47386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81640" y="2708280"/>
            <a:ext cx="449280" cy="30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94480" y="56786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ut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9840" y="2664000"/>
            <a:ext cx="6796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7000" y="2401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46640" y="56786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l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930560" y="3159000"/>
            <a:ext cx="495000" cy="250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9000" y="4025880"/>
            <a:ext cx="1231920" cy="16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3400" y="37893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la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1280" y="1943280"/>
            <a:ext cx="247500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15920" y="1682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l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4920" y="1522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91280" y="495360"/>
            <a:ext cx="1125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12880" y="1403280"/>
            <a:ext cx="193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6120" y="118728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605560" y="2168280"/>
            <a:ext cx="76500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1640" y="20336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ky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740560" y="3563640"/>
            <a:ext cx="78408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70560" y="39164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tai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595920" y="2889360"/>
            <a:ext cx="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9040" y="338472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6865560" y="3032280"/>
            <a:ext cx="871560" cy="99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35520" y="3968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windows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6280" y="6084720"/>
            <a:ext cx="877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piece of equipment consisting of a long thin piece of met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d to receive radio or television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2160" y="2332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a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92360" y="347760"/>
            <a:ext cx="1170000" cy="11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7520" y="638280"/>
            <a:ext cx="1779480" cy="45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188280" y="40644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chim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2000" y="6084720"/>
            <a:ext cx="88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tube or passage that takes smoke from a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p through a building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d out through the 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2000" y="6137280"/>
            <a:ext cx="41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top outer part of a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0520" y="1268280"/>
            <a:ext cx="1627200" cy="135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1456200" y="1036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06640" y="2340000"/>
            <a:ext cx="5443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00" y="185436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h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6280" y="608472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line of bushes or small trees growing close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ound a garden or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06280" y="6058080"/>
            <a:ext cx="871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building for keeping a car i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pecially one that is connected to or near your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141640" y="2707920"/>
            <a:ext cx="315720" cy="765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73160" y="347328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ga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5360" y="6137280"/>
            <a:ext cx="86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 area of grass that is cut short, especially in someone’s gar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23920" y="3699000"/>
            <a:ext cx="928800" cy="48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560" y="342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l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1827360" y="4914720"/>
            <a:ext cx="957240" cy="26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4160" y="495936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2e00"/>
                </a:solidFill>
                <a:latin typeface="Verdana"/>
              </a:rPr>
              <a:t>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360" y="6084720"/>
            <a:ext cx="865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door in a fence or wall that you go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 enter or leave a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2248" t="1638" r="1276" b="2615"/>
          <a:stretch/>
        </p:blipFill>
        <p:spPr>
          <a:xfrm>
            <a:off x="162000" y="233280"/>
            <a:ext cx="8821800" cy="5805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2457360" y="4194000"/>
            <a:ext cx="1530360" cy="9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9440" y="5138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2e00"/>
                </a:solidFill>
                <a:latin typeface="Verdana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2000" y="6084720"/>
            <a:ext cx="88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large flat object you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n you want to enter or leave a building, room, or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ystryusha</cp:lastModifiedBy>
  <dcterms:modified xsi:type="dcterms:W3CDTF">2009-08-19T08:37:16Z</dcterms:modified>
  <cp:revision>23</cp:revision>
  <dc:subject/>
  <dc:title>PowerPoint Presentation</dc:title>
</cp:coreProperties>
</file>