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82E-6E27-4427-99CF-33BA0596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571-ABA2-4F5E-B8B7-C9FC99B2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D0A-9FD5-44A0-8A5D-DE8B36C5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01C-E01E-4FB8-B08E-B62B1FDF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AFD-17D0-41CE-91C8-9F34CFF6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DD0-7FEF-4237-9BA3-DBA8E96D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A84-6498-4D92-8566-1F12CEBF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F99-BD0E-47BB-BF7F-0DB65D99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A54-E653-4EAD-AC91-96301DC1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362-ACF8-4F84-9A40-7F55CC0B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35A-AF52-4947-A767-CE1396AC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8AD-697F-446C-9557-9EC50CE6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F71C-6698-4083-955D-B0748322E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Татьяна\Desktop\151522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мало праздников у на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роших праздников не мал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повторяю каждый раз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этот день всему начал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без него что без не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 счастья ,мира - мир не веда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е было бы ниче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бы не было побе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:\Users\Татьяна\Desktop\98252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мало праздников у н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роших праздников не ма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повторяю каждый р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этот день всему нача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без него что без н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 счастья ,мира - мир не вед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не было бы нич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бы не было поб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Татьяна\Desktop\98252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а,победа  расцветает ввы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люты, салюты над отчиз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а,победа  это значит жиз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а победы жизни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Татьяна\Desktop\147083.gif"/>
          <p:cNvPicPr/>
          <p:nvPr/>
        </p:nvPicPr>
        <p:blipFill>
          <a:blip r:embed="rId2"/>
          <a:stretch/>
        </p:blipFill>
        <p:spPr>
          <a:xfrm>
            <a:off x="6443640" y="380880"/>
            <a:ext cx="22860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Татьяна\Desktop\98252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 этом забывать ник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вправе и пока, что солн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тает над миром верю,в 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память в сердце оста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шестьдесят и тыщи р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омки повторят, как д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мало праздников у н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самый главный день Побед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1476360" y="1052640"/>
            <a:ext cx="61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беда, победа,   расцветает ввы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люты, салюты над отчизн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беда, победа  это значит жиз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Цена победы жизни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2:50:33Z</dcterms:created>
  <dc:creator>Татьяна</dc:creator>
  <dc:description/>
  <dc:language>en-US</dc:language>
  <cp:lastModifiedBy>User</cp:lastModifiedBy>
  <dcterms:modified xsi:type="dcterms:W3CDTF">2013-04-30T04:48:49Z</dcterms:modified>
  <cp:revision>10</cp:revision>
  <dc:subject/>
  <dc:title>Презентация PowerPoint</dc:title>
</cp:coreProperties>
</file>