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CCE-CD84-41F1-855C-48E14D7DC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9E14-E354-4B12-ACF0-3053A57DFE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2A0-4488-428A-95C3-CAB35AB9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A97-7368-4CE4-A5A9-D752674D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D1E-207D-4D23-8464-1C44FDE9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1D0-823C-4A68-8478-AD735713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F36-E116-47F4-A1AC-856BE5C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C45-E83A-4AC5-BFDC-AC865785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C11-3E9A-44B2-87B0-597F92C6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CE4-E34F-43D7-8C3D-2E28BA5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9BA-31BF-4E51-995F-38A5677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686-7747-438C-870D-9201FEF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186-6385-4BA6-BEF5-2755ED7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0AD-A90C-49F6-AF6F-9242B65C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FF4F-3C49-4FD4-B261-28947C3EE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ок сонетов В.Гри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енок сонетов - давняя мечт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ведать власть железного канона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ряя форму, гибнет красот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 форма четко требует закон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. Солоухи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6218280" y="428760"/>
            <a:ext cx="29257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И3ВЕДЕНИЯ В. С. ГРИШ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сстояния: Стихи. - Таллинн: Эстонск. гос. изд-во, 1960. - 70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лова-друзья: Стихи. - Рига: Латв. гас. изд-ва, 1964. - 104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жиданье рассвета: Стихи и поэмы. - Саратов: Приволж. кн. изд-во, 1970. - 10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утояры: Стихи и поэмы. - - Саратав: Приволж. кн. изд-во, 1973. - 184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щу счастье: Стихи. - М.: Современник, 1975. - б4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удьбы: Поэмы. - Саратов: Приволж. кн. изд-во, 1976, - 200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лечный путь. Стихотворения, венки сонетов, испанские монологи. - Саратов: Приволж. кн. изд-во, 1979. - 168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улевая отметка: Стихи и поэмы. - М.: Современник, 1981. - 112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гновения: Стихи. - Cаpaтов: ПриволIж. кн. изд-во, 1983. - 120 с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http://im4-tub-ru.yandex.net/i?id=351157339-12-72"/>
          <p:cNvPicPr/>
          <p:nvPr/>
        </p:nvPicPr>
        <p:blipFill>
          <a:blip r:embed="rId1"/>
          <a:stretch/>
        </p:blipFill>
        <p:spPr>
          <a:xfrm>
            <a:off x="4714920" y="1357200"/>
            <a:ext cx="4000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р Владимир Семенович Гришин в 1995 г., похоронен в Сара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0780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енок сон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о́к соне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архитектоническая форма поэтического произведения, а также поэтическое произведение, написанное в эт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ок сонетов состоит из 15 сон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строка второго сонета совпадает с последней строкой первого сонета, первая строка третьего — с последней строкой второго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надцатый сонет завершается первой строкой первого сонета (как бы первый сонет начинается последней строкой четырнадцатог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надцатый сонет (магистральный сонет, магистрал) состоит из первых строк предшествующих 14 сон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истрал является тематическим и композиционным ключом (основой) венка; обычно он пишется раньше других сонетов в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6500880" y="428760"/>
            <a:ext cx="2139840" cy="11682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142920" y="5689440"/>
            <a:ext cx="2139840" cy="1168560"/>
          </a:xfrm>
          <a:prstGeom prst="rect">
            <a:avLst/>
          </a:prstGeom>
          <a:ln w="0">
            <a:noFill/>
          </a:ln>
        </p:spPr>
      </p:pic>
      <p:pic>
        <p:nvPicPr>
          <p:cNvPr id="89" name="3.Лилия Троицкая.mp3" descr=""/>
          <p:cNvPicPr/>
          <p:nvPr/>
        </p:nvPicPr>
        <p:blipFill>
          <a:blip r:embed="rId3"/>
          <a:stretch/>
        </p:blipFill>
        <p:spPr>
          <a:xfrm>
            <a:off x="2428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407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ая строка — тема синквейна, заключает в себе одно слово (обычно существительное или местоимение), которое обозначает объект или предмет, о котором пойдет реч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торая строка — два слова (чаще всего прилагательные или причастия), они дают описание признаков и свойств выбранного в синквейне предмета или объ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ья строка — образована тремя глаголами или деепричастиями, описывающими характерные действия объ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твертая строка — фраза из четырёх слов, выражающая личное отношение автора синквейна к описываемому предмету или объек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ятая строка — одно слово-резюме, характеризующее суть предмета или объ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ят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761080" cy="4176720"/>
          </a:xfrm>
          <a:prstGeom prst="rect">
            <a:avLst/>
          </a:prstGeom>
          <a:ln w="0">
            <a:noFill/>
          </a:ln>
        </p:spPr>
      </p:pic>
      <p:pic>
        <p:nvPicPr>
          <p:cNvPr id="94" name="692_Ave_marija_franc_shubert.mp3" descr=""/>
          <p:cNvPicPr/>
          <p:nvPr/>
        </p:nvPicPr>
        <p:blipFill>
          <a:blip r:embed="rId2"/>
          <a:stretch/>
        </p:blipFill>
        <p:spPr>
          <a:xfrm>
            <a:off x="161928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6859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нок сонетов  в творчестве русских  поэ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4200" y="475920"/>
            <a:ext cx="3571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венок сонетов на русском языке принадлежит филологу  Федору Коршу, который  перевёл венок сонетов словенского поэта  Франце Преш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ые венки сонетов написали: Вячеслав Иванов  Валерий Брюсов («Роковой ряд»), Максимилиан Волошин («Corona Astralis», «Lunaria») и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нок сонетов есть и у известного писателя Владимира Солоух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нок сонетов — одна из немногих твёрдых форм, к которой обращались поэты и в советское время (Семён Кирсанов, Кирилл Ковальджи, Юрий Абрамов и Александр Павл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форме венка сонетов прибегают в современной рок-музыке (Сергей Калуг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5" descr="Korsch.jpg"/>
          <p:cNvPicPr/>
          <p:nvPr/>
        </p:nvPicPr>
        <p:blipFill>
          <a:blip r:embed="rId1"/>
          <a:stretch/>
        </p:blipFill>
        <p:spPr>
          <a:xfrm>
            <a:off x="4000680" y="1214280"/>
            <a:ext cx="1643040" cy="216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572080" y="2071800"/>
            <a:ext cx="1671840" cy="227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7000920" y="3643200"/>
            <a:ext cx="1812960" cy="211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3929040" y="3500280"/>
            <a:ext cx="1500120" cy="214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572080" y="4357800"/>
            <a:ext cx="14526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он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нет (итал. sonetto, окс. sonet) — твёрдая поэтическая форма: стихотворение из 14 строк, образующих 2 четверостишия-катрена (на 2 рифмы) и 2 трёхстишия-терцета (на 2 или 3 рифмы), чаще всего во «французской» последовательности — abba abba ccd eed (или ccd ede) или в «итальянской» — abab abab cdc dcd (или cde c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785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истории сон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ревнему и вечному искусству сонета без малого 800 лет. Если верить легенде, то честь изобретения сонета принадлежит Аполл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R03Z3CAT53UG0CAS1GM3ICAXJ7OX6CAXH52NICA0U04WFCA7RXWS4CA9EXWB9CAUSAHNKCASI8AGUCAHNDEE6CA6V2UDLCA09S78ECAN91PGBCAFJSMKQCAFETYODCA1P3QGCCAFPR5RRCAEBCG57CAM429M5CADJGFWGCABS3CDT"/>
          <p:cNvPicPr/>
          <p:nvPr/>
        </p:nvPicPr>
        <p:blipFill>
          <a:blip r:embed="rId1"/>
          <a:stretch/>
        </p:blipFill>
        <p:spPr>
          <a:xfrm>
            <a:off x="4586400" y="1571760"/>
            <a:ext cx="4311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учшие мастера сонета – великие итальянские поэты 13-14 в.в. Данте Алигьери и Франческо Петрар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2950464[1]"/>
          <p:cNvPicPr/>
          <p:nvPr/>
        </p:nvPicPr>
        <p:blipFill>
          <a:blip r:embed="rId1"/>
          <a:stretch/>
        </p:blipFill>
        <p:spPr>
          <a:xfrm>
            <a:off x="2214720" y="2143080"/>
            <a:ext cx="4762440" cy="29242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2606040" y="51436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216760" y="5143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атри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вою жизнь и поэзию они посвятили возлюбленн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_6[1]"/>
          <p:cNvPicPr/>
          <p:nvPr/>
        </p:nvPicPr>
        <p:blipFill>
          <a:blip r:embed="rId1"/>
          <a:stretch/>
        </p:blipFill>
        <p:spPr>
          <a:xfrm>
            <a:off x="642960" y="1571760"/>
            <a:ext cx="365904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ail31[1]"/>
          <p:cNvPicPr/>
          <p:nvPr/>
        </p:nvPicPr>
        <p:blipFill>
          <a:blip r:embed="rId2"/>
          <a:stretch/>
        </p:blipFill>
        <p:spPr>
          <a:xfrm>
            <a:off x="4786200" y="1571760"/>
            <a:ext cx="392904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8"/>
          <p:cNvSpPr/>
          <p:nvPr/>
        </p:nvSpPr>
        <p:spPr>
          <a:xfrm>
            <a:off x="1725120" y="62150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рар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535800" y="62150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шин Владимир Семе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В.С. Гришин"/>
          <p:cNvPicPr/>
          <p:nvPr/>
        </p:nvPicPr>
        <p:blipFill>
          <a:blip r:embed="rId1"/>
          <a:stretch/>
        </p:blipFill>
        <p:spPr>
          <a:xfrm>
            <a:off x="1071720" y="1857240"/>
            <a:ext cx="2714400" cy="335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в Самар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2.06.192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, поэт, заслуженный работник культуры РФ, член Союза писателей СССР, член Союза журналистов 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ктябре 1942 г. добровольно вступил в ряды Военно-морского флота - был принят в школу морских летчиков. В 1953-1956 гг. служил на дважды Краснознаменном Балтийском флоте. До 1956 года служил на противолодочном корабле и на крейсере «Адмирал Лазарев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http://www.nashflot.ru/img/pic/1255625543.jpg"/>
          <p:cNvPicPr/>
          <p:nvPr/>
        </p:nvPicPr>
        <p:blipFill>
          <a:blip r:embed="rId1"/>
          <a:stretch/>
        </p:blipFill>
        <p:spPr>
          <a:xfrm>
            <a:off x="4572000" y="1928880"/>
            <a:ext cx="4143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пробы 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стихи печатались во флотской газете. Потом — в республиканских и центральных газетах, журналах, альманахах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56 году перешел на журналистскую работу. В 1957 году был принят в Союз журналистов СССР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0 году в Эстонском государственном издательстве вышла первая книга стихов «Расстояния». Затем книги Владимира Гришина издавались в Риге, Калининграде, Москве, Саратов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4" descr="http://im0-tub-ru.yandex.net/i?id=290368288-59-72"/>
          <p:cNvPicPr/>
          <p:nvPr/>
        </p:nvPicPr>
        <p:blipFill>
          <a:blip r:embed="rId1"/>
          <a:stretch/>
        </p:blipFill>
        <p:spPr>
          <a:xfrm>
            <a:off x="4357800" y="1643040"/>
            <a:ext cx="4500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4" descr="http://www.sarrest.ru/img/per/pi/pi21a.jpg"/>
          <p:cNvPicPr/>
          <p:nvPr/>
        </p:nvPicPr>
        <p:blipFill>
          <a:blip r:embed="rId1"/>
          <a:stretch/>
        </p:blipFill>
        <p:spPr>
          <a:xfrm>
            <a:off x="357120" y="1714680"/>
            <a:ext cx="4214880" cy="40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7 году переехал на постоянное жительство в Саратов. В течение года руководил отделом поэзии журнала «Волга», а с 1968 года работал главным редактором Приволжского книжного издательств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рте 1977 года указом Президиума Верховного Совета РСФСР В. С. Гришину присвоено почетное звание заслуженного ра­ботника культуры РСФ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0:07:46Z</dcterms:created>
  <dc:creator>123</dc:creator>
  <dc:description/>
  <dc:language>en-US</dc:language>
  <cp:lastModifiedBy>123</cp:lastModifiedBy>
  <dcterms:modified xsi:type="dcterms:W3CDTF">2011-11-08T19:04:35Z</dcterms:modified>
  <cp:revision>15</cp:revision>
  <dc:subject/>
  <dc:title>Венок сонетов В.Гришина</dc:title>
</cp:coreProperties>
</file>