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F771-0EE5-49F8-A66C-CA14997622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5EE-4C37-4B88-8248-EA431545E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AAF-9CB4-4164-84BF-EF3657B6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D34-5318-4265-BA6B-7DE537FF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07A-A9DA-4C60-A936-E4D05B9F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C93-165F-47AC-97A0-E5541524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479C-1548-4554-B976-766FA401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7883-7C2C-4113-9BE6-203FBD0F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C8CC-9526-464E-8863-1D3F0F46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4DDD-CBDE-42E8-AFB6-00EAC435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51D0-5E93-4218-B09C-D22E5201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9016-C9A3-4B06-8A9B-E50B8FFD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F47-A79C-4549-96A8-7157391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4B3-0E40-4B6A-AD57-5891C913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F23F-49E5-4121-852B-C89FB0B4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AA0C-A312-4AB0-B51E-45D40B8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F73E-0BCC-43DA-9754-CFD45157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1014-809B-4DCB-A1B0-420B1152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D268-E7F1-4E82-B351-B1F28E80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81D8-10EF-4ACC-9837-63CEE4BE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DA52-7B47-4FEB-B1B9-25A06742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17EC-2F6D-4431-888A-0B48A080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A10F-25EA-4608-89B0-85A00C1E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AD7B-2DFF-44A7-9CEE-DB98DB7E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5F2-952E-4040-ABFD-181A77FA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7CE0-8EF1-4686-8926-DBF7EACB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D347-FE56-484B-974B-443A9A26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136E-66FF-4A9A-B096-159F542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9140-1E7A-4953-83AA-F20B5E4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E42D-6922-422F-9E57-14C82D65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9A54-7D4E-446F-8F5C-DCE5284A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BC056-098C-42CF-9FE5-76B57E64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B264-347F-4DC9-AB58-2CA1F37B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FD54-794C-4030-AD48-DED4DCA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E768-1ED9-4800-82D9-81D8E0C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669-0B71-4F9D-AE2D-62009F72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FF14-7503-4B1D-803D-62527BEE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5DECA-4EE6-4CFC-94F4-9BC2AA58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775F-BF26-4382-942B-E40E714C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F8A7-CC90-427B-880A-2DDDCC5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ABB9-9D42-440F-B4B6-5D9BCCC9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D4CD-1B13-4DFD-8BEC-3B442BD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A04D-BF02-4A75-9D62-8640E20C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A27AB-BDE7-4981-9DA5-D0661262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7D11-81B2-4640-B470-52EB44A1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EB2F-9858-4D7D-81FF-A1D83B69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346-9637-4E6E-AEC8-65094C7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6FC6-70A3-4EFC-A644-08686E51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8CC66-C6D8-48B8-9689-A036E5D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DE12-ED03-4738-84D8-AB7653D0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896B-CCAB-4B8F-92A3-5379BEE3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DD4A-C9AF-4C80-BAF2-0047C6A9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61C3-C19F-4350-8C23-ADE7D9A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37041-E0F8-4158-8FB4-9DDD5B9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5D600-BFA4-4BB8-894E-4D5BF47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5A63F-CE3F-4354-9C91-C2071F8F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D25D-B16E-44FF-8E31-AC2D6DB0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013-9058-41CD-A93F-0AD1B5D9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49242-8B29-46A6-8A7E-48C41A90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FE0-F9CC-481B-BD06-1CB33B4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3D9-1074-467E-A19F-9CBE7C38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B4D-0D70-4363-A0D5-02645EA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C45-D344-43DE-9B91-864F93E15F4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757B-052A-417D-B9FE-05E96AF9A0A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4A03-B211-4094-A66F-A45959A14E1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16ED-4D93-4335-8177-546A9CA8A34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AB65-B785-4D07-82E5-A593A26392A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5.xml"/><Relationship Id="rId3" Type="http://schemas.openxmlformats.org/officeDocument/2006/relationships/slide" Target="slide45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slide" Target="slide51.xml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slide" Target="slide53.xml"/><Relationship Id="rId4" Type="http://schemas.openxmlformats.org/officeDocument/2006/relationships/slide" Target="slide53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slide" Target="slide55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slide" Target="slide56.xml"/><Relationship Id="rId4" Type="http://schemas.openxmlformats.org/officeDocument/2006/relationships/slide" Target="slide56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8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8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9.xml"/><Relationship Id="rId3" Type="http://schemas.openxmlformats.org/officeDocument/2006/relationships/slide" Target="slide59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9.xml"/><Relationship Id="rId3" Type="http://schemas.openxmlformats.org/officeDocument/2006/relationships/slide" Target="slide59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60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22160" y="3581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766f"/>
                </a:solidFill>
                <a:latin typeface="Verdana"/>
              </a:rPr>
              <a:t>Автор -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766f"/>
                </a:solidFill>
                <a:latin typeface="Verdana"/>
              </a:rPr>
              <a:t>Котынова Елена Юрьев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766f"/>
                </a:solidFill>
                <a:latin typeface="Verdana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766f"/>
                </a:solidFill>
                <a:latin typeface="Verdana"/>
              </a:rPr>
              <a:t>МОУ «Педагогический лицей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766f"/>
                </a:solidFill>
                <a:latin typeface="Verdana"/>
              </a:rPr>
              <a:t>г.Великие Луки Псковской обла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Использован дидактический материал из книги М.Б.Коржиковой «135 обучающих, контрольных и итоговых тестов по русскому языку» Минск, ООО «Юнипресс» 2004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2286000" y="5715000"/>
            <a:ext cx="5029200" cy="762120"/>
          </a:xfrm>
          <a:custGeom>
            <a:avLst/>
            <a:gdLst>
              <a:gd name="textAreaLeft" fmla="*/ 49320 w 5029200"/>
              <a:gd name="textAreaRight" fmla="*/ 4979880 w 5029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2480" h="21600">
                <a:moveTo>
                  <a:pt x="0" y="0"/>
                </a:moveTo>
                <a:lnTo>
                  <a:pt x="142480" y="0"/>
                </a:lnTo>
                <a:lnTo>
                  <a:pt x="142480" y="21600"/>
                </a:lnTo>
                <a:lnTo>
                  <a:pt x="0" y="21600"/>
                </a:lnTo>
                <a:close/>
              </a:path>
              <a:path fill="lightenLess" w="142480" h="21600">
                <a:moveTo>
                  <a:pt x="0" y="0"/>
                </a:moveTo>
                <a:lnTo>
                  <a:pt x="142480" y="0"/>
                </a:lnTo>
                <a:lnTo>
                  <a:pt x="141081" y="1400"/>
                </a:lnTo>
                <a:lnTo>
                  <a:pt x="1400" y="1400"/>
                </a:lnTo>
                <a:close/>
              </a:path>
              <a:path fill="darken" w="142480" h="21600">
                <a:moveTo>
                  <a:pt x="142480" y="0"/>
                </a:moveTo>
                <a:lnTo>
                  <a:pt x="142480" y="21600"/>
                </a:lnTo>
                <a:lnTo>
                  <a:pt x="141081" y="20200"/>
                </a:lnTo>
                <a:lnTo>
                  <a:pt x="141081" y="1400"/>
                </a:lnTo>
                <a:close/>
              </a:path>
              <a:path fill="darkenLess" w="142480" h="21600">
                <a:moveTo>
                  <a:pt x="142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081" y="20200"/>
                </a:lnTo>
                <a:close/>
              </a:path>
              <a:path fill="lighten" w="142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чать 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4" descr=""/>
          <p:cNvPicPr/>
          <p:nvPr/>
        </p:nvPicPr>
        <p:blipFill>
          <a:blip r:embed="rId1"/>
          <a:stretch/>
        </p:blipFill>
        <p:spPr>
          <a:xfrm>
            <a:off x="182520" y="365040"/>
            <a:ext cx="89679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4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Хорошо учиться наш дол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Человек без веры как путешественник без компа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амое большое счастье делать людям добр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Летать выше всех моя меч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28954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990720" y="50292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4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Хорошо учиться наш дол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Человек без веры как путешественник без компа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амое большое счастье делать людям добр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Летать выше всех моя меч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281952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91440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7692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85800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5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Волга нешумна, но широка и могу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Хорошая книга точно беседа с умным челове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Молодость бескорыстна и великодуш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Урал географическая граница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6668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648320" y="4876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876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5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Волга нешумна, но широка и могу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Хорошая книга точно беседа с умным челове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Молодость бескорыстна и великодуш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Урал географическая граница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50292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50292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50292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5029200"/>
            <a:ext cx="1676160" cy="838080"/>
          </a:xfrm>
          <a:custGeom>
            <a:avLst/>
            <a:gdLst>
              <a:gd name="textAreaLeft" fmla="*/ 54000 w 1676160"/>
              <a:gd name="textAreaRight" fmla="*/ 1622160 w 1676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1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1" y="20200"/>
                </a:lnTo>
                <a:lnTo>
                  <a:pt x="41791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1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5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Волга нешумна, но широка и могу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Хорошая книга точно беседа с умным челове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Молодость бескорыстна и великодуш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Урал географическая граница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0572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6668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5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Волга нешумна, но широка и могу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Хорошая книга точно беседа с умным челове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Молодость бескорыстна и великодуш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Урал географическая граница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05720" y="4876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876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5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Волга нешумна, но широка и могу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Хорошая книга точно беседа с умным челове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Молодость бескорыстна и великодуш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Урал географическая граница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50292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50292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50292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85800" y="50292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6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Бедность не по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Простота есть необходимое условие прекрас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Играть с огнём опасное заня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егодня небо как м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724280" y="49528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9528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685800" y="49528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0572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6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Бедность не по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Простота есть необходимое условие прекрас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Играть с огнём опасное заня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егодня небо как м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0060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762120" y="4876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6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Бедность не по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Простота есть необходимое условие прекрас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Играть с огнём опасное заня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егодня небо как м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00600" y="480060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0060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762120" y="4800600"/>
            <a:ext cx="1676160" cy="1066680"/>
          </a:xfrm>
          <a:custGeom>
            <a:avLst/>
            <a:gdLst>
              <a:gd name="textAreaLeft" fmla="*/ 69120 w 1676160"/>
              <a:gd name="textAreaRight" fmla="*/ 1607040 w 16761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0060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1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18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)  Жить в обществе это значит уметь поступиться своими радостями во имя благополучия других люд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 Человек без родины что соловей без пес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) Отчизна! Тебе служить вот высшая награ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) Лошадь и кошка самые чистоплотные животн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281952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8380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48006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67816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6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Бедность не по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Простота есть необходимое условие прекрас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Играть с огнём опасное заня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егодня небо как м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00600" y="480060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19520" y="480060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838080" y="4800600"/>
            <a:ext cx="1524240" cy="1066680"/>
          </a:xfrm>
          <a:custGeom>
            <a:avLst/>
            <a:gdLst>
              <a:gd name="textAreaLeft" fmla="*/ 69120 w 1524240"/>
              <a:gd name="textAreaRight" fmla="*/ 1455120 w 15242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00600"/>
            <a:ext cx="1524240" cy="1066680"/>
          </a:xfrm>
          <a:custGeom>
            <a:avLst/>
            <a:gdLst>
              <a:gd name="textAreaLeft" fmla="*/ 69120 w 1524240"/>
              <a:gd name="textAreaRight" fmla="*/ 1455120 w 15242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6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294920"/>
            <a:ext cx="8229600" cy="3063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Бедность не по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Простота есть необходимое условие прекрас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Играть с огнём опасное заня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егодня небо как м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0060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76212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6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Бедность не по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Простота есть необходимое условие прекрас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Играть с огнём опасное заня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егодня небо как м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7242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76212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0572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7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Гром от падения ведра как выстре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Утром на полях одуванчики словно живое золот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ердце не кам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блюдать за жизнью зверей и птиц на воле нелёгкая зад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85800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7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Гром от падения ведра как выстре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Утром на полях одуванчики словно живое золот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ердце не кам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блюдать за жизнью зверей и птиц на воле нелёгкая зад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7692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8380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7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Гром от падения ведра как выстре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Утром на полях одуванчики словно живое золот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ердце не кам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блюдать за жизнью зверей и птиц на воле нелёгкая зад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05720" y="48769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6668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858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7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89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Гром от падения ведра как выстре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Утром на полях одуванчики словно живое золото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ердце не кам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блюдать за жизнью зверей и птиц на воле нелёгкая зад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66688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64832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7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447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Гром от падения ведра как выстре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Утром на полях одуванчики словно живое золото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ердце не кам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блюдать за жизнью зверей и птиц на воле нелёгкая зад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858000" y="495288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9528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95288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95288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7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447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Гром от падения ведра как выстре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Утром на полях одуванчики словно живое золот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ердце не кам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блюдать за жизнью зверей и птиц на воле нелёгкая зад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62940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64832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7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Гром от падения ведра как выстре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Утром на полях одуванчики словно живое золото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ердце не каме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блюдать за жизнью зверей и птиц на воле нелёгкая зада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0572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2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76920" y="50292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8380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2819520" y="50292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85800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295280"/>
            <a:ext cx="8229600" cy="3308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 Жизнь без движения пу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Хороший вкус это прежде всего чувство ме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Шесть да пять одиннадц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Апрель месяц поразительных контрастов в жизни русской прир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648320" y="48769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762120" y="4876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648320" y="48769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6668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609480" y="48769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629400" y="48769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8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7692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99072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0060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1952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83808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724280" y="49528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76212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05720" y="495288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80060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8380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0880" y="1523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572000" y="48769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6668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685800" y="48769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05720" y="48769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3280" y="60948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8 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Краткость есть сестра тала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Я ваш знакомый по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Трижды девять двадцать сем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Наш сад как проходной дв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47242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8380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62940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648320" y="4952880"/>
            <a:ext cx="1447560" cy="914400"/>
          </a:xfrm>
          <a:custGeom>
            <a:avLst/>
            <a:gdLst>
              <a:gd name="textAreaLeft" fmla="*/ 59040 w 1447560"/>
              <a:gd name="textAreaRight" fmla="*/ 1388520 w 1447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89" h="21600">
                <a:moveTo>
                  <a:pt x="0" y="0"/>
                </a:moveTo>
                <a:lnTo>
                  <a:pt x="34189" y="0"/>
                </a:lnTo>
                <a:lnTo>
                  <a:pt x="34189" y="21600"/>
                </a:lnTo>
                <a:lnTo>
                  <a:pt x="0" y="21600"/>
                </a:lnTo>
                <a:close/>
              </a:path>
              <a:path fill="lightenLess" w="34189" h="21600">
                <a:moveTo>
                  <a:pt x="0" y="0"/>
                </a:moveTo>
                <a:lnTo>
                  <a:pt x="34189" y="0"/>
                </a:lnTo>
                <a:lnTo>
                  <a:pt x="32789" y="1400"/>
                </a:lnTo>
                <a:lnTo>
                  <a:pt x="1400" y="1400"/>
                </a:lnTo>
                <a:close/>
              </a:path>
              <a:path fill="darken" w="34189" h="21600">
                <a:moveTo>
                  <a:pt x="34189" y="0"/>
                </a:moveTo>
                <a:lnTo>
                  <a:pt x="34189" y="21600"/>
                </a:lnTo>
                <a:lnTo>
                  <a:pt x="32789" y="20200"/>
                </a:lnTo>
                <a:lnTo>
                  <a:pt x="32789" y="1400"/>
                </a:lnTo>
                <a:close/>
              </a:path>
              <a:path fill="darkenLess" w="34189" h="21600">
                <a:moveTo>
                  <a:pt x="34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89" y="20200"/>
                </a:lnTo>
                <a:close/>
              </a:path>
              <a:path fill="lighten" w="34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8380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295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7692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91440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2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Жизнь без движения пу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Хороший вкус это прежде всего чувство ме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Шесть да пять одиннадц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Апрель месяц поразительных контрастов в жизни русской прир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10666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3048120" y="4952880"/>
            <a:ext cx="1447560" cy="914400"/>
          </a:xfrm>
          <a:custGeom>
            <a:avLst/>
            <a:gdLst>
              <a:gd name="textAreaLeft" fmla="*/ 59040 w 1447560"/>
              <a:gd name="textAreaRight" fmla="*/ 1388520 w 1447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89" h="21600">
                <a:moveTo>
                  <a:pt x="0" y="0"/>
                </a:moveTo>
                <a:lnTo>
                  <a:pt x="34189" y="0"/>
                </a:lnTo>
                <a:lnTo>
                  <a:pt x="34189" y="21600"/>
                </a:lnTo>
                <a:lnTo>
                  <a:pt x="0" y="21600"/>
                </a:lnTo>
                <a:close/>
              </a:path>
              <a:path fill="lightenLess" w="34189" h="21600">
                <a:moveTo>
                  <a:pt x="0" y="0"/>
                </a:moveTo>
                <a:lnTo>
                  <a:pt x="34189" y="0"/>
                </a:lnTo>
                <a:lnTo>
                  <a:pt x="32789" y="1400"/>
                </a:lnTo>
                <a:lnTo>
                  <a:pt x="1400" y="1400"/>
                </a:lnTo>
                <a:close/>
              </a:path>
              <a:path fill="darken" w="34189" h="21600">
                <a:moveTo>
                  <a:pt x="34189" y="0"/>
                </a:moveTo>
                <a:lnTo>
                  <a:pt x="34189" y="21600"/>
                </a:lnTo>
                <a:lnTo>
                  <a:pt x="32789" y="20200"/>
                </a:lnTo>
                <a:lnTo>
                  <a:pt x="32789" y="1400"/>
                </a:lnTo>
                <a:close/>
              </a:path>
              <a:path fill="darkenLess" w="34189" h="21600">
                <a:moveTo>
                  <a:pt x="34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89" y="20200"/>
                </a:lnTo>
                <a:close/>
              </a:path>
              <a:path fill="lighten" w="34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502920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0102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76920" y="48769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990720" y="48769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60948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447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99072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487692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 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1952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9144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876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0060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0060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80060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762120" y="4800600"/>
            <a:ext cx="1676160" cy="1066680"/>
          </a:xfrm>
          <a:custGeom>
            <a:avLst/>
            <a:gdLst>
              <a:gd name="textAreaLeft" fmla="*/ 69120 w 1676160"/>
              <a:gd name="textAreaRight" fmla="*/ 1607040 w 16761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60948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85800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8380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9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Упрямство вывеска дура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Трудное это дело чужих детей уч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Пушкинская сказка прямая наследница сказки народ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Вы меткий стрелок и бегун хоро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0060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480060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480060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85800" y="48006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990720" y="4800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00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480060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05720" y="4800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28954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990720" y="48769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4876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10 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914400" y="4800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00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4800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800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3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Я в доме стар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Бекас болотная птичка, серая, величиной с воробь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вет и тепло необходимые условия жизни раст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 книгой дружить век не туж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8380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19520" y="48769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0060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05720" y="48769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67816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876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9528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91440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68544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447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91440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8954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76920" y="4952880"/>
            <a:ext cx="1447560" cy="914400"/>
          </a:xfrm>
          <a:custGeom>
            <a:avLst/>
            <a:gdLst>
              <a:gd name="textAreaLeft" fmla="*/ 59040 w 1447560"/>
              <a:gd name="textAreaRight" fmla="*/ 1388520 w 1447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89" h="21600">
                <a:moveTo>
                  <a:pt x="0" y="0"/>
                </a:moveTo>
                <a:lnTo>
                  <a:pt x="34189" y="0"/>
                </a:lnTo>
                <a:lnTo>
                  <a:pt x="34189" y="21600"/>
                </a:lnTo>
                <a:lnTo>
                  <a:pt x="0" y="21600"/>
                </a:lnTo>
                <a:close/>
              </a:path>
              <a:path fill="lightenLess" w="34189" h="21600">
                <a:moveTo>
                  <a:pt x="0" y="0"/>
                </a:moveTo>
                <a:lnTo>
                  <a:pt x="34189" y="0"/>
                </a:lnTo>
                <a:lnTo>
                  <a:pt x="32789" y="1400"/>
                </a:lnTo>
                <a:lnTo>
                  <a:pt x="1400" y="1400"/>
                </a:lnTo>
                <a:close/>
              </a:path>
              <a:path fill="darken" w="34189" h="21600">
                <a:moveTo>
                  <a:pt x="34189" y="0"/>
                </a:moveTo>
                <a:lnTo>
                  <a:pt x="34189" y="21600"/>
                </a:lnTo>
                <a:lnTo>
                  <a:pt x="32789" y="20200"/>
                </a:lnTo>
                <a:lnTo>
                  <a:pt x="32789" y="1400"/>
                </a:lnTo>
                <a:close/>
              </a:path>
              <a:path fill="darkenLess" w="34189" h="21600">
                <a:moveTo>
                  <a:pt x="34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89" y="20200"/>
                </a:lnTo>
                <a:close/>
              </a:path>
              <a:path fill="lighten" w="34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85800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83808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Управляющая кнопка: настраиваемая 4"/>
          <p:cNvSpPr/>
          <p:nvPr/>
        </p:nvSpPr>
        <p:spPr>
          <a:xfrm>
            <a:off x="281952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Управляющая кнопка: настраиваемая 5"/>
          <p:cNvSpPr/>
          <p:nvPr/>
        </p:nvSpPr>
        <p:spPr>
          <a:xfrm>
            <a:off x="480060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Управляющая кнопка: настраиваемая 6"/>
          <p:cNvSpPr/>
          <p:nvPr/>
        </p:nvSpPr>
        <p:spPr>
          <a:xfrm>
            <a:off x="678168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Управляющая кнопка: настраиваемая 3"/>
          <p:cNvSpPr/>
          <p:nvPr/>
        </p:nvSpPr>
        <p:spPr>
          <a:xfrm>
            <a:off x="91440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Управляющая кнопка: настраиваемая 4"/>
          <p:cNvSpPr/>
          <p:nvPr/>
        </p:nvSpPr>
        <p:spPr>
          <a:xfrm>
            <a:off x="289548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Управляющая кнопка: настраиваемая 5"/>
          <p:cNvSpPr/>
          <p:nvPr/>
        </p:nvSpPr>
        <p:spPr>
          <a:xfrm>
            <a:off x="487692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Управляющая кнопка: настраиваемая 6"/>
          <p:cNvSpPr/>
          <p:nvPr/>
        </p:nvSpPr>
        <p:spPr>
          <a:xfrm>
            <a:off x="685800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609120"/>
            <a:ext cx="8183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Управляющая кнопка: настраиваемая 3"/>
          <p:cNvSpPr/>
          <p:nvPr/>
        </p:nvSpPr>
        <p:spPr>
          <a:xfrm>
            <a:off x="838080" y="502920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Управляющая кнопка: настраиваемая 4"/>
          <p:cNvSpPr/>
          <p:nvPr/>
        </p:nvSpPr>
        <p:spPr>
          <a:xfrm>
            <a:off x="2819520" y="502920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Управляющая кнопка: настраиваемая 5"/>
          <p:cNvSpPr/>
          <p:nvPr/>
        </p:nvSpPr>
        <p:spPr>
          <a:xfrm>
            <a:off x="4876920" y="502920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Управляющая кнопка: настраиваемая 6"/>
          <p:cNvSpPr/>
          <p:nvPr/>
        </p:nvSpPr>
        <p:spPr>
          <a:xfrm>
            <a:off x="6858000" y="502920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3280" y="6094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Управляющая кнопка: настраиваемая 3"/>
          <p:cNvSpPr/>
          <p:nvPr/>
        </p:nvSpPr>
        <p:spPr>
          <a:xfrm>
            <a:off x="91440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Управляющая кнопка: настраиваемая 4"/>
          <p:cNvSpPr/>
          <p:nvPr/>
        </p:nvSpPr>
        <p:spPr>
          <a:xfrm>
            <a:off x="289548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Управляющая кнопка: настраиваемая 5"/>
          <p:cNvSpPr/>
          <p:nvPr/>
        </p:nvSpPr>
        <p:spPr>
          <a:xfrm>
            <a:off x="487692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Управляющая кнопка: настраиваемая 6"/>
          <p:cNvSpPr/>
          <p:nvPr/>
        </p:nvSpPr>
        <p:spPr>
          <a:xfrm>
            <a:off x="685800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10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8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Мы звёздное племя крылаты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Юности нашей рубеж двадцать второе ию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Лишнее говорить себе вред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Красная рябина царица осеннего ле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Управляющая кнопка: настраиваемая 3"/>
          <p:cNvSpPr/>
          <p:nvPr/>
        </p:nvSpPr>
        <p:spPr>
          <a:xfrm>
            <a:off x="83808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Управляющая кнопка: настраиваемая 4"/>
          <p:cNvSpPr/>
          <p:nvPr/>
        </p:nvSpPr>
        <p:spPr>
          <a:xfrm>
            <a:off x="289548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Управляющая кнопка: настраиваемая 5"/>
          <p:cNvSpPr/>
          <p:nvPr/>
        </p:nvSpPr>
        <p:spPr>
          <a:xfrm>
            <a:off x="495288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Управляющая кнопка: настраиваемая 6"/>
          <p:cNvSpPr/>
          <p:nvPr/>
        </p:nvSpPr>
        <p:spPr>
          <a:xfrm>
            <a:off x="6934320" y="4952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503280" y="1371240"/>
            <a:ext cx="8183520" cy="1523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Управляющая кнопка: настраиваемая 3">
            <a:hlinkClick r:id="" action="ppaction://hlinkshowjump?jump=endshow"/>
          </p:cNvPr>
          <p:cNvSpPr/>
          <p:nvPr/>
        </p:nvSpPr>
        <p:spPr>
          <a:xfrm>
            <a:off x="609480" y="4648320"/>
            <a:ext cx="2133720" cy="1218960"/>
          </a:xfrm>
          <a:custGeom>
            <a:avLst/>
            <a:gdLst>
              <a:gd name="textAreaLeft" fmla="*/ 78840 w 2133720"/>
              <a:gd name="textAreaRight" fmla="*/ 2054880 w 21337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7805" h="21600">
                <a:moveTo>
                  <a:pt x="0" y="0"/>
                </a:moveTo>
                <a:lnTo>
                  <a:pt x="37805" y="0"/>
                </a:lnTo>
                <a:lnTo>
                  <a:pt x="37805" y="21600"/>
                </a:lnTo>
                <a:lnTo>
                  <a:pt x="0" y="21600"/>
                </a:lnTo>
                <a:close/>
              </a:path>
              <a:path fill="lightenLess" w="37805" h="21600">
                <a:moveTo>
                  <a:pt x="0" y="0"/>
                </a:moveTo>
                <a:lnTo>
                  <a:pt x="37805" y="0"/>
                </a:lnTo>
                <a:lnTo>
                  <a:pt x="36405" y="1400"/>
                </a:lnTo>
                <a:lnTo>
                  <a:pt x="1400" y="1400"/>
                </a:lnTo>
                <a:close/>
              </a:path>
              <a:path fill="darken" w="37805" h="21600">
                <a:moveTo>
                  <a:pt x="37805" y="0"/>
                </a:moveTo>
                <a:lnTo>
                  <a:pt x="37805" y="21600"/>
                </a:lnTo>
                <a:lnTo>
                  <a:pt x="36405" y="20200"/>
                </a:lnTo>
                <a:lnTo>
                  <a:pt x="36405" y="1400"/>
                </a:lnTo>
                <a:close/>
              </a:path>
              <a:path fill="darkenLess" w="37805" h="21600">
                <a:moveTo>
                  <a:pt x="37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5" y="20200"/>
                </a:lnTo>
                <a:close/>
              </a:path>
              <a:path fill="lighten" w="37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Прямоугольник 4" descr=""/>
          <p:cNvPicPr/>
          <p:nvPr/>
        </p:nvPicPr>
        <p:blipFill>
          <a:blip r:embed="rId1"/>
          <a:stretch/>
        </p:blipFill>
        <p:spPr>
          <a:xfrm>
            <a:off x="450720" y="1646280"/>
            <a:ext cx="83217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1600200"/>
            <a:ext cx="818352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Управляющая кнопка: настраиваемая 3">
            <a:hlinkClick r:id="" action="ppaction://hlinkshowjump?jump=endshow"/>
          </p:cNvPr>
          <p:cNvSpPr/>
          <p:nvPr/>
        </p:nvSpPr>
        <p:spPr>
          <a:xfrm>
            <a:off x="762120" y="4648320"/>
            <a:ext cx="2133360" cy="1218960"/>
          </a:xfrm>
          <a:custGeom>
            <a:avLst/>
            <a:gdLst>
              <a:gd name="textAreaLeft" fmla="*/ 78840 w 2133360"/>
              <a:gd name="textAreaRight" fmla="*/ 2054520 w 21333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7798" h="21600">
                <a:moveTo>
                  <a:pt x="0" y="0"/>
                </a:moveTo>
                <a:lnTo>
                  <a:pt x="37798" y="0"/>
                </a:lnTo>
                <a:lnTo>
                  <a:pt x="37798" y="21600"/>
                </a:lnTo>
                <a:lnTo>
                  <a:pt x="0" y="21600"/>
                </a:lnTo>
                <a:close/>
              </a:path>
              <a:path fill="lightenLess" w="37798" h="21600">
                <a:moveTo>
                  <a:pt x="0" y="0"/>
                </a:moveTo>
                <a:lnTo>
                  <a:pt x="37798" y="0"/>
                </a:lnTo>
                <a:lnTo>
                  <a:pt x="36398" y="1400"/>
                </a:lnTo>
                <a:lnTo>
                  <a:pt x="1400" y="1400"/>
                </a:lnTo>
                <a:close/>
              </a:path>
              <a:path fill="darken" w="37798" h="21600">
                <a:moveTo>
                  <a:pt x="37798" y="0"/>
                </a:moveTo>
                <a:lnTo>
                  <a:pt x="37798" y="21600"/>
                </a:lnTo>
                <a:lnTo>
                  <a:pt x="36398" y="20200"/>
                </a:lnTo>
                <a:lnTo>
                  <a:pt x="36398" y="1400"/>
                </a:lnTo>
                <a:close/>
              </a:path>
              <a:path fill="darkenLess" w="37798" h="21600">
                <a:moveTo>
                  <a:pt x="37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8" y="20200"/>
                </a:lnTo>
                <a:close/>
              </a:path>
              <a:path fill="lighten" w="37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Прямоугольник 4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3152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Управляющая кнопка: настраиваемая 3">
            <a:hlinkClick r:id="" action="ppaction://hlinkshowjump?jump=endshow"/>
          </p:cNvPr>
          <p:cNvSpPr/>
          <p:nvPr/>
        </p:nvSpPr>
        <p:spPr>
          <a:xfrm>
            <a:off x="762120" y="4648320"/>
            <a:ext cx="2133360" cy="1218960"/>
          </a:xfrm>
          <a:custGeom>
            <a:avLst/>
            <a:gdLst>
              <a:gd name="textAreaLeft" fmla="*/ 78840 w 2133360"/>
              <a:gd name="textAreaRight" fmla="*/ 2054520 w 21333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7798" h="21600">
                <a:moveTo>
                  <a:pt x="0" y="0"/>
                </a:moveTo>
                <a:lnTo>
                  <a:pt x="37798" y="0"/>
                </a:lnTo>
                <a:lnTo>
                  <a:pt x="37798" y="21600"/>
                </a:lnTo>
                <a:lnTo>
                  <a:pt x="0" y="21600"/>
                </a:lnTo>
                <a:close/>
              </a:path>
              <a:path fill="lightenLess" w="37798" h="21600">
                <a:moveTo>
                  <a:pt x="0" y="0"/>
                </a:moveTo>
                <a:lnTo>
                  <a:pt x="37798" y="0"/>
                </a:lnTo>
                <a:lnTo>
                  <a:pt x="36398" y="1400"/>
                </a:lnTo>
                <a:lnTo>
                  <a:pt x="1400" y="1400"/>
                </a:lnTo>
                <a:close/>
              </a:path>
              <a:path fill="darken" w="37798" h="21600">
                <a:moveTo>
                  <a:pt x="37798" y="0"/>
                </a:moveTo>
                <a:lnTo>
                  <a:pt x="37798" y="21600"/>
                </a:lnTo>
                <a:lnTo>
                  <a:pt x="36398" y="20200"/>
                </a:lnTo>
                <a:lnTo>
                  <a:pt x="36398" y="1400"/>
                </a:lnTo>
                <a:close/>
              </a:path>
              <a:path fill="darkenLess" w="37798" h="21600">
                <a:moveTo>
                  <a:pt x="37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8" y="20200"/>
                </a:lnTo>
                <a:close/>
              </a:path>
              <a:path fill="lighten" w="37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Прямоугольник 4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3152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3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Я в доме стар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Бекас болотная птичка, серая, величиной с воробь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вет и тепло необходимые условия жизни раст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 книгой дружить век не туж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762120" y="4876920"/>
            <a:ext cx="1371600" cy="99036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9912" h="21600">
                <a:moveTo>
                  <a:pt x="0" y="0"/>
                </a:moveTo>
                <a:lnTo>
                  <a:pt x="29912" y="0"/>
                </a:lnTo>
                <a:lnTo>
                  <a:pt x="29912" y="21600"/>
                </a:lnTo>
                <a:lnTo>
                  <a:pt x="0" y="21600"/>
                </a:lnTo>
                <a:close/>
              </a:path>
              <a:path fill="lightenLess" w="29912" h="21600">
                <a:moveTo>
                  <a:pt x="0" y="0"/>
                </a:moveTo>
                <a:lnTo>
                  <a:pt x="29912" y="0"/>
                </a:lnTo>
                <a:lnTo>
                  <a:pt x="28512" y="1400"/>
                </a:lnTo>
                <a:lnTo>
                  <a:pt x="1400" y="1400"/>
                </a:lnTo>
                <a:close/>
              </a:path>
              <a:path fill="darken" w="29912" h="21600">
                <a:moveTo>
                  <a:pt x="29912" y="0"/>
                </a:moveTo>
                <a:lnTo>
                  <a:pt x="29912" y="21600"/>
                </a:lnTo>
                <a:lnTo>
                  <a:pt x="28512" y="20200"/>
                </a:lnTo>
                <a:lnTo>
                  <a:pt x="28512" y="1400"/>
                </a:lnTo>
                <a:close/>
              </a:path>
              <a:path fill="darkenLess" w="29912" h="21600">
                <a:moveTo>
                  <a:pt x="2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2" y="20200"/>
                </a:lnTo>
                <a:close/>
              </a:path>
              <a:path fill="lighten" w="2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51460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41972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324480" y="48769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Управляющая кнопка: настраиваемая 3">
            <a:hlinkClick r:id="" action="ppaction://hlinkshowjump?jump=endshow"/>
          </p:cNvPr>
          <p:cNvSpPr/>
          <p:nvPr/>
        </p:nvSpPr>
        <p:spPr>
          <a:xfrm>
            <a:off x="838080" y="4648320"/>
            <a:ext cx="2133720" cy="1218960"/>
          </a:xfrm>
          <a:custGeom>
            <a:avLst/>
            <a:gdLst>
              <a:gd name="textAreaLeft" fmla="*/ 78840 w 2133720"/>
              <a:gd name="textAreaRight" fmla="*/ 2054880 w 21337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7805" h="21600">
                <a:moveTo>
                  <a:pt x="0" y="0"/>
                </a:moveTo>
                <a:lnTo>
                  <a:pt x="37805" y="0"/>
                </a:lnTo>
                <a:lnTo>
                  <a:pt x="37805" y="21600"/>
                </a:lnTo>
                <a:lnTo>
                  <a:pt x="0" y="21600"/>
                </a:lnTo>
                <a:close/>
              </a:path>
              <a:path fill="lightenLess" w="37805" h="21600">
                <a:moveTo>
                  <a:pt x="0" y="0"/>
                </a:moveTo>
                <a:lnTo>
                  <a:pt x="37805" y="0"/>
                </a:lnTo>
                <a:lnTo>
                  <a:pt x="36405" y="1400"/>
                </a:lnTo>
                <a:lnTo>
                  <a:pt x="1400" y="1400"/>
                </a:lnTo>
                <a:close/>
              </a:path>
              <a:path fill="darken" w="37805" h="21600">
                <a:moveTo>
                  <a:pt x="37805" y="0"/>
                </a:moveTo>
                <a:lnTo>
                  <a:pt x="37805" y="21600"/>
                </a:lnTo>
                <a:lnTo>
                  <a:pt x="36405" y="20200"/>
                </a:lnTo>
                <a:lnTo>
                  <a:pt x="36405" y="1400"/>
                </a:lnTo>
                <a:close/>
              </a:path>
              <a:path fill="darkenLess" w="37805" h="21600">
                <a:moveTo>
                  <a:pt x="37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5" y="20200"/>
                </a:lnTo>
                <a:close/>
              </a:path>
              <a:path fill="lighten" w="37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Прямоугольник 4" descr=""/>
          <p:cNvPicPr/>
          <p:nvPr/>
        </p:nvPicPr>
        <p:blipFill>
          <a:blip r:embed="rId1"/>
          <a:stretch/>
        </p:blipFill>
        <p:spPr>
          <a:xfrm>
            <a:off x="378000" y="1566720"/>
            <a:ext cx="83944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3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Я в доме старш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Бекас болотная птичка, серая, величиной с воробь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вет и тепло необходимые условия жизни раст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С книгой дружить век не туж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8380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74320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724280" y="50292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05720" y="50292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4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Хорошо учиться наш дол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Человек без веры как путешественник без компа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амое большое счастье делать людям добр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Летать выше всех моя меч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28954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914400" y="495288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876920" y="4952880"/>
            <a:ext cx="1447560" cy="914400"/>
          </a:xfrm>
          <a:custGeom>
            <a:avLst/>
            <a:gdLst>
              <a:gd name="textAreaLeft" fmla="*/ 59040 w 1447560"/>
              <a:gd name="textAreaRight" fmla="*/ 1388520 w 1447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89" h="21600">
                <a:moveTo>
                  <a:pt x="0" y="0"/>
                </a:moveTo>
                <a:lnTo>
                  <a:pt x="34189" y="0"/>
                </a:lnTo>
                <a:lnTo>
                  <a:pt x="34189" y="21600"/>
                </a:lnTo>
                <a:lnTo>
                  <a:pt x="0" y="21600"/>
                </a:lnTo>
                <a:close/>
              </a:path>
              <a:path fill="lightenLess" w="34189" h="21600">
                <a:moveTo>
                  <a:pt x="0" y="0"/>
                </a:moveTo>
                <a:lnTo>
                  <a:pt x="34189" y="0"/>
                </a:lnTo>
                <a:lnTo>
                  <a:pt x="32789" y="1400"/>
                </a:lnTo>
                <a:lnTo>
                  <a:pt x="1400" y="1400"/>
                </a:lnTo>
                <a:close/>
              </a:path>
              <a:path fill="darken" w="34189" h="21600">
                <a:moveTo>
                  <a:pt x="34189" y="0"/>
                </a:moveTo>
                <a:lnTo>
                  <a:pt x="34189" y="21600"/>
                </a:lnTo>
                <a:lnTo>
                  <a:pt x="32789" y="20200"/>
                </a:lnTo>
                <a:lnTo>
                  <a:pt x="32789" y="1400"/>
                </a:lnTo>
                <a:close/>
              </a:path>
              <a:path fill="darkenLess" w="34189" h="21600">
                <a:moveTo>
                  <a:pt x="34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89" y="20200"/>
                </a:lnTo>
                <a:close/>
              </a:path>
              <a:path fill="lighten" w="34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7816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 4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В каком предложении не ставится ти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Хорошо учиться наш дол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Человек без веры как путешественник без компа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Самое большое счастье делать людям добр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Летать выше всех моя меч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Управляющая кнопка: настраиваемая 3">
            <a:hlinkClick r:id="rId1" action="ppaction://hlinksldjump"/>
          </p:cNvPr>
          <p:cNvSpPr/>
          <p:nvPr/>
        </p:nvSpPr>
        <p:spPr>
          <a:xfrm>
            <a:off x="289548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83808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4952880" y="495288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6934320" y="4952880"/>
            <a:ext cx="1447560" cy="914400"/>
          </a:xfrm>
          <a:custGeom>
            <a:avLst/>
            <a:gdLst>
              <a:gd name="textAreaLeft" fmla="*/ 59040 w 1447560"/>
              <a:gd name="textAreaRight" fmla="*/ 1388520 w 1447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89" h="21600">
                <a:moveTo>
                  <a:pt x="0" y="0"/>
                </a:moveTo>
                <a:lnTo>
                  <a:pt x="34189" y="0"/>
                </a:lnTo>
                <a:lnTo>
                  <a:pt x="34189" y="21600"/>
                </a:lnTo>
                <a:lnTo>
                  <a:pt x="0" y="21600"/>
                </a:lnTo>
                <a:close/>
              </a:path>
              <a:path fill="lightenLess" w="34189" h="21600">
                <a:moveTo>
                  <a:pt x="0" y="0"/>
                </a:moveTo>
                <a:lnTo>
                  <a:pt x="34189" y="0"/>
                </a:lnTo>
                <a:lnTo>
                  <a:pt x="32789" y="1400"/>
                </a:lnTo>
                <a:lnTo>
                  <a:pt x="1400" y="1400"/>
                </a:lnTo>
                <a:close/>
              </a:path>
              <a:path fill="darken" w="34189" h="21600">
                <a:moveTo>
                  <a:pt x="34189" y="0"/>
                </a:moveTo>
                <a:lnTo>
                  <a:pt x="34189" y="21600"/>
                </a:lnTo>
                <a:lnTo>
                  <a:pt x="32789" y="20200"/>
                </a:lnTo>
                <a:lnTo>
                  <a:pt x="32789" y="1400"/>
                </a:lnTo>
                <a:close/>
              </a:path>
              <a:path fill="darkenLess" w="34189" h="21600">
                <a:moveTo>
                  <a:pt x="34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89" y="20200"/>
                </a:lnTo>
                <a:close/>
              </a:path>
              <a:path fill="lighten" w="34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8-04T21:14:55Z</dcterms:modified>
  <cp:revision>138</cp:revision>
  <dc:subject/>
  <dc:title>Титульный</dc:title>
</cp:coreProperties>
</file>