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D64-8407-433D-8340-42223DF5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B94-0B5F-4262-9050-09CDD586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160-9607-4427-9CE8-14DE1535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B0F-8061-4AE6-8383-B7E917ED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ED9C-0F0C-42B4-A551-CBF280EA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093D-7940-4B68-9FF8-2DB97E8A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81BD-3174-4A6D-96BA-72D97C7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713A-3189-4B76-B986-1A6B3ECF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A04-2959-49AD-B806-2F007F03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DA2-BB6D-4EB1-9AD0-BB6EAEF2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2B01-1BF0-4BBA-9921-3A9A5F0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A43-4673-47FA-8E49-B1FC0093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B20A-7CFB-4D7C-B569-1B01C3D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F361-7DD8-4CBD-9E7E-98A4CB09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8608-F6FA-4F1F-9D0F-8181A067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C76E-C436-45BA-A6B3-0514D7F6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4AC9-E649-44D8-8312-382A2DC9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C0D0-2EDD-499E-952C-BEA75B60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18A8-57EB-4A70-AACA-46F70F52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8D1D-125E-4616-B1BF-2264FB72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3D98-D014-4DEF-9FD6-5D423F31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6A43D-C9AE-46A1-9637-7A2B205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B03-E491-4723-8E1E-236697A0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5E13-D9C3-41AF-BDB6-2845028B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F1BC-DD01-4D57-B863-7EC75CC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0F2F-DDFE-44A0-86A2-5CD2A28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356C-1068-43E6-8049-A3E7C67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1FC8-BE43-4824-AEA2-5A835D58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6875-3A19-4CF5-B83D-84CC98AD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CE08-C372-49ED-92F7-868B2819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E887-AA3B-4D58-B68B-63EB7344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C381-CFF9-4D74-A712-E55F14C5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A442-038B-4A0E-ACFA-EA0B36FA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767-91D4-4753-A5A9-A094F72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4A04-96C3-47C1-8FEB-1A91E422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9640-D9CA-498C-BC06-42617DCB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E4DD-9079-4B1F-AA01-D9A5B76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235E-9E22-4913-B690-86FC6F7F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90DD-8F5C-4DE4-8489-D0C3669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9CBE-61FF-4295-B4FA-64BB9F8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8D53-DACE-4A1F-87C0-7A40278D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46C9-79FD-4B15-BC5F-68541B52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117B-E3DD-43AD-829C-6F83D9F4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9F2-58C9-44F1-895B-8E17A4B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F15-6765-4CBA-BAF2-6EE6849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EC7-8C47-4588-9A46-590CA17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515-9FB1-4D33-B9E6-46F505D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DA2-AEBD-4117-9281-094A632A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501B-4E45-41D5-8652-E1A34572D219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A662-C074-4BFA-9C74-376A1EA99A8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B8DE-B761-4F1E-9962-93737BE6F8A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E9A-76D5-4AF8-A2E5-B9081E3DC2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99F1-0181-447C-AD84-2FAC855FE9DD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4376-1EA8-4909-823A-157ED37BC8C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44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8267-1D99-44DA-B403-C73F22641D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FA96-B65E-435F-885E-F5224A0F41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6760" y="1500120"/>
            <a:ext cx="83883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ffff00"/>
                </a:solidFill>
                <a:latin typeface="Arial"/>
              </a:rPr>
              <a:t>Отображение информации </a:t>
            </a:r>
            <a:br>
              <a:rPr sz="5500"/>
            </a:br>
            <a:r>
              <a:rPr b="1" i="1" lang="ru-RU" sz="5500" spc="-1" strike="noStrike">
                <a:solidFill>
                  <a:srgbClr val="ffff00"/>
                </a:solidFill>
                <a:latin typeface="Arial"/>
              </a:rPr>
              <a:t>с помощью аудио и видео средств ВТ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11280" y="4214520"/>
            <a:ext cx="8137440" cy="21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09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конструкции, качества LCD-панелей, мощности и типа лампы мультимедиа-проекторы могут создавать различный световой поток и, соответственно, получать различную яркость изображения на экран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4391-77FB-46C3-B7E5-2161745B30D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гие модели мультимедиа-проекторов оснащаются встроенными громкоговорителями для воспроизведения, например, звуковой дорожки видеофиль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B1B-0D92-4BF9-9DA6-76D0C2805EB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Жидкокристаллические LCD-мониторы (ЖК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4200" y="201780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Разработаны для использования                                   в общественных местах:                                         для отображения справочной информации в аэропортах и на                      вокзалах или рекламы в                          супермаркетах и торговых                             центрах, в качестве мониторов в конференц-залах или дисплеев систем видеонаблюдения и др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5C6-137E-4C1D-B749-3BFC52807AB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ЖК-дисплей"/>
          <p:cNvPicPr/>
          <p:nvPr/>
        </p:nvPicPr>
        <p:blipFill>
          <a:blip r:embed="rId1"/>
          <a:stretch/>
        </p:blipFill>
        <p:spPr>
          <a:xfrm>
            <a:off x="6286680" y="1714680"/>
            <a:ext cx="264924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зменные диспле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ран плазменного дисплея может быть намного больше телевизионного, при этом он не испускает вредных электромагнитных излуч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мимо размеров, основным достоинством панели является более высокая, чем у телевизоров и мониторов, контрастность изображения и угол обзора - 160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BDD2-18C8-40A6-9D11-49066B3EAE2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зменные диспле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зменные дисплеи также отличаются от кинескопов отсутствием мерцания изображения, что позволяет зрителям не утомляться при просмотре сеансов в домашнем кинотеатр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F00-F2E7-422F-9D1F-12B818003D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зменные диспле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ерхность плазменного дисплея состоит из пикселей, каждый из которых имеет 3 ячейки - источники трех основных цветов - красного, зеленого и синег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AB2A-99D1-49D8-9952-7963D725CBF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зменные диспле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чейка представляет собой герметичную стеклянную емкость прямоугольной формы, заполненную газом в плазменном состоянии, и покрытую изнутри цветным фосфор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C36C-27B5-4967-A40B-CE02DF483C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зменные диспле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2017800"/>
            <a:ext cx="535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одаря абсолютной плоскостности экрана панели, отсутствуют искажения изображения, характерные при работе с телевизионным или мониторным экран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243-E30E-4CCE-92CC-086B6078820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Плазменный дисплей"/>
          <p:cNvPicPr/>
          <p:nvPr/>
        </p:nvPicPr>
        <p:blipFill>
          <a:blip r:embed="rId1"/>
          <a:stretch/>
        </p:blipFill>
        <p:spPr>
          <a:xfrm>
            <a:off x="5857920" y="178596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лазменные диспле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плазменных панелей отсутствует неравномерность изображения от центра к краям экрана, характерная для проекционных телевизоров, что значительно увеличивает угол обзо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5EE-6813-45AC-A1B3-9135E5CAE3C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терактивная доска (ИД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480" y="2017800"/>
            <a:ext cx="642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устройство, позволяющее лектору или докладчику объединить два различных инструмента: экран для отображения информации и обычную маркерную доск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FC8-C78F-4FA9-AB87-550D284FC90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21_04"/>
          <p:cNvPicPr/>
          <p:nvPr/>
        </p:nvPicPr>
        <p:blipFill>
          <a:blip r:embed="rId1"/>
          <a:stretch/>
        </p:blipFill>
        <p:spPr>
          <a:xfrm>
            <a:off x="6500880" y="1500120"/>
            <a:ext cx="2286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BFD9-AF65-4318-AD46-062EFA063A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Традиционные средства отображения информаци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инопроектор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апроектор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левизор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ниторы компьютер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терактивная доска (ИД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 началом работы ИД подключается к компьютеру и проектор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нее, как на экран проецируется изображение от любого источника (компьютерного или видео сигнала), с которым Вы теперь можете работать прямо на поверхности дос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04D-1587-4CF7-A8D9-13947AE16F8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терактивная доска (ИД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нипуляции компьютерной мыши осуществляются касанием поверхности, тем самым докладчик имеет полный доступ к управлению компьютер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8EE-E7BA-4573-9556-3AB5978B258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терактивная доска (ИД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ска позволяет показывать слайды, видео, делать пометки, рисовать, чертить различные схемы, как на обычной доске, в реальном времени наносить на проецируемое изображение пометки, вносить любые изменения и сохранять их виде компьютерных файлов для дальнейшего редактирования, печати на принтере, рассылки по факсу или электронной почт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C700-352F-4B2A-A8C5-94C2F12F63B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терактивная доска (ИД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13840" y="201780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сь на интерактивной доске                                                 ведется специальным                                         электронным пером или даже                                пальце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кладчик, взяв в руки специальный маркер, может работать с изображением на экране: выделять, подчеркивать, обводить важные участки, рисовать схемы или корректировать их, вносить исправления в текс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83EB-A40D-45B7-BD8B-1DFF51D13C1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21_05"/>
          <p:cNvPicPr/>
          <p:nvPr/>
        </p:nvPicPr>
        <p:blipFill>
          <a:blip r:embed="rId1"/>
          <a:stretch/>
        </p:blipFill>
        <p:spPr>
          <a:xfrm>
            <a:off x="6035760" y="1143000"/>
            <a:ext cx="2867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нтерактивная доска (ИД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нсорные устройства                                   "улавливают" прикосновения,  и транслируют в                                   соответствующие                                      электронные сигналы,                               отражающие движение пишущей ру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3B6E-B180-4BD3-93D5-87F96E455C3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21_06"/>
          <p:cNvPicPr/>
          <p:nvPr/>
        </p:nvPicPr>
        <p:blipFill>
          <a:blip r:embed="rId1"/>
          <a:stretch/>
        </p:blipFill>
        <p:spPr>
          <a:xfrm>
            <a:off x="6572160" y="1357200"/>
            <a:ext cx="25718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екционные экран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480" y="2017800"/>
            <a:ext cx="642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бходимый размер проекционного экрана зависит от площади помещения, количества зрителей, мощности проекционного устройства и условий освещения во время просмотр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873-513B-4840-9F08-E9E6758621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21_07"/>
          <p:cNvPicPr/>
          <p:nvPr/>
        </p:nvPicPr>
        <p:blipFill>
          <a:blip r:embed="rId1"/>
          <a:stretch/>
        </p:blipFill>
        <p:spPr>
          <a:xfrm>
            <a:off x="5857920" y="3075120"/>
            <a:ext cx="3286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бор проекционного экра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ижайшие зрители должны находиться на расстоянии в 2 ширины экрана, а самые дальние - на расстоянии 6 диагонале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9CA3-96DA-4E92-A78D-31507434303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бор проекционного экра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олотно экрана, включая нижнюю часть, должно быть видно с любого зрительского места, в том числе с самых дальних и угловы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52F7-AAD2-4CFB-B3DA-5FB0B7769F1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бор проекционного экра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Если пол помещения горизонтальный, расстояние от него до нижнего края экрана, скорее всего, составит около 1,5 м, тогда для небольших помещений - учебного класса или комнаты для совещаний - допустимый размер экрана по вертикали будет определяется высотой, остающейся до потолка помещения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F91B-BA2F-4AE5-B5B3-83AC0E2E344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бор проекционного экра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проекции компьютерных и видеоизображений экран должен иметь соотношение сторон 4:3 соответствен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8BA9-45FC-4A63-AB7E-FD3EACAACAC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Новые средства отображения информа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льтимедийные проектор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LCD-монитор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зменные панел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стенные экран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активные доск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ншет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лексы для образования и целые интегрированные системы управл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24CA-8598-464D-B36E-507C2B39381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ыбор проекционного экра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время для видео и даже для некоторых современных компьютеров все шире применяются дисплеи формата 16:9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E40-4B10-4EFB-80C6-B90BBAADFCB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итуационные цент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ого, чтобы принимать оптимальные решения с минимальными затратами времени, создается такой инструмент как ситуационный центр или ситуационная комна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145C-41BF-4CEC-8F64-3BB34071EFC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итуационные цент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туационный центр также дает возможность промоделировать варианты развития событий, продумать последствия тех или действий заранее, не дожидаясь наступления кризисной ситу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D041-007A-4F6A-BDEC-46A5B569307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сновные задачи ситуационных центр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ниторинг состояния объекта управления прогнозирование развития ситуации на основе анализа поступающей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елирование последствий управленческих решений, на базе использования информационно-аналитических сист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C9C7-0D02-431E-996B-CE281C0065C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сновные задачи ситуационных центр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пертная оценка принимаемых решений и их оптим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 в кризисной ситуа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7EA-E3E2-4232-B46E-7F02241A42C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ff0000"/>
                </a:solidFill>
                <a:latin typeface="Arial"/>
                <a:ea typeface="Arial"/>
              </a:rPr>
              <a:t>Техническое оснащение ситуационных центров</a:t>
            </a:r>
            <a:endParaRPr b="0" lang="en-US" sz="5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9063-E136-4BED-9495-2CBC1591BE2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Экран коллективного поль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ран может представлять собой видеостену или проекционную установк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9668-FDF5-408B-B4A4-13A79026B06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21_08"/>
          <p:cNvPicPr/>
          <p:nvPr/>
        </p:nvPicPr>
        <p:blipFill>
          <a:blip r:embed="rId1"/>
          <a:stretch/>
        </p:blipFill>
        <p:spPr>
          <a:xfrm>
            <a:off x="4643280" y="3143160"/>
            <a:ext cx="4189680" cy="3143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21_09"/>
          <p:cNvPicPr/>
          <p:nvPr/>
        </p:nvPicPr>
        <p:blipFill>
          <a:blip r:embed="rId2"/>
          <a:stretch/>
        </p:blipFill>
        <p:spPr>
          <a:xfrm>
            <a:off x="357120" y="3143160"/>
            <a:ext cx="41893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еостен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емы мультиэкранного отображения данных различного вида (электронные карты, видеоизображения, графики и диаграммы, текстовая документация в электронном виде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09E8-655C-4611-BB87-0D14F271C1C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еостен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назначены для коллективного пользования и, благодаря модульной конструкции, могут быть сконфигурированы индивидуально под конкретные помещения и зада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8F6B-5BD5-4910-9775-7EEB485E032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еостен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ючевым свойством для видеостен является разрешение и, соответственно, информационная емкость, позволяющая представлять на одном экранном поле множество "окон", содержащих полноценные изображения от множества источ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F785-835D-4342-8233-CF141333140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ультимедиа-проекто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льтимедиа-проектор предназначен для воспроизведения на большом  экране информации, получаемой от компьютера, видеомагнитофона, видеокамеры, проигрывателя DVD-дис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C48-FB31-41B8-A366-B2D9B15F3E0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21_00"/>
          <p:cNvPicPr/>
          <p:nvPr/>
        </p:nvPicPr>
        <p:blipFill>
          <a:blip r:embed="rId1"/>
          <a:stretch/>
        </p:blipFill>
        <p:spPr>
          <a:xfrm>
            <a:off x="2857680" y="4572000"/>
            <a:ext cx="39859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редства видеоконференц-связ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ают изображение и звук по телекоммуникационным сетям и используют различные конфигурации связных терминалов - как в виде автономных устройств, так и на базе персональных компьютеров, являются необходимыми в ситуациях, когда происходит работа между удаленными участниками совещ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2275-4D15-41DB-870E-5C3D9E9386B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редства видеоконференц-связ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остав любого видеоконференционного терминала входят видеокамера, микрофон, кодек, устройство отображения видео и устройство воспроизведения зву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EB0-EC6C-4613-BF35-CB4EFD6046B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21_10"/>
          <p:cNvPicPr/>
          <p:nvPr/>
        </p:nvPicPr>
        <p:blipFill>
          <a:blip r:embed="rId1"/>
          <a:stretch/>
        </p:blipFill>
        <p:spPr>
          <a:xfrm>
            <a:off x="2857680" y="4071960"/>
            <a:ext cx="417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0150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Высококачественные звуковые системы, включающие специальные звуковые конференц-систем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2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0C5-DF36-44A9-805D-43339FC015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Звуковое оборудование ситуационного центра"/>
          <p:cNvPicPr/>
          <p:nvPr/>
        </p:nvPicPr>
        <p:blipFill>
          <a:blip r:embed="rId2"/>
          <a:stretch/>
        </p:blipFill>
        <p:spPr>
          <a:xfrm>
            <a:off x="1471680" y="1928880"/>
            <a:ext cx="7176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ий принцип устройства LCD-проекторов напоминает кино- или слайд-проектор, только вместо пленки применяется прозрачная жидкокристаллическая панель, на которой с помощью цифровой электронной схемы создается картин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4F33-F771-4258-9CAB-88AE287EB5F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ет от лампы проходит через панель и объектив, и на экране воспроизводится изображение, увеличенное во много ра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DB3A-427A-40A0-A0B4-AB121E6E1EA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Мультимедиа-проектор"/>
          <p:cNvPicPr/>
          <p:nvPr/>
        </p:nvPicPr>
        <p:blipFill>
          <a:blip r:embed="rId1"/>
          <a:stretch/>
        </p:blipFill>
        <p:spPr>
          <a:xfrm>
            <a:off x="2643120" y="3772080"/>
            <a:ext cx="44420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DLP-проекторах свет отражается от поверхности специального чипа (микросхемы) размером примерно 15 х 11 мм, на которой находится около 800000 микрозеркал, формирующих изображение и также через объектив попадает на экр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C673-82C2-43FB-9EE4-B7678C4C04F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получения цветного изображения в LCD-проекторах используются три панели - для красного, зеленого и синего цветов раздель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4B16-DB0F-4BC5-BE0B-EDDA09D701F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недорогих DLP-проекторах составляющие цвета один за другим проецируются на экран с большой частотой (одночиповая схема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и микрозеркальных чипа для составляющих цветов применяются в высококачественных, профессиональных мультимедиа-проекто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F614-ED27-464F-ACC1-FB68F614393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6:03:54Z</dcterms:created>
  <dc:creator>БВА</dc:creator>
  <dc:description/>
  <dc:language>en-US</dc:language>
  <cp:lastModifiedBy>Борисов В.А.</cp:lastModifiedBy>
  <dcterms:modified xsi:type="dcterms:W3CDTF">2009-04-16T09:30:44Z</dcterms:modified>
  <cp:revision>444</cp:revision>
  <dc:subject/>
  <dc:title>Информация и информационные процессы</dc:title>
</cp:coreProperties>
</file>