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23CB-1DEC-44D3-9A35-41A47B8E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6927-22AB-4CE2-980C-35DDDC18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434E-C670-4810-A289-6EF947769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1169-1AE1-4AD6-8560-908F46D1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D596-F806-417D-9583-279C62F8A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5137-427F-49A1-B27F-3D868D6E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9EA5-9518-48FD-AB69-0A8CD3A6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AE84-4368-45ED-98C7-3E4F12C0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FE82-63C1-4253-8634-907174B0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A5D8-06CD-412A-9848-EFB256E5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6082-5B96-4D65-8AC1-EDD9BF33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5E75-DC73-4308-9F57-8D054E0D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66D5-780D-4369-B2A9-F5155DEF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A031-BDD5-4F99-90D3-1465A496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C47E-95DF-4255-BC77-356514F1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DDD9-1D04-4FBD-95CA-669252F60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4BDD-5F4F-4894-AB63-D31AED41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A2CA5-47D3-434A-9E02-AC0049156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0FF7E-B8E3-4A73-B468-84A79C52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C0549-4D9D-41CB-B546-016A2A16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40728-182F-4EAE-A688-40AE1408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65FD7-9A3B-42AD-B535-DC8828A4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006D-F2A9-44F3-AD51-AF79709F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01769-C795-45E8-A367-0593274B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2CF16-9B48-469C-9C51-B8D8F809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99E59-8A46-4C99-B8AD-31A8DCF4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F453D-9056-4934-98DE-7022523C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0355D-31AA-4AD1-BD2F-D9556C92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CF98B-5C21-48A5-ACF6-CB75F9779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059B3-121D-4A8E-931A-59EE42EE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8C846-071A-4016-84AA-A17C581C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02AEB-E148-479D-B740-C6496903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40C68-FB1B-454F-B39D-5D9E1901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D286-828D-4F92-9BC0-E93B3CB0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454A2-A53C-4046-A5DE-0FCFD6A7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A3C04-7C21-4DE8-B88A-BE536123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8DC6A-4143-47B3-A1B0-CFD9B46F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348BD-F9C9-4A48-808E-15C73A56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C0B50-D4A5-4BB3-8DAD-8E1581BF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E7F54-9EA3-476C-B0C8-F3520A71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45E5B-E7F2-4835-A799-06107545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2DBC5-31C9-4A73-A442-3547E5501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E1B73-2771-4EF4-813D-8D61BF74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6F5A-A8D9-4779-8A99-2A842657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54FD-3EC2-47A3-8C00-D6D61015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74C3-4733-4B54-8273-FF98668D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1684-807D-4488-B80F-C596B2AE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722D-481B-41E8-AAB1-893AB5BE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CDC0-679F-4951-8396-61DA60E51E24}" type="datetime">
              <a:rPr b="0" lang="ru-RU" sz="1400" spc="-1" strike="noStrike">
                <a:solidFill>
                  <a:srgbClr val="000000"/>
                </a:solidFill>
                <a:latin typeface="Tahom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763C-4233-453B-8441-70F487BF835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9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851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7A27-24F6-4AF2-A98C-D56831E4AEE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C427-FE1F-4FC5-AC64-A8C11076B34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3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94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97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1837-650D-4C04-B0ED-CD410549D2BC}" type="datetime">
              <a:rPr b="0" lang="ru-RU" sz="1400" spc="-1" strike="noStrike">
                <a:solidFill>
                  <a:srgbClr val="1c1c1c"/>
                </a:solidFill>
                <a:latin typeface="Tahom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B7D8-37BE-4EBF-BFF5-78CFA986A918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144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2851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4D5A-900D-4699-A2E7-F2841C798E0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1A61-B73B-49F6-9E05-97A9DFA763B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56760" y="1499760"/>
            <a:ext cx="8388360" cy="20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Arial"/>
              </a:rPr>
              <a:t>Классификация типов информации</a:t>
            </a:r>
            <a:r>
              <a:rPr b="1" i="1" lang="ru-RU" sz="49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11280" y="4005000"/>
            <a:ext cx="8137440" cy="220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 В.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 2009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76A8-5697-4F59-940F-B89B433F071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казатели качества, которые можно выразить числом называют количественными характеристиками положительных свойств информа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7E37-5372-4C65-A984-B30507EC76F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того, чтобы определить набор важнейших показателей качества, необходимо оценить информацию с точки зрения ее потребител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8012-E6D0-4FE3-B4CA-3C85832BD25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415360" cy="37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500" spc="-1" strike="noStrike">
                <a:solidFill>
                  <a:srgbClr val="ff0000"/>
                </a:solidFill>
                <a:latin typeface="Tahoma"/>
              </a:rPr>
              <a:t>Свойства информации</a:t>
            </a:r>
            <a:endParaRPr b="0" lang="en-US" sz="5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7E19-A73D-4CDF-B3DB-0769035CD5E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Релевантно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ность информации соответствовать нуждам (запросам) потребител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3858-FB56-4CBA-868D-3729EE2561C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олн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войство информации исчерпывающе (для данного потребителя) характеризовать отображаемый объект  или процесс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3DC3-D712-43E2-A391-A7465610633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Своевременно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ность информации соответствовать нуждам потребителя в нужный момент времен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22E8-9104-4523-B152-EF8DDF873FA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Достоверно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войство информации не иметь скрытых ошибок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0302-25CE-4FA2-A36C-4ED6365378D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Доступно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войство  информации,  характеризующее возможность ее получения данным потребителе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79C8-C6BF-4B85-9729-71A1A751881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Защищенно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войство, характеризующее невозможность несанкционированного использования или измен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7CDD-6B9F-43DA-8C84-0C57890FB17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Эргономично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войство, характеризующее удобство формы или объема информации с точки зрения данного потребител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90BE-3C3D-4DF7-A7D6-F699C3D752E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E528-036C-42E7-9E93-74E673B1705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87280" y="213840"/>
            <a:ext cx="7756560" cy="13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Виды информац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39200" y="2060640"/>
            <a:ext cx="8704440" cy="36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кстовая информац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исловая информац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формация о дате и времен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вуковая информац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рафическая информация, анимация и видеофильм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ециальная двоичная информац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0CC9-2A92-4988-823C-B8D170DCDA1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8116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Классификация информации 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    по потребителю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литическа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хническа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иологическа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имическая и т.д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47AD-4179-4C53-ADF7-3E3076FFEC9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Научная информац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огическая, адекватно отображающая объективные закономерности природы, общества и мышлени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0C17-7FB0-4335-BB03-3AF266B4129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Адекватно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войство информации однозначно соответствовать отображаемому объекту или явлению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A4AC-1696-4D59-AE86-41F8AFDB309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Внутренние свойства информац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ъем (количество) информаци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е внутренняя организация, структур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222C-EE83-43B6-8285-D5317CEFCAA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о способу внутренней организации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нные или простой, логически неупорядоченный набор сведени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огически упорядоченные, организованные наборы данных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E97E-6E59-4E04-8088-FEC357E5546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Зн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обым образом организованная информаци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нания представляют собой информацию не о каком-то единичном и конкретном факте, а о том, как устроены все факты определенного тип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D87C-02E2-4156-A418-8D3A9C8FFDF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Живуче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ность информации сохранять свое качество с течением времен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1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E0F7-F0AD-444D-ABAD-5E703CEF5AC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никальной называют информацию, хранящуюся в единственном экземпляр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274B-C896-40A3-AA2E-CDC461A0891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Информация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енетическая информац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еологическая информац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иноптическая информац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ожная информация (дезинформация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лная информац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ческая информац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хническая информация и т.д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0955-D379-4F77-A163-70AB867F0B5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войства объектов можно разделить на два больших класса: внешние и внутренни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4D80-8B72-4AD2-B911-28CE3746599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Внутренние свойст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войства, органически присущие объекту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73B1-E3C2-4BB2-9B57-7D0DD2744A4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Внешние свойст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войства, характеризующие поведение объекта при взаимодействии с другими объекта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63AC-C292-4707-AFD2-88D5D722962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Объекты взаимодействия информации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точник информации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емник информации (ее потребитель)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ъект или явление, которые данная информация отражает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34F2-FA7A-46CF-AEB2-E710255B0F4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ачество информац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общенная положительная характеристика информации, отражающая степень ее полезности для пользовател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A1BA-158E-40FC-87E9-85EE531A94F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оказатель качест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дно из важных положительных свойств информации (с позиции потребителя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0T16:03:54Z</dcterms:created>
  <dc:creator>БВА</dc:creator>
  <dc:description/>
  <dc:language>en-US</dc:language>
  <cp:lastModifiedBy>Борисов В.А.</cp:lastModifiedBy>
  <dcterms:modified xsi:type="dcterms:W3CDTF">2009-03-26T09:40:14Z</dcterms:modified>
  <cp:revision>297</cp:revision>
  <dc:subject/>
  <dc:title>Информация и информационные процессы</dc:title>
</cp:coreProperties>
</file>