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6F1-4193-41EF-A869-4B986DDF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C1E-1D3E-498B-A6A9-5422BF6E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B10-D0B7-495D-AA53-1EE01E42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C4F-229F-46FE-BCE9-99198AE6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CD68-DB0C-40F7-A461-C3B4E092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A682-D405-498B-B049-8AA0EB7D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1E28-1DE4-4E6E-BE36-52DE3FD9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ED2B-6109-40B4-B452-0F14C6D9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7FAD-C112-4349-9643-7257AAA2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CEF7-FD24-4AB6-A0CA-53D5B914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8EAA-D853-4B42-B6AE-67E12FF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BEE-2BCE-4DD2-B452-EAA34D1A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4FA1-B776-42FC-B27D-0B53C463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5D4E-FEA5-486A-9382-FB4CAFB7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55B1-2575-4785-A7CD-4E496BE2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AFBF-5766-4EC6-8110-459A484D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73A2-BB3A-4198-A95C-0C6E64ED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D2D1F-8117-4D27-9A2B-978E6BC9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25C14-2BFE-4AEF-899D-5B139BF6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2360-93BF-4B90-9C72-55EE4790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8466E-8102-4FFB-B8EC-A680EAA9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4DAC2-8392-4E6D-B312-821C8F72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363-5812-407B-9D86-055729F7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5FFD8-EA95-4658-AF72-61172653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7AF0-AEA4-497A-8BC5-F5F737D9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142B-0A94-4A57-BAFB-BECBC5B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BB77-4E90-4CFD-90CB-2073C301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E9E3-7C09-4EFC-A020-6CC7D950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94BA-D24E-4A12-A123-4FCC92FF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D28C-264B-4FC7-A9A9-DC4E16F3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580BC-952A-415B-828D-0F0205B7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43E06-2AF1-4E5E-AA51-320B447C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9E443-983F-41C6-A608-ACF211D6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BF6-BD52-438F-B2CD-C0138A2E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EFE10-9F8D-4A06-BCE8-126B7929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412F-016F-4E10-A537-0F8C1A90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B30F0-3D18-4BD2-B9CF-43E49AC5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BFA6-214B-4461-B43B-E0E3377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CE06E-C044-4889-847F-B744CE29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28C5-D17C-4D15-8764-C75DB823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EDD63-28FE-4496-9DEA-75EB161A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F47FC-7362-413A-9C82-39DC9865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6BDF-0B1D-43E1-AAD5-6F17854E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DC6-3B3E-4B84-B5C5-2863E2D6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E70-1146-4B38-8AD3-11999B16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307-5B66-4DAE-B15E-092D25ED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8BA-9525-4D24-A580-64681180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83B-680C-4FF3-A4A6-E29D4544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7ED2-31AC-4F6C-911C-62A72DAE571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011E-1E24-4FEC-A4C6-05E3825087D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0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10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8EC9-4E23-422D-9274-0B429281714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5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6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63A8-530A-4BFE-840F-B5E646AFCA7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Технологии создания и обработки графической информации, работа с фрагментами изображений. Графический редактор </a:t>
            </a: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Paint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4149360"/>
            <a:ext cx="8748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Борисов В.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расноармейский филиал ГОУ ВПО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Академия народного хозяйства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расноармейск 2008 г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C510-4469-457D-94BD-B88DFF8AF7D6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 векторных графических изображений растровые получаются довольно легко, и все векторные редакторы содержат средства сохранения своих изображений в нескольких распространенных растровых формата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ерация получения векторных графических изображений из растровых носит название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екторизац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ображ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C0CE-8172-4DAB-A542-0D6B0C999EB6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Tahoma"/>
              </a:rPr>
              <a:t>Характеристики представления графической информации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BC2A-BBB5-442B-8C97-E63A036FCA47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11280" y="19890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екторное представление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 хранится в виде набора графических объек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стровое представление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ображение хранится в виде описания отдельных пиксел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Line 20"/>
          <p:cNvSpPr/>
          <p:nvPr/>
        </p:nvSpPr>
        <p:spPr>
          <a:xfrm>
            <a:off x="611280" y="321300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10B4-45E7-45C7-9319-E13DCB87B01F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11280" y="19890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йлы занимают мало мес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р файла не зависит от размеров изображ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йлы занимают много мест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змер файла зависит от размеров изображе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Line 11"/>
          <p:cNvSpPr/>
          <p:nvPr/>
        </p:nvSpPr>
        <p:spPr>
          <a:xfrm>
            <a:off x="611280" y="321300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1F2F-76FA-4033-B5E2-27C4576A7D2C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11280" y="198900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чное позиционирование графических объектов и их привяз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ается цвет только всего объек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т четкого позиционирования, нет описания объект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чная полутоновая цветопередач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Line 11"/>
          <p:cNvSpPr/>
          <p:nvPr/>
        </p:nvSpPr>
        <p:spPr>
          <a:xfrm>
            <a:off x="611280" y="429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2E20-18C8-480B-8640-4A6C62A474B3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539640" y="1989000"/>
          <a:ext cx="8209080" cy="4711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51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гко масштабируются и трансформируются без потери каче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 математические описания объектов, свое для каждого графического реда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сштабирование приводит к потере каче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 поточечное описание изображения, обычно используется набор нескольких стандартных формато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Line 11"/>
          <p:cNvSpPr/>
          <p:nvPr/>
        </p:nvSpPr>
        <p:spPr>
          <a:xfrm>
            <a:off x="539640" y="350028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1A86-68EF-4CFF-9C13-78EA5DB013FD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24000" y="1989000"/>
          <a:ext cx="8496000" cy="4956480"/>
        </p:xfrm>
        <a:graphic>
          <a:graphicData uri="http://schemas.openxmlformats.org/drawingml/2006/table">
            <a:tbl>
              <a:tblPr/>
              <a:tblGrid>
                <a:gridCol w="4249440"/>
                <a:gridCol w="4246560"/>
              </a:tblGrid>
              <a:tr h="53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жет быть сохранено в различных растровых формат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жет использоваться для автоматического создания программными средствами графических объектов и аним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вод в векторный формат очень сложен и требует большой ручной работ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жет использоваться как основа при создании векторных графических изображений и анимаци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Line 11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D8CF-F767-44BF-AD3F-4F7B8FE9E191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95280" y="1989000"/>
          <a:ext cx="8424720" cy="47847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2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в инженерной графике, автоматизированном проектировании, конструировании, создании TRUE TYPE-шрифтов, электронной картографии. Всюду, где нужна высокая четкость, масштабируем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в обработке изображений высокого фотографического качества, где важна цветопередача. Используется при передаче изображений в Интернете, выводе на печать и полиграф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8208-69ED-4D52-8DE6-7289D4628673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два основных параметра представления графики —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разреш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resolution) 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описание цве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зываемое часто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глубина цве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color depth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CBF8-924E-4F2A-AA13-4E33F97A3F89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азреш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яется количеством пикселов изображения, и, чем больше пикселов может содержать изображение, тем выше разрешение графической информац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621A-E542-45F7-A4BC-BE7FE9496CA7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бщие свед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ahoma"/>
              </a:rPr>
              <a:t>Существует более полусотни различных форматов хранения графических данных.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C1A4-0ACB-4E65-9C3B-8A3C4C55461E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лубина цве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яется количеством цветов, которые могут быть использованы при формировании и хранении изображ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о изображаемых цветов определяется объемом памяти, который отводится для хранения цвета каждого пикс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7CDD-CE96-473F-89A4-6F1697DBD28B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ображение может быть представлено только двумя цветами — черным и белы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ое изображение называется двухцветное изображе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C1BF-6734-4420-8C71-53B657600CF8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енная память хранит номер цвета соответствующего пиксел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ображение с таким способом хранения называется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изображение с прямой цветопередач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или изображение фотографического качества (true color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03B-BD7F-4601-ACAD-529BFC6626D9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Tahoma"/>
              </a:rPr>
              <a:t>Способы передачи цветов в графических файлах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8236-18EB-44BA-993F-B1139D939945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RGB (Red-Green-Blue: красный—зеленый—синий)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ответствует разновидностям рецепторов человеческого глаза, которые чувствительны как раз к этим основным цвета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вет передается тремя пучками указанных цве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яя интенсивность каждого пучка, можно получить весь диапазон цветовой палитр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E831-8257-49F9-BEAB-63C2AF66FDF2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CMYK (Cyan-Magenta-Yellow + BlacK: голубой—пурпурный—  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        желтый + черный)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уются «дополнительные» к RGB три цвета и, кроме того, черный цве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этому принципу печатают цветные принтер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истеме CMYK каждый цвет описывается процентом соответствующего цвета палитр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7FAD-820B-4C69-8F57-3E85F7614642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HSB (Hue —Saturation — Brightness: оттенок—насыщенность—яркость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42600" y="2017800"/>
            <a:ext cx="831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уется при работе с изображениями и ориентирована на интуитивное представление о цветопередач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8660-9F7F-4A78-8AB7-54F5D836BB80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>
            <a:grayscl/>
          </a:blip>
          <a:srcRect l="10032" t="19065" r="17362" b="5223"/>
          <a:stretch/>
        </p:blipFill>
        <p:spPr>
          <a:xfrm>
            <a:off x="2268360" y="1943280"/>
            <a:ext cx="511200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D3A5-AD35-49AB-9EDD-70CFA910E1E7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яют два вида изображений: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контур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line art) 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лутонов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photographic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турное изображение ограничивается несколькими простыми цветами или вообще является черно-белы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утоновое содержит фотографическое качество цве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1D45-0EAD-48C7-BCA1-85498303145A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тровые изображения не могут храниться в своем первозданном вид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эффективного хранения и передачи растровых изображений используют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методы сжат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compress) 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специальные фильт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filtering). Эти способы позволяют уменьшить объем хранимой или передаваемой информац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5608-C59D-4170-820D-87CED447F6B6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ичины многообраз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ногие разработчики предпочитают для своих программ создавать специальные, более простые форматы описания изображений, вместо того, чтобы использовать и адаптировать уже известные, но сложные форма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 работе с графикой приходится учитывать постоянное развитие аппаратных возможностей техни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разных видов изображений существуют свои естественные формы хран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4ECE-FD82-486D-B63E-9C0AF57C00B5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ин из самых первых алгоритмов сжатия называется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групповое кодир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состоит в замене последовательного описания пикселов описанием одинаковых групп пиксел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0293-8B58-44C2-9984-972BC40BDDB5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угой алгоритм основан на прогнозе цветов соседних пикселов и называется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методом прогноз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ачестве методов прогноза для обработки фотографических изображений используются алгоритмы усреднения значения цвета пиксела по значениям цветов окружающих пиксел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FA6C-E6E5-4B9B-876D-DB263DF9447B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ним из способов решения проблем эффективного сжатия является сжатие с потеря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мысл этого подхода в том, что для лучшего сжатия некоторые данные при сжатии отбрасываю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EDAA-8A4D-4DAD-AE08-6D592139E895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ин из лучших и наиболее известных методов такого сжатия — это метод JPEG, названный так по имени организации, создавшей этот мето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од основан на том, что человеческий глаз более чувствителен к изменению яркости, чем к изменению цвета, а также лучше понимает плавные переходы цвета, чем его резкие измене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7EED-E0AE-4D2B-A9CF-0DD9499168FB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JPEG более корректно запоминает яркость, чем сам цвет, а также поддерживает плавные переходы цвета вместо резких измене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JPEG очень хорошо сжимает фотографические изображения, но снижает четкость контурных линий, появляется эффект «размытости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C0E2-D53B-4CEF-B01A-911CAFBD7C1F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0000"/>
                </a:solidFill>
                <a:latin typeface="Tahoma"/>
              </a:rPr>
              <a:t>Типы </a:t>
            </a:r>
            <a:endParaRPr b="0" lang="en-US" sz="6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0000"/>
                </a:solidFill>
                <a:latin typeface="Tahoma"/>
              </a:rPr>
              <a:t>графических форматов </a:t>
            </a:r>
            <a:endParaRPr b="0" lang="en-US" sz="6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0000"/>
                </a:solidFill>
                <a:latin typeface="Tahoma"/>
              </a:rPr>
              <a:t>данных</a:t>
            </a:r>
            <a:endParaRPr b="0" lang="en-US" sz="6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E229-CE10-4480-997E-F3C3DFF7E02E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JPEG, jpeg,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p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39640" y="1989000"/>
          <a:ext cx="7772400" cy="4464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ип обработки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собенности использования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жатие с потерями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обработке полутоновых фотографических изображений. Сильно уменьшает объем файлов, но теряет четкость линий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C749-63CA-406C-92C8-079C3AAF29E1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TIFF, tif, tiff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4360" y="2060640"/>
          <a:ext cx="7772400" cy="4392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жатие и фильтры без потерь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ботка высококачественных полутоновых изображений с сохранением высокого качества. Файлы большого размера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A3B9-6F9C-4734-AB62-D34D186682A0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GIF, gif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684360" y="2060640"/>
          <a:ext cx="7772400" cy="4392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жатие без потерь с чередованием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ля передачи графической информации в Интернете, размещении на сайтах. Поддерживает 8-разрядную графику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F9BC-68D8-45A4-90F9-E58CBF364938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PNG, png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84360" y="2060640"/>
          <a:ext cx="7772400" cy="4392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жатие и фильтры без потерь с чередованием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о же, что и GIF, поддержива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-битную графику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 может содержать несколько изображений в одном файле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дет на замену GIF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E38F-3151-4FB7-B27A-F93BE28AEB65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иды графи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й подход состоит в описании каждого отдельного пиксела изображения, а изображение, в целом, представляет собой набор таких пикселов разных цветов. Этот подход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пиксель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ли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растровая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рафи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ой подход основан на представлении изображения как набора большого количества стандартных графических элементов, таких как отрезок, дуга, окружность, прямоугольник и т.д. Этот подход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екторно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рафико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D17E-A0E1-4EF3-AEB7-68BE267B81DA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BMP, bmp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84360" y="2060640"/>
          <a:ext cx="7772400" cy="4392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жатие без потерь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ботка полутоновых изображений. Допускает настройку 8, 16 или 24 бита на пиксел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в PAINT, MS Office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EDD8-68FE-413D-8B23-499F41F18CA5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WMF, wmf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84360" y="2060640"/>
          <a:ext cx="7772400" cy="4392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струкции по выводу изображений для программ обработки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ранение информации осуществляется в виде инструкций по рисованию, а не самих изображений. Обмен графическими данными между приложениями Windows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921C-FDCC-4CD3-9E4C-4B5E3B3F81AB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PCX, pcx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84360" y="2060640"/>
          <a:ext cx="7772400" cy="4392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жатие без потерь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старевающий графический формат. В настоящее время его заменяют GIF или JPEG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B121-76E1-4386-AA07-EB202B757C21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использовании Интернета существенным является возможность использования форматов графических файлов, поддерживаемых в разных операционных систем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0591-2C8F-48F3-9ABC-F714C5CE9781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работе в Интернете важно, чтобы изображение появлялось на экране по мере передачи данных этого изображения на компьютер пользователя, не дожидаясь окончания передачи файла целик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E31-5A52-4332-9B68-B04C84455E68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рафический редакт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а, предназначенная для создания различного рода изображений, начиная с простейших и заканчивая видеоматериал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F61E-D7A4-4217-AFFE-A5E80B2A7B3C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Pai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640" y="2017440"/>
            <a:ext cx="84153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добный графический редактор, который входит в состав стандартных программ, устанавливаемых на компьютер вместе с Window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т простой редактор позволяет создавать и корректировать изображения, а также сохранять их в нескольких распространенных форматах: BMP, JPEG, GIF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B996-EAC4-4AF0-A0FF-CA7E4FAF83EE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>
            <a:grayscl/>
          </a:blip>
          <a:srcRect l="9974" t="4655" r="2871" b="2910"/>
          <a:stretch/>
        </p:blipFill>
        <p:spPr>
          <a:xfrm>
            <a:off x="324000" y="1989000"/>
            <a:ext cx="83516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AC58-5E4C-4E97-88D6-EBFF7F857BA6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жимы работы с редактором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ай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зволяет создать существующий графический файл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ть готовый файл, выйти из програм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ав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одержит стандартные операции по работе с элементами файла; выделить, скопировать, вырезать, вставить, и т. 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C42D-3B6F-4711-9915-15678B59E23C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жимы работы с редактор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ид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зволяет скрыть или показать панель инструментов, палитру цветов, строку подсказки. Здесь можно изменить масштаб изображ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ису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одержит основные операции по манипулированию изображением или его частью; повороты, симметричное отражение, увеличение и т. п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5879-1F68-4344-B764-C4546CE68617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мысленно увеличить изображение, то окажется, что при растровом представлении это есть набор отдельных точек, а при векторном — графический примитив — дуг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B652-2C25-49DB-AB53-E351895CF55C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жимы работы с редактор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алитр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позволяет изменить палитру цветов по стандартной таблице настройки цве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правк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вызывает справку по работе с Pai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455C-DED7-4B38-AC2C-C61A68D587D8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нель инструмен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штрих-пунктирный прямоугольни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можно перетаскивать, копировать и вырезать изображение или его ча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звез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 можно выделенный блок всячески деформирова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ласти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удаления и корректировки частей рисун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F358-E447-4C3C-9A1F-7532EAD69ED2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нель инструмен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ипет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выбор цветов) позволяет взять цвет прямо с рисун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залив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обходима для заполнения цветом ограниченных областей изображ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луп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масштаб) позволяет рассматривать рисунок с увеличением в 1, 2, 6 и 8 раз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D49F-9B07-4C56-A71B-9E6EF2DC8E63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нель инструмен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карандаш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исует выбранным цвет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кисточ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меет 4 варианта формы по три размера в каждом и рисует линии различной толщин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распылите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аэрограф) создает изображение брызг с пятнами различной величины: маленькие, средние и больш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2E13-1526-45B2-AF74-5B7CB7CDF009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нель инструмен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надпис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еобходима для печати текста на рисунк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рямая ли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для соответственного изображения лини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кривая ли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ожет быть изогнута дважды и создает плавные лин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D710-0B4E-434F-BEB8-333584088597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анель инструмен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рямоугольни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его изображение; многоугольни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ова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круг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округленный прямоугольни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F276-B118-4E47-A2DB-625C441A9A52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ставка рисунка из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aint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тая в Paint, выделяем рисунок и с помощью контекстного меню копируем его в буфер обме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ходим в Word и с помощью контекстного меню копируем рисунок из буфера обмена на экран от текущей позиции курсо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7577-1E1A-4E05-9E80-075DC1EA03E0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ставка рисунка из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aint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ботая в Paint, мы можем сохранить рисунок на дис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ыв документ Word и воспользовавшись меню Вставка, выбрав подменю Вставка рисунка, вставить рисунок в документ от текущей позиции курсо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E516-E3E7-4A87-9DEE-AF389A6FF244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екторная граф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векторном представлении все примитивы описываются своими математическими формулами и характеристиками ли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исание графических примитивов производится с помощью векторов описаний, поэтому такое представление и называется векторной графико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8962-AA0B-4F55-A53C-ABC881241FA0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ция для векторного описания занимает значительно меньше места, чем информация для растрового описания того же изображ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или уменьшение размеров, изменение типов линий производится простым пересчетом вектора описа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DA25-3ED7-40C1-9ACB-42F55C58B0B9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векторные изображения состоят из набора объектов, каждый из которых, в свою очередь состоит из других объектов и из базовых примитив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2C77-9751-4FA0-B55C-501D48B5ECD0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кторная графика оперирует цветом объекта, который может также задаваться в векторе описания объекта, но не может указывать цвет отдельных точек изображения, и поэтому плохо работает с полутон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1:06:45Z</dcterms:created>
  <dc:creator>БВА</dc:creator>
  <dc:description/>
  <dc:language>en-US</dc:language>
  <cp:lastModifiedBy>Борисов В.А.</cp:lastModifiedBy>
  <dcterms:modified xsi:type="dcterms:W3CDTF">2009-03-27T12:06:43Z</dcterms:modified>
  <cp:revision>145</cp:revision>
  <dc:subject/>
  <dc:title>Классификация и характеристика информационных технологий</dc:title>
</cp:coreProperties>
</file>