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6.png" ContentType="image/pn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35C-5B72-4740-8D64-7133B316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4DB-D233-4393-A2A6-1BDEAED6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6C3-F525-4508-B410-1A6C54B6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A90-B892-4BB7-9DF3-7B35B91C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29FD-54CF-41F6-B39A-8C9AEEFA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429B-0336-485D-B15C-86C4314F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4941-6B69-45FF-8D3E-F47EF211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1A92-D4A4-47DA-9FB4-D9FF755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5613-2FA7-4D3D-994B-6B0B20C7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0512-B71D-4FD7-A35C-C2F479F9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36DD-91B5-4EDB-9E39-45D1A8F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810-E039-42E4-A295-78D7E75F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5A43-01C7-4F58-941D-913E969D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5409-0908-44A0-89F1-3040E8C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FC8-A5E9-474C-81BF-3083E3A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7AC0-991D-4E1B-B577-5D4F8EBA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7384-8674-4B09-9DFB-0DEB87F8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E57-81EA-419B-9FDF-124D1733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755-9B8F-4726-8C75-4E9792A8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897-EED4-46CC-B161-93D81923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C56-375B-42CF-9560-D38A66B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394-64CD-456A-AFE7-886C35FF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5D2-2791-4AF6-94F5-BCDB6B6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EA9-F6DD-46E7-A26E-2EC3335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D3F6-91D4-4F34-8EAB-B0B06CC623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46E-76E1-4EB9-AA18-A08C93139A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7720" y="1412640"/>
            <a:ext cx="70801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7000" spc="-1" strike="noStrike">
                <a:solidFill>
                  <a:srgbClr val="ff0000"/>
                </a:solidFill>
                <a:latin typeface="Arial"/>
              </a:rPr>
              <a:t>Орнаменты                и бордюры</a:t>
            </a:r>
            <a:endParaRPr b="0" lang="en-US" sz="7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920" y="4071960"/>
            <a:ext cx="763272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ь проекта: Борисова А.В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сего существует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типов бордюро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Рисунок 7" descr=""/>
          <p:cNvPicPr/>
          <p:nvPr/>
        </p:nvPicPr>
        <p:blipFill>
          <a:blip r:embed="rId2"/>
          <a:srcRect l="9609" t="26532" r="18524" b="28019"/>
          <a:stretch/>
        </p:blipFill>
        <p:spPr>
          <a:xfrm>
            <a:off x="1071720" y="857160"/>
            <a:ext cx="69292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C:\Documents and Settings\Учебная часть\Рабочий стол\Безымянный.JPG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Бордюры и орнаменты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 русском зодчеств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береза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C:\Documents and Settings\Учебная часть\Рабочий стол\Безымянный1.JPG"/>
          <p:cNvPicPr/>
          <p:nvPr/>
        </p:nvPicPr>
        <p:blipFill>
          <a:blip r:embed="rId3"/>
          <a:stretch/>
        </p:blipFill>
        <p:spPr>
          <a:xfrm>
            <a:off x="928800" y="1714680"/>
            <a:ext cx="72151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129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 Руси издревле люди старались украсить терема, церкви. Они придумывали удивительные замысловатые орнаменты, в основном цветочные. В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веке русский зодчий Степан Иванов создал свой орнамент, который назвали «Павлинье око», так как он был похож на рисунок пера павлиньего хв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03280" y="3429000"/>
            <a:ext cx="70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Геометрическая резьба по дереву - один из самых древних и распространенных видов деревянной орнаментальной резьбы. Выполняется в виде выемок двух-, трех-, четырехгранной формы, которые в сочетании дают большое число разнообразных ком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19640" y="1267920"/>
            <a:ext cx="309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еревянные кружев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и в наше врем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крашают дома в г.Мариинск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6" descr="C:\Documents and Settings\Учебная часть\Рабочий стол\Безымянный2.JPG"/>
          <p:cNvPicPr/>
          <p:nvPr/>
        </p:nvPicPr>
        <p:blipFill>
          <a:blip r:embed="rId2"/>
          <a:stretch/>
        </p:blipFill>
        <p:spPr>
          <a:xfrm>
            <a:off x="1214280" y="857160"/>
            <a:ext cx="39294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3280" y="1341360"/>
            <a:ext cx="324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Они поражают нас своей неповторимой красотой и воздушностью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6" descr="C:\Documents and Settings\Учебная часть\Рабочий стол\Безымянный3.JPG"/>
          <p:cNvPicPr/>
          <p:nvPr/>
        </p:nvPicPr>
        <p:blipFill>
          <a:blip r:embed="rId2"/>
          <a:stretch/>
        </p:blipFill>
        <p:spPr>
          <a:xfrm>
            <a:off x="1071720" y="928800"/>
            <a:ext cx="3840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1052640"/>
            <a:ext cx="77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рнаментика геометрической резьбы восходит к древним языческим символ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пример, один из наиболее распространенных элементов розетка был связан с культом солнца. Розетки и сияния присутствуют во всех композициях, выполненных в технике трехгранно-выемчатой рез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Геометрическая резьба использовалась в домовом декоре Русского Севера и при украшении прялок и различных предметов домашней утвари вальков, рубелей, треп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Геометрический узор встречается на предметах из новгородских раскопок 10-12 в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360" y="1125360"/>
            <a:ext cx="3527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Дом-двор Русиновской (фрагмент), XIX в. Деревня Кондратьевска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Picture 6" descr="C:\Documents and Settings\Учебная часть\Рабочий стол\Безымянный4.JPG"/>
          <p:cNvPicPr/>
          <p:nvPr/>
        </p:nvPicPr>
        <p:blipFill>
          <a:blip r:embed="rId2"/>
          <a:stretch/>
        </p:blipFill>
        <p:spPr>
          <a:xfrm>
            <a:off x="1071720" y="1000080"/>
            <a:ext cx="3884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Орнамент в одежде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6" descr="C:\Documents and Settings\Учебная часть\Рабочий стол\Безымянный5.JPG"/>
          <p:cNvPicPr/>
          <p:nvPr/>
        </p:nvPicPr>
        <p:blipFill>
          <a:blip r:embed="rId2"/>
          <a:stretch/>
        </p:blipFill>
        <p:spPr>
          <a:xfrm>
            <a:off x="2000160" y="979560"/>
            <a:ext cx="4572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4427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Костюм новобрачно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1920-е гг. Пензенская губерния, Керенский уезд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с. Вяземк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7" descr="C:\Documents and Settings\Учебная часть\Рабочий стол\Безымянный6.JPG"/>
          <p:cNvPicPr/>
          <p:nvPr/>
        </p:nvPicPr>
        <p:blipFill>
          <a:blip r:embed="rId2"/>
          <a:stretch/>
        </p:blipFill>
        <p:spPr>
          <a:xfrm>
            <a:off x="1143000" y="928800"/>
            <a:ext cx="3449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745164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Цель исследования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7559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ссмотреть основные типы бордюров и правила построения орна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знать, как бордюры и орнаменты использовались в русском народном творч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учиться пользоваться различными носителями информации для получения информации и оформления результатов самостоя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учиться кратко излагать свои мысли устно и письме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учиться обрабатывать и обобщать полученную информ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00360" y="980640"/>
            <a:ext cx="3958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Такой костюм сохранялся в Воронежской област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как свадебный наряд до 1950-х годов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6" descr="C:\Documents and Settings\Учебная часть\Рабочий стол\Безымянный7.JPG"/>
          <p:cNvPicPr/>
          <p:nvPr/>
        </p:nvPicPr>
        <p:blipFill>
          <a:blip r:embed="rId2"/>
          <a:stretch/>
        </p:blipFill>
        <p:spPr>
          <a:xfrm>
            <a:off x="1071720" y="928800"/>
            <a:ext cx="32144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8" descr="C:\Documents and Settings\Учебная часть\Рабочий стол\Безымянный8.JPG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19640" y="907920"/>
            <a:ext cx="338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ышитые детали праздничной женской одежды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Тамбовской и Курской губерний начала XX 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6" descr="C:\Documents and Settings\Учебная часть\Рабочий стол\Безымянный9.JPG"/>
          <p:cNvPicPr/>
          <p:nvPr/>
        </p:nvPicPr>
        <p:blipFill>
          <a:blip r:embed="rId2"/>
          <a:stretch/>
        </p:blipFill>
        <p:spPr>
          <a:xfrm>
            <a:off x="1071720" y="1000080"/>
            <a:ext cx="3981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19280" y="277920"/>
            <a:ext cx="392436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6" descr="C:\Documents and Settings\Учебная часть\Рабочий стол\Безымянный10.JPG"/>
          <p:cNvPicPr/>
          <p:nvPr/>
        </p:nvPicPr>
        <p:blipFill>
          <a:blip r:embed="rId2"/>
          <a:stretch/>
        </p:blipFill>
        <p:spPr>
          <a:xfrm>
            <a:off x="1357200" y="928800"/>
            <a:ext cx="65725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24360" y="980640"/>
            <a:ext cx="41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Женский народный костюм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Село Сумерки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Кадемский уезд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Рязанская губерния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II половина XIX в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7" descr="C:\Documents and Settings\Учебная часть\Рабочий стол\Рисунок1.jpg"/>
          <p:cNvPicPr/>
          <p:nvPr/>
        </p:nvPicPr>
        <p:blipFill>
          <a:blip r:embed="rId2"/>
          <a:stretch/>
        </p:blipFill>
        <p:spPr>
          <a:xfrm>
            <a:off x="928800" y="1000080"/>
            <a:ext cx="27144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Picture 11" descr="C:\Documents and Settings\Учебная часть\Рабочий стол\Безымянный11.JPG"/>
          <p:cNvPicPr/>
          <p:nvPr/>
        </p:nvPicPr>
        <p:blipFill>
          <a:blip r:embed="rId2"/>
          <a:stretch/>
        </p:blipFill>
        <p:spPr>
          <a:xfrm>
            <a:off x="1428840" y="1000080"/>
            <a:ext cx="6414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65504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ышивка золотом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4" name="Picture 7" descr="C:\Documents and Settings\Учебная часть\Рабочий стол\Безымянный12.JPG"/>
          <p:cNvPicPr/>
          <p:nvPr/>
        </p:nvPicPr>
        <p:blipFill>
          <a:blip r:embed="rId2"/>
          <a:stretch/>
        </p:blipFill>
        <p:spPr>
          <a:xfrm>
            <a:off x="1071720" y="1428840"/>
            <a:ext cx="714024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ородецкая роспис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7" descr="C:\Documents and Settings\Учебная часть\Рабочий стол\Безымянный13.JPG"/>
          <p:cNvPicPr/>
          <p:nvPr/>
        </p:nvPicPr>
        <p:blipFill>
          <a:blip r:embed="rId2"/>
          <a:stretch/>
        </p:blipFill>
        <p:spPr>
          <a:xfrm>
            <a:off x="831960" y="1295280"/>
            <a:ext cx="74325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Picture 14" descr="C:\Documents and Settings\Учебная часть\Рабочий стол\Безымянный14.JPG"/>
          <p:cNvPicPr/>
          <p:nvPr/>
        </p:nvPicPr>
        <p:blipFill>
          <a:blip r:embed="rId2"/>
          <a:stretch/>
        </p:blipFill>
        <p:spPr>
          <a:xfrm>
            <a:off x="922320" y="1285920"/>
            <a:ext cx="71802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Picture 8" descr="C:\Documents and Settings\Учебная часть\Рабочий стол\Безымянный44.JPG"/>
          <p:cNvPicPr/>
          <p:nvPr/>
        </p:nvPicPr>
        <p:blipFill>
          <a:blip r:embed="rId2"/>
          <a:stretch/>
        </p:blipFill>
        <p:spPr>
          <a:xfrm>
            <a:off x="1357200" y="785880"/>
            <a:ext cx="59295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Когда  появился орнамент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рнамент — один из древнейших видов изобразительной деятельности человека, в далеком прошлом несший в себе магический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мысл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. В древнем прикладном искусстве магический элемент преобладал над эстетическим, выступая в качестве оберега от стихии и злых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о-видимому, самый первый орнамент украсил сосуд, вылепленный из глины, когда до изобретения гончарного круга было еще далеко. И состоял такой орнамент из ряда простых вмятин, сделанных на горловине пальцем примерно на равном расстоянии друг от друга.. естественно, эти вмятины не могли сделать сосуд более удобным в пользовании. Однако они делали его интереснее (радовали глаз) и, главное, «защищали» от проникновения через горловину злых ду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Picture 6" descr="C:\Documents and Settings\Учебная часть\Рабочий стол\Безымянный45.JPG"/>
          <p:cNvPicPr/>
          <p:nvPr/>
        </p:nvPicPr>
        <p:blipFill>
          <a:blip r:embed="rId2"/>
          <a:stretch/>
        </p:blipFill>
        <p:spPr>
          <a:xfrm>
            <a:off x="1143000" y="857160"/>
            <a:ext cx="66787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6438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авлово-посадские платки, палантины и кашне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10" descr="C:\Documents and Settings\Учебная часть\Рабочий стол\Безымянный55.JPG"/>
          <p:cNvPicPr/>
          <p:nvPr/>
        </p:nvPicPr>
        <p:blipFill>
          <a:blip r:embed="rId2"/>
          <a:stretch/>
        </p:blipFill>
        <p:spPr>
          <a:xfrm>
            <a:off x="857160" y="1984320"/>
            <a:ext cx="74296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C:\Documents and Settings\Учебная часть\Рабочий стол\Безымянный56.JPG"/>
          <p:cNvPicPr/>
          <p:nvPr/>
        </p:nvPicPr>
        <p:blipFill>
          <a:blip r:embed="rId2"/>
          <a:stretch/>
        </p:blipFill>
        <p:spPr>
          <a:xfrm>
            <a:off x="1285920" y="930240"/>
            <a:ext cx="68580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6242040" cy="6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Хохломская  роспис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4" name="Picture 8" descr="C:\Documents and Settings\Учебная часть\Рабочий стол\Безымянный57.JPG"/>
          <p:cNvPicPr/>
          <p:nvPr/>
        </p:nvPicPr>
        <p:blipFill>
          <a:blip r:embed="rId2"/>
          <a:stretch/>
        </p:blipFill>
        <p:spPr>
          <a:xfrm>
            <a:off x="1285920" y="1643040"/>
            <a:ext cx="6500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братина"/>
          <p:cNvPicPr/>
          <p:nvPr/>
        </p:nvPicPr>
        <p:blipFill>
          <a:blip r:embed="rId2"/>
          <a:stretch/>
        </p:blipFill>
        <p:spPr>
          <a:xfrm>
            <a:off x="826920" y="1052640"/>
            <a:ext cx="4075200" cy="4537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367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коративная роспись на деревянных изделиях (посуда, мебель) отличается тонким растительным узором, выполненным красным и черным (реже зелёным) тонами и золотом по золотистому ф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95280" y="404640"/>
            <a:ext cx="324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Гжел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4114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C:\Documents and Settings\Учебная часть\Рабочий стол\Безымянный58.JPG"/>
          <p:cNvPicPr/>
          <p:nvPr/>
        </p:nvPicPr>
        <p:blipFill>
          <a:blip r:embed="rId2"/>
          <a:stretch/>
        </p:blipFill>
        <p:spPr>
          <a:xfrm>
            <a:off x="1428840" y="1141560"/>
            <a:ext cx="65008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561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Slavjanic"/>
              </a:rPr>
              <a:t>Наше </a:t>
            </a:r>
            <a:br>
              <a:rPr sz="9600"/>
            </a:br>
            <a:r>
              <a:rPr b="1" lang="ru-RU" sz="9600" spc="-1" strike="noStrike">
                <a:solidFill>
                  <a:srgbClr val="ff0000"/>
                </a:solidFill>
                <a:latin typeface="Slavjanic"/>
              </a:rPr>
              <a:t>творчество</a:t>
            </a:r>
            <a:endParaRPr b="0" lang="en-US" sz="9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5640" y="4581360"/>
            <a:ext cx="676908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Шейфуллаевой Рам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цы  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C:\Documents and Settings\Учебная часть\Рабочий стол\Безымянный59.JPG"/>
          <p:cNvPicPr/>
          <p:nvPr/>
        </p:nvPicPr>
        <p:blipFill>
          <a:blip r:embed="rId2"/>
          <a:stretch/>
        </p:blipFill>
        <p:spPr>
          <a:xfrm>
            <a:off x="785880" y="1143000"/>
            <a:ext cx="7429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9640" y="4797000"/>
            <a:ext cx="7210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Гергеля Александр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ка 5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Picture 9" descr="C:\Documents and Settings\Учебная часть\Рабочий стол\Безымянный60.JPG"/>
          <p:cNvPicPr/>
          <p:nvPr/>
        </p:nvPicPr>
        <p:blipFill>
          <a:blip r:embed="rId2"/>
          <a:stretch/>
        </p:blipFill>
        <p:spPr>
          <a:xfrm>
            <a:off x="1500120" y="785880"/>
            <a:ext cx="578664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515736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Свиридовой Елен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цы 5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5" name="Picture 8" descr="C:\Documents and Settings\Учебная часть\Рабочий стол\Безымянный61.JPG"/>
          <p:cNvPicPr/>
          <p:nvPr/>
        </p:nvPicPr>
        <p:blipFill>
          <a:blip r:embed="rId2"/>
          <a:stretch/>
        </p:blipFill>
        <p:spPr>
          <a:xfrm>
            <a:off x="1214280" y="852480"/>
            <a:ext cx="65725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848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Тоже самое относится и к украшению одежды. Магические знаки на ней оберегали тело человека от злых сил. Поэтому не удивительно, что узоры-заклинания располагали на вороте, рукавах, подол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рнамент был почти исключительно геометрическим, состоящим из строгих форм круга, полукруга, овала, спирали, квадрата, ромба, треугольника, креста и их различных комбинаций. Использовались в декоре зигзаги, штрихи, полоски, «елочный» орнамент, плетеночный («веревочный») уз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81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Лютиковой Юл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цы 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C:\Documents and Settings\Учебная часть\Рабочий стол\Безымянный77.JPG"/>
          <p:cNvPicPr/>
          <p:nvPr/>
        </p:nvPicPr>
        <p:blipFill>
          <a:blip r:embed="rId2"/>
          <a:stretch/>
        </p:blipFill>
        <p:spPr>
          <a:xfrm>
            <a:off x="1785960" y="714240"/>
            <a:ext cx="55720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5300640"/>
            <a:ext cx="676908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Работы Толкунова Андрея, ученика 5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2" name="Picture 9" descr="C:\Documents and Settings\Учебная часть\Рабочий стол\Безымянный1.JPG"/>
          <p:cNvPicPr/>
          <p:nvPr/>
        </p:nvPicPr>
        <p:blipFill>
          <a:blip r:embed="rId2"/>
          <a:stretch/>
        </p:blipFill>
        <p:spPr>
          <a:xfrm>
            <a:off x="928800" y="795240"/>
            <a:ext cx="71056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1640" y="5013000"/>
            <a:ext cx="611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Мячина Владислав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ка  5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" name="Picture 8" descr="C:\Documents and Settings\Учебная часть\Рабочий стол\Безымянный2.JPG"/>
          <p:cNvPicPr/>
          <p:nvPr/>
        </p:nvPicPr>
        <p:blipFill>
          <a:blip r:embed="rId2"/>
          <a:stretch/>
        </p:blipFill>
        <p:spPr>
          <a:xfrm>
            <a:off x="1071720" y="1339920"/>
            <a:ext cx="6929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03280" y="5373360"/>
            <a:ext cx="640872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Фролова Юр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ка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C:\Documents and Settings\Учебная часть\Рабочий стол\Безымянный3.JPG"/>
          <p:cNvPicPr/>
          <p:nvPr/>
        </p:nvPicPr>
        <p:blipFill>
          <a:blip r:embed="rId2"/>
          <a:stretch/>
        </p:blipFill>
        <p:spPr>
          <a:xfrm>
            <a:off x="1357200" y="857160"/>
            <a:ext cx="62150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4797360"/>
            <a:ext cx="69850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а Ларионова Серге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ка 5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2" name="Picture 7" descr="C:\Documents and Settings\Учебная часть\Рабочий стол\Рисунок3.jpg"/>
          <p:cNvPicPr/>
          <p:nvPr/>
        </p:nvPicPr>
        <p:blipFill>
          <a:blip r:embed="rId2"/>
          <a:stretch/>
        </p:blipFill>
        <p:spPr>
          <a:xfrm>
            <a:off x="2233440" y="814320"/>
            <a:ext cx="44103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4869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ы Абдуллиной Танзи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ченицы 6 класс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5" name="Picture 9" descr="C:\Documents and Settings\Учебная часть\Рабочий стол\Безымянный99.JPG"/>
          <p:cNvPicPr/>
          <p:nvPr/>
        </p:nvPicPr>
        <p:blipFill>
          <a:blip r:embed="rId2"/>
          <a:stretch/>
        </p:blipFill>
        <p:spPr>
          <a:xfrm>
            <a:off x="928800" y="857160"/>
            <a:ext cx="70736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aramond"/>
              </a:rPr>
              <a:t>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777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6600"/>
                </a:solidFill>
                <a:latin typeface="Garamond"/>
              </a:rPr>
              <a:t>http://www.bibliotekar.ru/ornamenty/index.htm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6600"/>
                </a:solidFill>
                <a:latin typeface="Garamond"/>
              </a:rPr>
              <a:t>http://library.thinkquest.org/C0110346/ru/math/frame.htm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6600"/>
                </a:solidFill>
                <a:latin typeface="Garamond"/>
              </a:rPr>
              <a:t>http://www.m-a-t.ru/html/kult_orn.html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6600"/>
                </a:solidFill>
                <a:latin typeface="Garamond"/>
              </a:rPr>
              <a:t>http://mec.tgl.ru/pages/doom/Rabota_teach/id051_ornam.doc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96600"/>
                </a:solidFill>
                <a:latin typeface="Garamond"/>
              </a:rPr>
              <a:t>http://informatorium.info/enpage.php?fix=2007161130044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00"/>
                </a:solidFill>
                <a:latin typeface="Garamond"/>
              </a:rPr>
              <a:t>http://</a:t>
            </a:r>
            <a:r>
              <a:rPr b="1" lang="ru-RU" sz="2100" spc="-1" strike="noStrike">
                <a:solidFill>
                  <a:srgbClr val="996600"/>
                </a:solidFill>
                <a:latin typeface="Garamond"/>
              </a:rPr>
              <a:t>encycl.accoona.ru</a:t>
            </a:r>
            <a:r>
              <a:rPr b="1" lang="en-US" sz="2100" spc="-1" strike="noStrike">
                <a:solidFill>
                  <a:srgbClr val="996600"/>
                </a:solidFill>
                <a:latin typeface="Garamond"/>
              </a:rPr>
              <a:t>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00"/>
                </a:solidFill>
                <a:latin typeface="Garamond"/>
              </a:rPr>
              <a:t>http://</a:t>
            </a:r>
            <a:r>
              <a:rPr b="1" lang="ru-RU" sz="2100" spc="-1" strike="noStrike">
                <a:solidFill>
                  <a:srgbClr val="996600"/>
                </a:solidFill>
                <a:latin typeface="Garamond"/>
              </a:rPr>
              <a:t> www.goldengr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6600"/>
                </a:solidFill>
                <a:latin typeface="Garamond"/>
              </a:rPr>
              <a:t>http://</a:t>
            </a:r>
            <a:r>
              <a:rPr b="1" lang="ru-RU" sz="2100" spc="-1" strike="noStrike">
                <a:solidFill>
                  <a:srgbClr val="996600"/>
                </a:solidFill>
                <a:latin typeface="Garamond"/>
              </a:rPr>
              <a:t> www.cat.russianbbs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6600"/>
                </a:solidFill>
                <a:latin typeface="Garamond"/>
              </a:rPr>
              <a:t>Шарыгин И.Ф., Ерганжиева Л.Н. Наглядная геометрия. 5-6 кл.: пособие для общеобразовательных учебных заведений.- М.: Дрофа,200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6600"/>
                </a:solidFill>
                <a:latin typeface="Garamond"/>
              </a:rPr>
              <a:t>Математика. Еженедельное приложение к газете «Первое сентября», №48/1998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7777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ревний человек наделял определенными знаками свои представления об устройстве мира. Например, круг — солнце, квадрат — земля, треугольник — горы, свастика — движение солнца, спираль — развитие, движение и т. д., но они, по всей вероятности, еще не обладали для предметов декоративными качествами (часто покрывались орнаментом скрытые от глаз человека части предметов — днища, оборотные стороны украшений, оберегов, амулетов и др.). Постепенно эти знаки-символы приобрели орнаментальную выразительность узора. Цель орнамента определилась — украшать. Но справедливо будет отметить, что из орнаментальных мотивов появилась пиктография, ранний этап пись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5400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 такое орнамент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7921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наментом называется узор, построенный чередованием в определенном порядке или, как говорят, ритме каких-нибудь рисунков или линий. Слово "орнамент", с латинского "ornamentum", означает "украшени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намент как самостоятельное художественное произведение не суще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намент способен выразить самые разнообразные ощущения: сдержанность и торжественность, легкость, изящество и плавность, внутреннее напряжение или спокойствие, свободное движение. Его эмоциональная выразительность бесконечна. В орнаменте всегда отражается характер и особенности культуры народа, создавшего его, а также эпоха, и которую он воз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Что такое бордюр?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05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Бордюр – это  периодически повторяющийся рисунок на длинной л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а практике бордюры встречаются в разных видах. Это может быть настенная роспись, украшающая стены зданий, галереи, лестничные переходы. Это может быть чугунное литье, используемое в оградах парков, решетках мостов и набережных. Это могут быть гипсовые барельефы или керам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Виды бордюров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8598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Рисунок бордюра получается, когда мы начинаем геометрически перемещать его элемент. Любой бордюр может быть совмещен сам с собой параллельным перено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"/>
          <p:cNvPicPr/>
          <p:nvPr/>
        </p:nvPicPr>
        <p:blipFill>
          <a:blip r:embed="rId2"/>
          <a:srcRect l="12675" t="48561" r="17409" b="11043"/>
          <a:stretch/>
        </p:blipFill>
        <p:spPr>
          <a:xfrm>
            <a:off x="1143000" y="3429000"/>
            <a:ext cx="6357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8" descr=""/>
          <p:cNvPicPr/>
          <p:nvPr/>
        </p:nvPicPr>
        <p:blipFill>
          <a:blip r:embed="rId2"/>
          <a:srcRect l="10308" t="17997" r="21033" b="18923"/>
          <a:stretch/>
        </p:blipFill>
        <p:spPr>
          <a:xfrm>
            <a:off x="857160" y="85716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3:45:57Z</dcterms:created>
  <dc:creator>БВА</dc:creator>
  <dc:description/>
  <dc:language>en-US</dc:language>
  <cp:lastModifiedBy>Борисов В.А.</cp:lastModifiedBy>
  <dcterms:modified xsi:type="dcterms:W3CDTF">2009-03-20T07:47:44Z</dcterms:modified>
  <cp:revision>97</cp:revision>
  <dc:subject/>
  <dc:title>Бордюры и орнаменты</dc:title>
</cp:coreProperties>
</file>