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BF0-A14F-444D-9C01-0D442D84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30D-61E2-4967-8E18-0987D751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5F6-9725-4393-AE84-2C194068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E18-1B1E-4533-86F9-0BDDECCD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EE66-1A60-4AA0-BBCE-1D37E767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5B09-4A4C-4EF5-B134-887201DB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F2B8-8805-453D-B6A5-51E24FA9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C8AE-5C79-4C0B-8098-9E44D9F6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B057-3E8B-41EA-A393-35935D8C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2292-A916-4960-A03F-B9CFF010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D4BA-57F4-499C-B81C-FCFD03B6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837-56AE-47DA-9E30-C104F346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65FB-5F11-49C1-A310-83129F32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CDE9-6F94-44E4-AA60-81F3FCBF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BE37-AB17-41B4-B8B7-FFF3F500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0B60-29FF-4EAB-8914-274BAF95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AFDE-DF00-4674-907F-F13BCBE9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CCF-7F28-47EF-B78B-4FB19890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CE2-16F7-4890-8175-F693516F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B05-0DE4-43B5-B144-D1AD939F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7DB-6713-43C8-BCEF-34909192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665-6543-4502-A26D-D8300D6A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D1D-174E-4328-A01C-F8D8C0D2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34B4-D4D6-4686-A250-B29CD329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0B71-4B01-4C88-A7CF-1C0235F9F6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E5C2-866E-43C0-8FBB-3946BA3391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32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" Target="slide25.xml"/><Relationship Id="rId8" Type="http://schemas.openxmlformats.org/officeDocument/2006/relationships/slide" Target="slide26.xml"/><Relationship Id="rId9" Type="http://schemas.openxmlformats.org/officeDocument/2006/relationships/slide" Target="slide31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Гиперсфер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176280" y="601992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 Краснообск, 2008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4477680" y="2971800"/>
            <a:ext cx="270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 11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тыненко 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мисина 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021120" y="22860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-гимназия №1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854600" cy="5029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2"/>
          <a:stretch/>
        </p:blipFill>
        <p:spPr>
          <a:xfrm>
            <a:off x="3638520" y="2452680"/>
            <a:ext cx="550548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31"/>
          <p:cNvSpPr/>
          <p:nvPr/>
        </p:nvSpPr>
        <p:spPr>
          <a:xfrm>
            <a:off x="6172200" y="1828800"/>
            <a:ext cx="2743200" cy="2666880"/>
          </a:xfrm>
          <a:prstGeom prst="parallelogram">
            <a:avLst>
              <a:gd name="adj" fmla="val 25715"/>
            </a:avLst>
          </a:prstGeom>
          <a:solidFill>
            <a:srgbClr val="ff00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9"/>
          <p:cNvGrpSpPr/>
          <p:nvPr/>
        </p:nvGrpSpPr>
        <p:grpSpPr>
          <a:xfrm>
            <a:off x="1600200" y="1828800"/>
            <a:ext cx="2743200" cy="2666880"/>
            <a:chOff x="1600200" y="1828800"/>
            <a:chExt cx="2743200" cy="2666880"/>
          </a:xfrm>
        </p:grpSpPr>
        <p:sp>
          <p:nvSpPr>
            <p:cNvPr id="212" name="AutoShape 12"/>
            <p:cNvSpPr/>
            <p:nvPr/>
          </p:nvSpPr>
          <p:spPr>
            <a:xfrm>
              <a:off x="1600200" y="1828800"/>
              <a:ext cx="2743200" cy="2666880"/>
            </a:xfrm>
            <a:prstGeom prst="cube">
              <a:avLst>
                <a:gd name="adj" fmla="val 25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V="1">
              <a:off x="1600200" y="3809520"/>
              <a:ext cx="704880" cy="685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2305080" y="1828800"/>
              <a:ext cx="0" cy="1981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2305080" y="3809880"/>
              <a:ext cx="2038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32"/>
          <p:cNvSpPr/>
          <p:nvPr/>
        </p:nvSpPr>
        <p:spPr>
          <a:xfrm>
            <a:off x="457200" y="51814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Пространство с увеличением размерности </a:t>
            </a:r>
            <a:r>
              <a:rPr b="0" i="1" lang="ru-RU" sz="3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 становится все более вместительным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45720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местимость пространств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8">
            <a:hlinkClick r:id="rId1" action="ppaction://hlinksldjump"/>
          </p:cNvPr>
          <p:cNvSpPr/>
          <p:nvPr/>
        </p:nvSpPr>
        <p:spPr>
          <a:xfrm>
            <a:off x="85345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8084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16239" y="3794"/>
                </a:lnTo>
                <a:lnTo>
                  <a:pt x="16239" y="17806"/>
                </a:lnTo>
                <a:lnTo>
                  <a:pt x="14577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0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4.44444E-006 L -0.5 4.44444E-006 E">
                                      <p:cBhvr>
                                        <p:cTn id="173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Гиперсфер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0" name="Picture 6" descr="180px-Hypersphere"/>
          <p:cNvPicPr/>
          <p:nvPr/>
        </p:nvPicPr>
        <p:blipFill>
          <a:blip r:embed="rId1"/>
          <a:stretch/>
        </p:blipFill>
        <p:spPr>
          <a:xfrm>
            <a:off x="4876920" y="2819520"/>
            <a:ext cx="4014720" cy="4038480"/>
          </a:xfrm>
          <a:prstGeom prst="rect">
            <a:avLst/>
          </a:prstGeom>
          <a:ln w="0">
            <a:noFill/>
          </a:ln>
        </p:spPr>
      </p:pic>
      <p:sp>
        <p:nvSpPr>
          <p:cNvPr id="221" name="Oval 7"/>
          <p:cNvSpPr/>
          <p:nvPr/>
        </p:nvSpPr>
        <p:spPr>
          <a:xfrm>
            <a:off x="6858000" y="48769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 flipV="1">
            <a:off x="5181120" y="3886200"/>
            <a:ext cx="1676520" cy="99072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 flipV="1">
            <a:off x="6934320" y="4190760"/>
            <a:ext cx="990360" cy="68580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5929920" y="3722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402600" y="48769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7393680" y="4572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228960" y="3556080"/>
            <a:ext cx="42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нтр гипер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212760" y="420696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диус гипер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228600" y="1523880"/>
            <a:ext cx="839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иперсф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ометрическая фигура, состоящая из всех точек четырехмерного пространства, расположенных на данном расстояние от данны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4">
            <a:hlinkClick r:id="rId2" action="ppaction://hlinksldjump"/>
          </p:cNvPr>
          <p:cNvSpPr/>
          <p:nvPr/>
        </p:nvSpPr>
        <p:spPr>
          <a:xfrm>
            <a:off x="85345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8084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16239" y="3794"/>
                </a:lnTo>
                <a:lnTo>
                  <a:pt x="16239" y="17806"/>
                </a:lnTo>
                <a:lnTo>
                  <a:pt x="14577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160" y="-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Аналитическая модель гиперсферы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81960" y="1676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81960" y="41911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 flipV="1">
            <a:off x="3809880" y="114264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3809880" y="312408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 flipH="1">
            <a:off x="2742840" y="3124080"/>
            <a:ext cx="106668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5"/>
          <p:cNvSpPr/>
          <p:nvPr/>
        </p:nvSpPr>
        <p:spPr>
          <a:xfrm>
            <a:off x="3276720" y="1981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6"/>
          <p:cNvSpPr/>
          <p:nvPr/>
        </p:nvSpPr>
        <p:spPr>
          <a:xfrm>
            <a:off x="50292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3352680" y="2057400"/>
            <a:ext cx="1676520" cy="12193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1827360" y="14479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; y;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5201640" y="3429000"/>
            <a:ext cx="159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2041560" y="4608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419292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6477120" y="26668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3887640" y="990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2819520" y="41911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6"/>
              <p:cNvSpPr txBox="1"/>
              <p:nvPr/>
            </p:nvSpPr>
            <p:spPr>
              <a:xfrm>
                <a:off x="1066680" y="5029200"/>
                <a:ext cx="73915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ad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-x</m:t>
                        </m:r>
                        <m:r>
                          <m:t xml:space="preserve">)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y - y</m:t>
                        </m:r>
                        <m:r>
                          <m:t xml:space="preserve">)</m:t>
                        </m:r>
                        <m:r>
                          <m:t xml:space="preserve">²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-z</m:t>
                        </m:r>
                        <m:r>
                          <m:t xml:space="preserve">)</m:t>
                        </m:r>
                        <m:r>
                          <m:t xml:space="preserve">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8" name="Text Box 28"/>
          <p:cNvSpPr/>
          <p:nvPr/>
        </p:nvSpPr>
        <p:spPr>
          <a:xfrm>
            <a:off x="365940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0"/>
          <p:cNvSpPr/>
          <p:nvPr/>
        </p:nvSpPr>
        <p:spPr>
          <a:xfrm>
            <a:off x="190440" y="5943600"/>
            <a:ext cx="6114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x – x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) ² +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y – y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) ² + (z – z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) ²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= R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4673520" y="4724280"/>
            <a:ext cx="41659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x –x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) ² +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y – y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) ²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= R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1918440" y="1523880"/>
            <a:ext cx="2427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x – x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) ² = R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248520" cy="120168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45"/>
          <p:cNvGrpSpPr/>
          <p:nvPr/>
        </p:nvGrpSpPr>
        <p:grpSpPr>
          <a:xfrm>
            <a:off x="152280" y="2362320"/>
            <a:ext cx="3948480" cy="3733200"/>
            <a:chOff x="152280" y="2362320"/>
            <a:chExt cx="3948480" cy="3733200"/>
          </a:xfrm>
        </p:grpSpPr>
        <p:sp>
          <p:nvSpPr>
            <p:cNvPr id="254" name="Rectangle 23"/>
            <p:cNvSpPr/>
            <p:nvPr/>
          </p:nvSpPr>
          <p:spPr>
            <a:xfrm>
              <a:off x="3328200" y="4602240"/>
              <a:ext cx="396720" cy="995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1"/>
            <p:cNvSpPr/>
            <p:nvPr/>
          </p:nvSpPr>
          <p:spPr>
            <a:xfrm>
              <a:off x="1185840" y="31089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469800" y="2859840"/>
              <a:ext cx="2778480" cy="2903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2"/>
            <p:cNvSpPr/>
            <p:nvPr/>
          </p:nvSpPr>
          <p:spPr>
            <a:xfrm>
              <a:off x="152280" y="4353480"/>
              <a:ext cx="3731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V="1">
              <a:off x="1819440" y="2362320"/>
              <a:ext cx="0" cy="373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rc 36"/>
            <p:cNvSpPr/>
            <p:nvPr/>
          </p:nvSpPr>
          <p:spPr>
            <a:xfrm>
              <a:off x="469800" y="4021200"/>
              <a:ext cx="2778480" cy="340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rc 37"/>
            <p:cNvSpPr/>
            <p:nvPr/>
          </p:nvSpPr>
          <p:spPr>
            <a:xfrm flipV="1">
              <a:off x="469800" y="4353480"/>
              <a:ext cx="2778480" cy="331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0"/>
            <p:cNvSpPr/>
            <p:nvPr/>
          </p:nvSpPr>
          <p:spPr>
            <a:xfrm>
              <a:off x="1979280" y="2362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1"/>
            <p:cNvSpPr/>
            <p:nvPr/>
          </p:nvSpPr>
          <p:spPr>
            <a:xfrm>
              <a:off x="3805560" y="451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7"/>
          <p:cNvGrpSpPr/>
          <p:nvPr/>
        </p:nvGrpSpPr>
        <p:grpSpPr>
          <a:xfrm>
            <a:off x="5410080" y="1905120"/>
            <a:ext cx="2856600" cy="2742480"/>
            <a:chOff x="5410080" y="1905120"/>
            <a:chExt cx="2856600" cy="2742480"/>
          </a:xfrm>
        </p:grpSpPr>
        <p:sp>
          <p:nvSpPr>
            <p:cNvPr id="264" name="Oval 26"/>
            <p:cNvSpPr/>
            <p:nvPr/>
          </p:nvSpPr>
          <p:spPr>
            <a:xfrm>
              <a:off x="5666040" y="2466360"/>
              <a:ext cx="1963080" cy="198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4"/>
            <p:cNvSpPr/>
            <p:nvPr/>
          </p:nvSpPr>
          <p:spPr>
            <a:xfrm flipH="1" flipV="1">
              <a:off x="6585120" y="2002680"/>
              <a:ext cx="19080" cy="264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9"/>
            <p:cNvSpPr/>
            <p:nvPr/>
          </p:nvSpPr>
          <p:spPr>
            <a:xfrm>
              <a:off x="6862680" y="1905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0"/>
            <p:cNvSpPr/>
            <p:nvPr/>
          </p:nvSpPr>
          <p:spPr>
            <a:xfrm>
              <a:off x="7971480" y="3472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6"/>
            <p:cNvSpPr/>
            <p:nvPr/>
          </p:nvSpPr>
          <p:spPr>
            <a:xfrm>
              <a:off x="5410080" y="3374280"/>
              <a:ext cx="256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4"/>
          <p:cNvSpPr/>
          <p:nvPr/>
        </p:nvSpPr>
        <p:spPr>
          <a:xfrm>
            <a:off x="304920" y="5181480"/>
            <a:ext cx="883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x –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 ² +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 – y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 ² + (z – z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 ² + (t – t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 ² = 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180px-Hypersphere"/>
          <p:cNvPicPr/>
          <p:nvPr/>
        </p:nvPicPr>
        <p:blipFill>
          <a:blip r:embed="rId1"/>
          <a:stretch/>
        </p:blipFill>
        <p:spPr>
          <a:xfrm>
            <a:off x="2362320" y="838080"/>
            <a:ext cx="4014720" cy="403884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7">
            <a:hlinkClick r:id="rId2" action="ppaction://hlinksldjump"/>
          </p:cNvPr>
          <p:cNvSpPr/>
          <p:nvPr/>
        </p:nvSpPr>
        <p:spPr>
          <a:xfrm>
            <a:off x="85345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8084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16239" y="3794"/>
                </a:lnTo>
                <a:lnTo>
                  <a:pt x="16239" y="17806"/>
                </a:lnTo>
                <a:lnTo>
                  <a:pt x="14577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010640" cy="9334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274320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613080" y="3733920"/>
            <a:ext cx="6287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ямая, модель одномерног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стран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нтр одномерной 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диус одномерной 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457200" y="91440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Способ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4"/>
              <p:cNvSpPr txBox="1"/>
              <p:nvPr/>
            </p:nvSpPr>
            <p:spPr>
              <a:xfrm>
                <a:off x="1085760" y="2819520"/>
                <a:ext cx="65152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одномерная сфера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Text Box 16"/>
          <p:cNvSpPr/>
          <p:nvPr/>
        </p:nvSpPr>
        <p:spPr>
          <a:xfrm>
            <a:off x="533520" y="2286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Динамическая модель гипер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8"/>
          <p:cNvSpPr/>
          <p:nvPr/>
        </p:nvSpPr>
        <p:spPr>
          <a:xfrm>
            <a:off x="533520" y="2209680"/>
            <a:ext cx="8076960" cy="3581640"/>
          </a:xfrm>
          <a:prstGeom prst="flowChartInputOutput">
            <a:avLst/>
          </a:prstGeom>
          <a:solidFill>
            <a:srgbClr val="ffff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2"/>
          <p:cNvGrpSpPr/>
          <p:nvPr/>
        </p:nvGrpSpPr>
        <p:grpSpPr>
          <a:xfrm>
            <a:off x="2590920" y="3962520"/>
            <a:ext cx="4114800" cy="152280"/>
            <a:chOff x="2590920" y="3962520"/>
            <a:chExt cx="4114800" cy="152280"/>
          </a:xfrm>
        </p:grpSpPr>
        <p:sp>
          <p:nvSpPr>
            <p:cNvPr id="281" name="Oval 11"/>
            <p:cNvSpPr/>
            <p:nvPr/>
          </p:nvSpPr>
          <p:spPr>
            <a:xfrm>
              <a:off x="4343400" y="3962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2"/>
            <p:cNvSpPr/>
            <p:nvPr/>
          </p:nvSpPr>
          <p:spPr>
            <a:xfrm>
              <a:off x="3276720" y="3962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3"/>
            <p:cNvSpPr/>
            <p:nvPr/>
          </p:nvSpPr>
          <p:spPr>
            <a:xfrm>
              <a:off x="5486400" y="3962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>
              <a:off x="2590920" y="4038480"/>
              <a:ext cx="4114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Arc 20"/>
          <p:cNvSpPr/>
          <p:nvPr/>
        </p:nvSpPr>
        <p:spPr>
          <a:xfrm>
            <a:off x="3349800" y="3279600"/>
            <a:ext cx="2139840" cy="7081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21"/>
          <p:cNvSpPr/>
          <p:nvPr/>
        </p:nvSpPr>
        <p:spPr>
          <a:xfrm flipV="1">
            <a:off x="3397320" y="4114080"/>
            <a:ext cx="2160360" cy="762120"/>
          </a:xfrm>
          <a:prstGeom prst="pie">
            <a:avLst/>
          </a:prstGeom>
          <a:noFill/>
          <a:ln w="316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23"/>
          <p:cNvSpPr/>
          <p:nvPr/>
        </p:nvSpPr>
        <p:spPr>
          <a:xfrm>
            <a:off x="3352680" y="3200400"/>
            <a:ext cx="2208240" cy="167796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4267080" y="41148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124080" y="41148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5562720" y="41148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9"/>
          <p:cNvSpPr/>
          <p:nvPr/>
        </p:nvSpPr>
        <p:spPr>
          <a:xfrm>
            <a:off x="6935760" y="3813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0"/>
          <p:cNvSpPr/>
          <p:nvPr/>
        </p:nvSpPr>
        <p:spPr>
          <a:xfrm>
            <a:off x="3048120" y="41148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1"/>
          <p:cNvSpPr/>
          <p:nvPr/>
        </p:nvSpPr>
        <p:spPr>
          <a:xfrm>
            <a:off x="5486400" y="41148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3"/>
          <p:cNvSpPr/>
          <p:nvPr/>
        </p:nvSpPr>
        <p:spPr>
          <a:xfrm>
            <a:off x="7147080" y="2514600"/>
            <a:ext cx="77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5"/>
          <p:cNvSpPr/>
          <p:nvPr/>
        </p:nvSpPr>
        <p:spPr>
          <a:xfrm>
            <a:off x="4191120" y="2743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6"/>
          <p:cNvSpPr/>
          <p:nvPr/>
        </p:nvSpPr>
        <p:spPr>
          <a:xfrm>
            <a:off x="4191120" y="49528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7"/>
          <p:cNvSpPr/>
          <p:nvPr/>
        </p:nvSpPr>
        <p:spPr>
          <a:xfrm>
            <a:off x="457200" y="91440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Способ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evt="end">
                                        <p:tn val="326"/>
                                      </p:cond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3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3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30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6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010280" cy="32814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3"/>
          <p:cNvSpPr/>
          <p:nvPr/>
        </p:nvSpPr>
        <p:spPr>
          <a:xfrm>
            <a:off x="457200" y="91440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Способ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-13716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8763120" cy="18255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8"/>
          <p:cNvSpPr/>
          <p:nvPr/>
        </p:nvSpPr>
        <p:spPr>
          <a:xfrm>
            <a:off x="457200" y="91440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Способ </a:t>
            </a:r>
            <a:r>
              <a:rPr b="1" i="1" lang="en-US" sz="2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58680" y="246240"/>
            <a:ext cx="7848720" cy="59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ражение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згу человека окружающего реального («объективного») мира е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бъективное восприятие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транства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человеком. Нарушение субъективных характеристик приводит к иллюзиям.</a:t>
            </a:r>
            <a:r>
              <a:rPr b="0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4943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49432"/>
                </a:solidFill>
                <a:latin typeface="Times New Roman"/>
                <a:ea typeface="Times New Roman"/>
              </a:rPr>
              <a:t>Что такое </a:t>
            </a:r>
            <a:r>
              <a:rPr b="1" i="1" lang="ru-RU" sz="2400" spc="-1" strike="noStrike">
                <a:solidFill>
                  <a:srgbClr val="4d7373"/>
                </a:solidFill>
                <a:latin typeface="Times New Roman"/>
                <a:ea typeface="Times New Roman"/>
              </a:rPr>
              <a:t>размерность пространства </a:t>
            </a:r>
            <a:r>
              <a:rPr b="0" lang="ru-RU" sz="2400" spc="-1" strike="noStrike">
                <a:solidFill>
                  <a:srgbClr val="949432"/>
                </a:solidFill>
                <a:latin typeface="Times New Roman"/>
                <a:ea typeface="Times New Roman"/>
              </a:rPr>
              <a:t>и как узнать, какова размерность пространства, в котором мы живе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едложенной модели, наше пространство является четырехмерной сфер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следует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ущная необходимость образного предст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уж не самой сфе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тя бы ее свойст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еследующие размышления имеют цель помочь читателю интуитивно приблизиться к пониманию этой геометрической фор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-137160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8686800" cy="16700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1371600" y="39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457200" y="91440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Способ </a:t>
            </a:r>
            <a:r>
              <a:rPr b="1" i="1" lang="en-US" sz="2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5"/>
          <p:cNvSpPr/>
          <p:nvPr/>
        </p:nvSpPr>
        <p:spPr>
          <a:xfrm>
            <a:off x="-137160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17924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457200" y="914400"/>
            <a:ext cx="21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ff"/>
                </a:solidFill>
                <a:latin typeface="Arial"/>
              </a:rPr>
              <a:t>Способ </a:t>
            </a:r>
            <a:r>
              <a:rPr b="1" i="1" lang="en-US" sz="2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0">
            <a:hlinkClick r:id="rId2" action="ppaction://hlinksldjump"/>
          </p:cNvPr>
          <p:cNvSpPr/>
          <p:nvPr/>
        </p:nvSpPr>
        <p:spPr>
          <a:xfrm>
            <a:off x="85345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8084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16239" y="3794"/>
                </a:lnTo>
                <a:lnTo>
                  <a:pt x="16239" y="17806"/>
                </a:lnTo>
                <a:lnTo>
                  <a:pt x="14577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-137160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8686800" cy="10666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"/>
          <p:cNvSpPr/>
          <p:nvPr/>
        </p:nvSpPr>
        <p:spPr>
          <a:xfrm>
            <a:off x="-228600" y="3808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Относительные разме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четырехмерной сф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1600200" y="380988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6477120" y="380988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457200" y="5486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3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458280" y="487692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=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-13716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610480" cy="25988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6"/>
          <p:cNvSpPr/>
          <p:nvPr/>
        </p:nvSpPr>
        <p:spPr>
          <a:xfrm>
            <a:off x="1371600" y="43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-137160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24680" cy="43196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6"/>
          <p:cNvSpPr/>
          <p:nvPr/>
        </p:nvSpPr>
        <p:spPr>
          <a:xfrm>
            <a:off x="1371600" y="490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85345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8084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16239" y="3794"/>
                </a:lnTo>
                <a:lnTo>
                  <a:pt x="16239" y="17806"/>
                </a:lnTo>
                <a:lnTo>
                  <a:pt x="14577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7"/>
          <p:cNvSpPr/>
          <p:nvPr/>
        </p:nvSpPr>
        <p:spPr>
          <a:xfrm>
            <a:off x="304920" y="32004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 гиперша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ершар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3992400" y="2238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5562720" cy="4648320"/>
          </a:xfrm>
          <a:prstGeom prst="rect">
            <a:avLst/>
          </a:prstGeom>
          <a:ln w="0">
            <a:noFill/>
          </a:ln>
        </p:spPr>
      </p:pic>
      <p:sp>
        <p:nvSpPr>
          <p:cNvPr id="329" name="Oval 12"/>
          <p:cNvSpPr/>
          <p:nvPr/>
        </p:nvSpPr>
        <p:spPr>
          <a:xfrm>
            <a:off x="6248520" y="4419720"/>
            <a:ext cx="90360" cy="83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3"/>
          <p:cNvSpPr/>
          <p:nvPr/>
        </p:nvSpPr>
        <p:spPr>
          <a:xfrm flipV="1">
            <a:off x="6338880" y="3473280"/>
            <a:ext cx="1387440" cy="92880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6250320" y="4572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7095240" y="3998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 flipH="1">
            <a:off x="5062680" y="4486320"/>
            <a:ext cx="1185840" cy="760320"/>
          </a:xfrm>
          <a:prstGeom prst="line">
            <a:avLst/>
          </a:prstGeom>
          <a:ln w="50760">
            <a:solidFill>
              <a:srgbClr val="00ff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2"/>
          <p:cNvSpPr/>
          <p:nvPr/>
        </p:nvSpPr>
        <p:spPr>
          <a:xfrm flipH="1" flipV="1">
            <a:off x="5427720" y="3389040"/>
            <a:ext cx="820800" cy="1012680"/>
          </a:xfrm>
          <a:prstGeom prst="line">
            <a:avLst/>
          </a:prstGeom>
          <a:ln w="50760">
            <a:solidFill>
              <a:srgbClr val="00ff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4"/>
          <p:cNvSpPr/>
          <p:nvPr/>
        </p:nvSpPr>
        <p:spPr>
          <a:xfrm>
            <a:off x="4779000" y="334332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5"/>
          <p:cNvSpPr/>
          <p:nvPr/>
        </p:nvSpPr>
        <p:spPr>
          <a:xfrm>
            <a:off x="228600" y="3886200"/>
            <a:ext cx="26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радиу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"/>
          <p:cNvSpPr/>
          <p:nvPr/>
        </p:nvSpPr>
        <p:spPr>
          <a:xfrm>
            <a:off x="228600" y="4503600"/>
            <a:ext cx="2743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О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сстояние от точки О до произвольной точки гиперша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306000" y="2514600"/>
            <a:ext cx="15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X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04920" y="914400"/>
            <a:ext cx="6781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иперш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ометрическое тело, состоящее из всех точек четырехмерного пространства, для которых верно неравен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6"/>
          <p:cNvSpPr/>
          <p:nvPr/>
        </p:nvSpPr>
        <p:spPr>
          <a:xfrm>
            <a:off x="85345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8084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16239" y="3794"/>
                </a:lnTo>
                <a:lnTo>
                  <a:pt x="16239" y="17806"/>
                </a:lnTo>
                <a:lnTo>
                  <a:pt x="14577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-15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иперобъем гипершар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28600" y="1295280"/>
            <a:ext cx="4572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Теоре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диус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першар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перобъем гипершар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35"/>
              <p:cNvSpPr txBox="1"/>
              <p:nvPr/>
            </p:nvSpPr>
            <p:spPr>
              <a:xfrm>
                <a:off x="380880" y="3124080"/>
                <a:ext cx="2819520" cy="16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п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 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4" name="Group 42"/>
          <p:cNvGrpSpPr/>
          <p:nvPr/>
        </p:nvGrpSpPr>
        <p:grpSpPr>
          <a:xfrm>
            <a:off x="3352680" y="1218960"/>
            <a:ext cx="5790960" cy="5333400"/>
            <a:chOff x="3352680" y="1218960"/>
            <a:chExt cx="5790960" cy="5333400"/>
          </a:xfrm>
        </p:grpSpPr>
        <p:sp>
          <p:nvSpPr>
            <p:cNvPr id="345" name="Oval 12"/>
            <p:cNvSpPr/>
            <p:nvPr/>
          </p:nvSpPr>
          <p:spPr>
            <a:xfrm>
              <a:off x="4031280" y="1874160"/>
              <a:ext cx="4267800" cy="41169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7"/>
            <p:cNvSpPr/>
            <p:nvPr/>
          </p:nvSpPr>
          <p:spPr>
            <a:xfrm>
              <a:off x="5583240" y="1874160"/>
              <a:ext cx="1163880" cy="4116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8"/>
            <p:cNvSpPr/>
            <p:nvPr/>
          </p:nvSpPr>
          <p:spPr>
            <a:xfrm>
              <a:off x="6747120" y="2061360"/>
              <a:ext cx="678960" cy="37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9"/>
            <p:cNvSpPr/>
            <p:nvPr/>
          </p:nvSpPr>
          <p:spPr>
            <a:xfrm>
              <a:off x="4903920" y="2061360"/>
              <a:ext cx="678960" cy="37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20"/>
            <p:cNvSpPr/>
            <p:nvPr/>
          </p:nvSpPr>
          <p:spPr>
            <a:xfrm>
              <a:off x="7620120" y="2622600"/>
              <a:ext cx="388080" cy="262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2"/>
            <p:cNvSpPr/>
            <p:nvPr/>
          </p:nvSpPr>
          <p:spPr>
            <a:xfrm>
              <a:off x="5583240" y="3465000"/>
              <a:ext cx="1163880" cy="102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1"/>
            <p:cNvSpPr/>
            <p:nvPr/>
          </p:nvSpPr>
          <p:spPr>
            <a:xfrm>
              <a:off x="4322160" y="2622600"/>
              <a:ext cx="388080" cy="262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3"/>
            <p:cNvSpPr/>
            <p:nvPr/>
          </p:nvSpPr>
          <p:spPr>
            <a:xfrm>
              <a:off x="6747120" y="3652200"/>
              <a:ext cx="678960" cy="74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4"/>
            <p:cNvSpPr/>
            <p:nvPr/>
          </p:nvSpPr>
          <p:spPr>
            <a:xfrm>
              <a:off x="4903920" y="3652200"/>
              <a:ext cx="678960" cy="74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6"/>
            <p:cNvSpPr/>
            <p:nvPr/>
          </p:nvSpPr>
          <p:spPr>
            <a:xfrm>
              <a:off x="4322160" y="3745440"/>
              <a:ext cx="388080" cy="37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5"/>
            <p:cNvSpPr/>
            <p:nvPr/>
          </p:nvSpPr>
          <p:spPr>
            <a:xfrm>
              <a:off x="7620120" y="3745440"/>
              <a:ext cx="388080" cy="37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 flipV="1">
              <a:off x="6165000" y="1218960"/>
              <a:ext cx="0" cy="533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6"/>
            <p:cNvSpPr/>
            <p:nvPr/>
          </p:nvSpPr>
          <p:spPr>
            <a:xfrm>
              <a:off x="3352680" y="3933000"/>
              <a:ext cx="5625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28"/>
            <p:cNvSpPr/>
            <p:nvPr/>
          </p:nvSpPr>
          <p:spPr>
            <a:xfrm>
              <a:off x="5776920" y="3933000"/>
              <a:ext cx="396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9"/>
            <p:cNvSpPr/>
            <p:nvPr/>
          </p:nvSpPr>
          <p:spPr>
            <a:xfrm>
              <a:off x="8763840" y="4213800"/>
              <a:ext cx="37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0"/>
            <p:cNvSpPr/>
            <p:nvPr/>
          </p:nvSpPr>
          <p:spPr>
            <a:xfrm>
              <a:off x="6533280" y="1219320"/>
              <a:ext cx="37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38"/>
            <p:cNvSpPr/>
            <p:nvPr/>
          </p:nvSpPr>
          <p:spPr>
            <a:xfrm flipV="1">
              <a:off x="6165000" y="2435400"/>
              <a:ext cx="1454760" cy="1497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0"/>
            <p:cNvSpPr/>
            <p:nvPr/>
          </p:nvSpPr>
          <p:spPr>
            <a:xfrm>
              <a:off x="6359040" y="2435760"/>
              <a:ext cx="58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41"/>
          <p:cNvSpPr/>
          <p:nvPr/>
        </p:nvSpPr>
        <p:spPr>
          <a:xfrm>
            <a:off x="533520" y="5943600"/>
            <a:ext cx="365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00cc"/>
                </a:solidFill>
                <a:latin typeface="Arial"/>
              </a:rPr>
              <a:t>Доказатель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5"/>
          <p:cNvSpPr/>
          <p:nvPr/>
        </p:nvSpPr>
        <p:spPr>
          <a:xfrm>
            <a:off x="85345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8084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16239" y="3794"/>
                </a:lnTo>
                <a:lnTo>
                  <a:pt x="16239" y="17806"/>
                </a:lnTo>
                <a:lnTo>
                  <a:pt x="14577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Oval 4"/>
          <p:cNvSpPr/>
          <p:nvPr/>
        </p:nvSpPr>
        <p:spPr>
          <a:xfrm>
            <a:off x="4800600" y="990720"/>
            <a:ext cx="3352680" cy="3352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5"/>
          <p:cNvSpPr/>
          <p:nvPr/>
        </p:nvSpPr>
        <p:spPr>
          <a:xfrm>
            <a:off x="6019920" y="990720"/>
            <a:ext cx="914400" cy="3352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6"/>
          <p:cNvSpPr/>
          <p:nvPr/>
        </p:nvSpPr>
        <p:spPr>
          <a:xfrm>
            <a:off x="6934320" y="1143000"/>
            <a:ext cx="533160" cy="304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7"/>
          <p:cNvSpPr/>
          <p:nvPr/>
        </p:nvSpPr>
        <p:spPr>
          <a:xfrm>
            <a:off x="5486400" y="1143000"/>
            <a:ext cx="533520" cy="304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7620120" y="1600200"/>
            <a:ext cx="30456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9"/>
          <p:cNvSpPr/>
          <p:nvPr/>
        </p:nvSpPr>
        <p:spPr>
          <a:xfrm>
            <a:off x="6019920" y="228600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5029200" y="1600200"/>
            <a:ext cx="30492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1"/>
          <p:cNvSpPr/>
          <p:nvPr/>
        </p:nvSpPr>
        <p:spPr>
          <a:xfrm>
            <a:off x="6934320" y="2438280"/>
            <a:ext cx="53316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2"/>
          <p:cNvSpPr/>
          <p:nvPr/>
        </p:nvSpPr>
        <p:spPr>
          <a:xfrm>
            <a:off x="5486400" y="2438280"/>
            <a:ext cx="5335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3"/>
          <p:cNvSpPr/>
          <p:nvPr/>
        </p:nvSpPr>
        <p:spPr>
          <a:xfrm>
            <a:off x="5029200" y="25146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4"/>
          <p:cNvSpPr/>
          <p:nvPr/>
        </p:nvSpPr>
        <p:spPr>
          <a:xfrm>
            <a:off x="7620120" y="25146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4267080" y="26668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7"/>
          <p:cNvSpPr/>
          <p:nvPr/>
        </p:nvSpPr>
        <p:spPr>
          <a:xfrm>
            <a:off x="8610480" y="213372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6477120" y="4568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6765840" y="45720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5"/>
              <p:cNvSpPr txBox="1"/>
              <p:nvPr/>
            </p:nvSpPr>
            <p:spPr>
              <a:xfrm>
                <a:off x="838080" y="304920"/>
                <a:ext cx="29545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п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7"/>
              <p:cNvSpPr txBox="1"/>
              <p:nvPr/>
            </p:nvSpPr>
            <p:spPr>
              <a:xfrm>
                <a:off x="228600" y="1981080"/>
                <a:ext cx="419112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28"/>
              <p:cNvSpPr txBox="1"/>
              <p:nvPr/>
            </p:nvSpPr>
            <p:spPr>
              <a:xfrm>
                <a:off x="228600" y="3200400"/>
                <a:ext cx="44956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deg/>
                      <m:e>
                        <m:r>
                          <m:t xml:space="preserve">R</m:t>
                        </m:r>
                        <m:r>
                          <m:t xml:space="preserve">²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29"/>
              <p:cNvSpPr txBox="1"/>
              <p:nvPr/>
            </p:nvSpPr>
            <p:spPr>
              <a:xfrm>
                <a:off x="457200" y="609480"/>
                <a:ext cx="46483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п</m:t>
                    </m:r>
                    <m:r>
                      <m:t xml:space="preserve">(</m:t>
                    </m:r>
                    <m:rad>
                      <m:deg/>
                      <m:e>
                        <m:r>
                          <m:t xml:space="preserve">R</m:t>
                        </m:r>
                        <m:r>
                          <m:t xml:space="preserve">²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4" name="Text Box 30"/>
          <p:cNvSpPr/>
          <p:nvPr/>
        </p:nvSpPr>
        <p:spPr>
          <a:xfrm>
            <a:off x="4038480" y="2819520"/>
            <a:ext cx="58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-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1"/>
          <p:cNvSpPr/>
          <p:nvPr/>
        </p:nvSpPr>
        <p:spPr>
          <a:xfrm>
            <a:off x="8229600" y="2895480"/>
            <a:ext cx="58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32"/>
              <p:cNvSpPr txBox="1"/>
              <p:nvPr/>
            </p:nvSpPr>
            <p:spPr>
              <a:xfrm>
                <a:off x="533520" y="4280040"/>
                <a:ext cx="766116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/>
                        </m:nary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nary>
                        <m:r>
                          <m:t xml:space="preserve">п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  <m:r>
                              <m:t xml:space="preserve">²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²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³</m:t>
                        </m:r>
                        <m:r>
                          <m:rPr>
                            <m:lit/>
                            <m:nor/>
                          </m:rPr>
                          <m:t xml:space="preserve">dx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п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R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/>
                        </m:nary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  <m:r>
                              <m:t xml:space="preserve">²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²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³</m:t>
                        </m:r>
                        <m:r>
                          <m:rPr>
                            <m:lit/>
                            <m:nor/>
                          </m:rPr>
                          <m:t xml:space="preserve">dx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Text Box 34"/>
          <p:cNvSpPr/>
          <p:nvPr/>
        </p:nvSpPr>
        <p:spPr>
          <a:xfrm>
            <a:off x="6095880" y="2514600"/>
            <a:ext cx="31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8" name="Object 5"/>
              <p:cNvSpPr txBox="1"/>
              <p:nvPr/>
            </p:nvSpPr>
            <p:spPr>
              <a:xfrm>
                <a:off x="1447920" y="457200"/>
                <a:ext cx="601956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п 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R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R</m:t>
                        </m:r>
                        <m:r>
                          <m:t xml:space="preserve">²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²</m:t>
                        </m:r>
                      </m:e>
                    </m:rad>
                    <m:r>
                      <m:t xml:space="preserve">)</m:t>
                    </m:r>
                    <m:r>
                      <m:t xml:space="preserve">³</m:t>
                    </m:r>
                    <m:r>
                      <m:rPr>
                        <m:lit/>
                        <m:nor/>
                      </m:rPr>
                      <m:t xml:space="preserve">dx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6"/>
              <p:cNvSpPr txBox="1"/>
              <p:nvPr/>
            </p:nvSpPr>
            <p:spPr>
              <a:xfrm>
                <a:off x="1219320" y="2590920"/>
                <a:ext cx="65833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9"/>
              <p:cNvSpPr txBox="1"/>
              <p:nvPr/>
            </p:nvSpPr>
            <p:spPr>
              <a:xfrm>
                <a:off x="457200" y="3657600"/>
                <a:ext cx="7848720" cy="26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  <m:r>
                              <m:t xml:space="preserve">²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²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³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  <m:r>
                              <m:t xml:space="preserve">²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in</m:t>
                            </m:r>
                            <m:r>
                              <m:t xml:space="preserve">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 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³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  <m:r>
                              <m:t xml:space="preserve">²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in</m:t>
                            </m:r>
                            <m:r>
                              <m:t xml:space="preserve">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³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  <m:r>
                              <m:t xml:space="preserve">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os</m:t>
                            </m:r>
                            <m:r>
                              <m:t xml:space="preserve">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³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1219320" y="762120"/>
                <a:ext cx="632448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5"/>
              <p:cNvSpPr txBox="1"/>
              <p:nvPr/>
            </p:nvSpPr>
            <p:spPr>
              <a:xfrm>
                <a:off x="533520" y="4038480"/>
                <a:ext cx="777240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п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 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п R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t  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609480" y="-30492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78360" y="1554120"/>
            <a:ext cx="507096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buClr>
                <a:srgbClr val="00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Осно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7e9ce8"/>
                </a:solidFill>
                <a:uFillTx/>
                <a:latin typeface="Arial"/>
                <a:hlinkClick r:id="rId3" action="ppaction://hlinksldjump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7e9ce8"/>
                </a:solidFill>
                <a:uFillTx/>
                <a:latin typeface="Arial"/>
                <a:hlinkClick r:id="rId4" action="ppaction://hlinksldjump"/>
              </a:rPr>
              <a:t>Используем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99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46280" y="163656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3124080" y="3733920"/>
            <a:ext cx="2133720" cy="1218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4"/>
              <p:cNvSpPr txBox="1"/>
              <p:nvPr/>
            </p:nvSpPr>
            <p:spPr>
              <a:xfrm>
                <a:off x="2590920" y="457200"/>
                <a:ext cx="320040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п R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t  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"/>
              <p:cNvSpPr txBox="1"/>
              <p:nvPr/>
            </p:nvSpPr>
            <p:spPr>
              <a:xfrm>
                <a:off x="2209680" y="2286000"/>
                <a:ext cx="4114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  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4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6"/>
              <p:cNvSpPr txBox="1"/>
              <p:nvPr/>
            </p:nvSpPr>
            <p:spPr>
              <a:xfrm>
                <a:off x="1447920" y="3124080"/>
                <a:ext cx="63356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п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f>
                              <m:num>
                                <m:r>
                                  <m:t xml:space="preserve">п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п 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1752480" y="1600200"/>
                <a:ext cx="559440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п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num>
                            <m:r>
                              <m:t xml:space="preserve">п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п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п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п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 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0"/>
              <p:cNvSpPr txBox="1"/>
              <p:nvPr/>
            </p:nvSpPr>
            <p:spPr>
              <a:xfrm>
                <a:off x="3352680" y="3886200"/>
                <a:ext cx="16765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п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 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9" name="AutoShape 15"/>
          <p:cNvSpPr/>
          <p:nvPr/>
        </p:nvSpPr>
        <p:spPr>
          <a:xfrm>
            <a:off x="85345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8084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16239" y="3794"/>
                </a:lnTo>
                <a:lnTo>
                  <a:pt x="16239" y="17806"/>
                </a:lnTo>
                <a:lnTo>
                  <a:pt x="14577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304920" y="1523880"/>
            <a:ext cx="518148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диус гипершара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ъем границы гиперсферы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457200" y="-15228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бъем границы гиперсфер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1025640" y="2819520"/>
                <a:ext cx="24033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п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5803920" y="1600200"/>
                <a:ext cx="20448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8"/>
              <p:cNvSpPr txBox="1"/>
              <p:nvPr/>
            </p:nvSpPr>
            <p:spPr>
              <a:xfrm>
                <a:off x="5737320" y="2819520"/>
                <a:ext cx="264456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Line 9"/>
          <p:cNvSpPr/>
          <p:nvPr/>
        </p:nvSpPr>
        <p:spPr>
          <a:xfrm>
            <a:off x="228600" y="3886200"/>
            <a:ext cx="525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0"/>
          <p:cNvSpPr/>
          <p:nvPr/>
        </p:nvSpPr>
        <p:spPr>
          <a:xfrm flipV="1">
            <a:off x="5486400" y="152388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369360" y="3902040"/>
            <a:ext cx="618264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гиперпирами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осн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й гиперпирами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й гиперпирам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14"/>
              <p:cNvSpPr txBox="1"/>
              <p:nvPr/>
            </p:nvSpPr>
            <p:spPr>
              <a:xfrm>
                <a:off x="698400" y="5334120"/>
                <a:ext cx="18162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V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5"/>
              <p:cNvSpPr txBox="1"/>
              <p:nvPr/>
            </p:nvSpPr>
            <p:spPr>
              <a:xfrm>
                <a:off x="3200400" y="5334120"/>
                <a:ext cx="18288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п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 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6"/>
              <p:cNvSpPr txBox="1"/>
              <p:nvPr/>
            </p:nvSpPr>
            <p:spPr>
              <a:xfrm>
                <a:off x="6248520" y="5486400"/>
                <a:ext cx="24796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п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1" name="AutoShape 18"/>
          <p:cNvSpPr/>
          <p:nvPr/>
        </p:nvSpPr>
        <p:spPr>
          <a:xfrm>
            <a:off x="8534520" y="6477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8084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16239" y="3794"/>
                </a:lnTo>
                <a:lnTo>
                  <a:pt x="16239" y="17806"/>
                </a:lnTo>
                <a:lnTo>
                  <a:pt x="14577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990720"/>
          <a:ext cx="9144000" cy="5638680"/>
        </p:xfrm>
        <a:graphic>
          <a:graphicData uri="http://schemas.openxmlformats.org/drawingml/2006/table">
            <a:tbl>
              <a:tblPr/>
              <a:tblGrid>
                <a:gridCol w="2743200"/>
                <a:gridCol w="3048120"/>
                <a:gridCol w="335268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7e9ce8"/>
                          </a:solidFill>
                          <a:latin typeface="Monotype Corsiva"/>
                          <a:ea typeface="Times New Roman"/>
                        </a:rPr>
                        <a:t>Фигур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ар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ипершар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7e9ce8"/>
                          </a:solidFill>
                          <a:latin typeface="Monotype Corsiva"/>
                          <a:ea typeface="Times New Roman"/>
                        </a:rPr>
                        <a:t>Размерность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66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7e9ce8"/>
                          </a:solidFill>
                          <a:latin typeface="Monotype Corsiva"/>
                          <a:ea typeface="Times New Roman"/>
                        </a:rPr>
                        <a:t>Границ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66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66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7e9ce8"/>
                          </a:solidFill>
                          <a:latin typeface="Monotype Corsiva"/>
                          <a:ea typeface="Times New Roman"/>
                        </a:rPr>
                        <a:t>Мера границы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66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66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7e9ce8"/>
                          </a:solidFill>
                          <a:latin typeface="Monotype Corsiva"/>
                          <a:ea typeface="Times New Roman"/>
                        </a:rPr>
                        <a:t>Формул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669999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669999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7e9ce8"/>
                          </a:solidFill>
                          <a:latin typeface="Monotype Corsiva"/>
                          <a:ea typeface="Times New Roman"/>
                        </a:rPr>
                        <a:t>Мера фигуры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66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66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7e9ce8"/>
                          </a:solidFill>
                          <a:latin typeface="Monotype Corsiva"/>
                          <a:ea typeface="Times New Roman"/>
                        </a:rPr>
                        <a:t>Формул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13" name="Object 78"/>
              <p:cNvSpPr txBox="1"/>
              <p:nvPr/>
            </p:nvSpPr>
            <p:spPr>
              <a:xfrm>
                <a:off x="3429000" y="5562720"/>
                <a:ext cx="18288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п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79"/>
              <p:cNvSpPr txBox="1"/>
              <p:nvPr/>
            </p:nvSpPr>
            <p:spPr>
              <a:xfrm>
                <a:off x="6629400" y="5638680"/>
                <a:ext cx="1752480" cy="10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п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 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5" name="Text Box 99"/>
          <p:cNvSpPr/>
          <p:nvPr/>
        </p:nvSpPr>
        <p:spPr>
          <a:xfrm>
            <a:off x="3124440" y="2060640"/>
            <a:ext cx="24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Times New Roman"/>
              </a:rPr>
              <a:t>Трехме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0"/>
          <p:cNvSpPr/>
          <p:nvPr/>
        </p:nvSpPr>
        <p:spPr>
          <a:xfrm>
            <a:off x="5943960" y="2060640"/>
            <a:ext cx="31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Times New Roman"/>
              </a:rPr>
              <a:t>Четырехмер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1"/>
          <p:cNvSpPr/>
          <p:nvPr/>
        </p:nvSpPr>
        <p:spPr>
          <a:xfrm>
            <a:off x="3505320" y="2971800"/>
            <a:ext cx="14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Times New Roman"/>
              </a:rPr>
              <a:t>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2"/>
          <p:cNvSpPr/>
          <p:nvPr/>
        </p:nvSpPr>
        <p:spPr>
          <a:xfrm>
            <a:off x="6172200" y="2975040"/>
            <a:ext cx="23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Times New Roman"/>
              </a:rPr>
              <a:t>Гиперсф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3"/>
          <p:cNvSpPr/>
          <p:nvPr/>
        </p:nvSpPr>
        <p:spPr>
          <a:xfrm>
            <a:off x="6781320" y="3660840"/>
            <a:ext cx="13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Times New Roman"/>
              </a:rPr>
              <a:t>Объ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4"/>
          <p:cNvSpPr/>
          <p:nvPr/>
        </p:nvSpPr>
        <p:spPr>
          <a:xfrm>
            <a:off x="3276720" y="36608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Times New Roman"/>
              </a:rPr>
              <a:t>Площ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5"/>
          <p:cNvSpPr/>
          <p:nvPr/>
        </p:nvSpPr>
        <p:spPr>
          <a:xfrm>
            <a:off x="3514320" y="434664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S=4</a:t>
            </a:r>
            <a:r>
              <a:rPr b="1" lang="ru-RU" sz="3200" spc="-1" strike="noStrike">
                <a:solidFill>
                  <a:srgbClr val="0099ff"/>
                </a:solidFill>
                <a:latin typeface="Times New Roman"/>
              </a:rPr>
              <a:t>п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R</a:t>
            </a:r>
            <a:r>
              <a:rPr b="1" lang="ru-RU" sz="3200" spc="-1" strike="noStrike" baseline="30000">
                <a:solidFill>
                  <a:srgbClr val="0099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6"/>
          <p:cNvSpPr/>
          <p:nvPr/>
        </p:nvSpPr>
        <p:spPr>
          <a:xfrm>
            <a:off x="6714360" y="434664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V=</a:t>
            </a:r>
            <a:r>
              <a:rPr b="1" lang="ru-RU" sz="3200" spc="-1" strike="noStrike">
                <a:solidFill>
                  <a:srgbClr val="0099ff"/>
                </a:solidFill>
                <a:latin typeface="Times New Roman"/>
              </a:rPr>
              <a:t>2п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R</a:t>
            </a:r>
            <a:r>
              <a:rPr b="1" lang="ru-RU" sz="3200" spc="-1" strike="noStrike" baseline="30000">
                <a:solidFill>
                  <a:srgbClr val="0099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7"/>
          <p:cNvSpPr/>
          <p:nvPr/>
        </p:nvSpPr>
        <p:spPr>
          <a:xfrm>
            <a:off x="3428640" y="5032440"/>
            <a:ext cx="13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Times New Roman"/>
              </a:rPr>
              <a:t>Объ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8"/>
          <p:cNvSpPr/>
          <p:nvPr/>
        </p:nvSpPr>
        <p:spPr>
          <a:xfrm>
            <a:off x="6172200" y="5029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Times New Roman"/>
              </a:rPr>
              <a:t>Гиперобъ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457200" y="182880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Times New Roman"/>
                <a:ea typeface="Times New Roman"/>
              </a:rPr>
              <a:t>Как видим, четырёхмерные фигуры можно изучать  и познавать так же, как и трёхмерные, хотя в четырёхмерном пространстве существуют фигуры, аналогов которых нет в пространствах низших размерностей.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писок используемых ресурсов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tratum.ac.ru/textbooks/kgrafic/lection1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etaphysic.narod.ru/etud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izika3000.narod.ru/prw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.wikipedia.org/wi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ложение «1 сентября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-83808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Введение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Четырехмерное пространство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80880" y="1676520"/>
            <a:ext cx="776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ковский и Эйнштейн считали, что трёхмерное пространство и время в отдельности не существуют и что реальный мир является четырёхмерным. Для этого они объединили трёхмерное евклидово пространство со временем в четырёхмерное пространство, взяв в качестве четвёртой оси системы координат расстояние, которое свет проходит за врем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1830240" y="3581280"/>
            <a:ext cx="2124000" cy="2444760"/>
            <a:chOff x="1830240" y="3581280"/>
            <a:chExt cx="2124000" cy="2444760"/>
          </a:xfrm>
        </p:grpSpPr>
        <p:sp>
          <p:nvSpPr>
            <p:cNvPr id="160" name="Line 5"/>
            <p:cNvSpPr/>
            <p:nvPr/>
          </p:nvSpPr>
          <p:spPr>
            <a:xfrm flipV="1">
              <a:off x="2560680" y="3849480"/>
              <a:ext cx="0" cy="10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"/>
            <p:cNvSpPr/>
            <p:nvPr/>
          </p:nvSpPr>
          <p:spPr>
            <a:xfrm>
              <a:off x="2560680" y="4917960"/>
              <a:ext cx="110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7"/>
            <p:cNvSpPr/>
            <p:nvPr/>
          </p:nvSpPr>
          <p:spPr>
            <a:xfrm flipH="1">
              <a:off x="1996920" y="4917960"/>
              <a:ext cx="563760" cy="78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1830240" y="5657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3659040" y="4419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0"/>
            <p:cNvSpPr/>
            <p:nvPr/>
          </p:nvSpPr>
          <p:spPr>
            <a:xfrm>
              <a:off x="2606400" y="358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3"/>
          <p:cNvSpPr/>
          <p:nvPr/>
        </p:nvSpPr>
        <p:spPr>
          <a:xfrm>
            <a:off x="685800" y="4495680"/>
            <a:ext cx="746748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8215200" y="5599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96532E-006 L 0.43368 0.13295 E">
                                      <p:cBhvr>
                                        <p:cTn id="1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380880" y="533520"/>
            <a:ext cx="77281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уитивно приблизиться к пониманию этой геометрической формы гипер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ь первоначальное знакомство с четырёхмерным пространством на примере гиперсферы (познакомится с определением гиперсферы, её уравнением и наглядным изображением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оздания моделей четырёхмерных фигур в работе были использованы аналогии и закономерности фигур низших размерностей: точка, отрезок, окру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сновная част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12040" y="1487520"/>
            <a:ext cx="7790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ырехмер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ff"/>
              </a:buClr>
              <a:buSzPct val="11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Физический способ измерения разме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ff"/>
              </a:buClr>
              <a:buSzPct val="11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Изменение симмет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ff"/>
              </a:buClr>
              <a:buSzPct val="11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3" action="ppaction://hlinksldjump"/>
              </a:rPr>
              <a:t>Вместимость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ер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ff"/>
              </a:buClr>
              <a:buSzPct val="11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4" action="ppaction://hlinksldjump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ff"/>
              </a:buClr>
              <a:buSzPct val="11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представления гипер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cc00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5" action="ppaction://hlinksldjump"/>
              </a:rPr>
              <a:t>Аналитическая модель гипер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cc00cc"/>
              </a:buClr>
              <a:buSzPct val="115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6" action="ppaction://hlinksldjump"/>
              </a:rPr>
              <a:t>Динамическая модель гиперсф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ерш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ff"/>
              </a:buClr>
              <a:buSzPct val="11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7" action="ppaction://hlinksldjump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ff"/>
              </a:buClr>
              <a:buSzPct val="11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8" action="ppaction://hlinksldjump"/>
              </a:rPr>
              <a:t>Гиперобъем гипер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ff"/>
              </a:buClr>
              <a:buSzPct val="11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7e9ce8"/>
                </a:solidFill>
                <a:uFillTx/>
                <a:latin typeface="Arial"/>
                <a:hlinkClick r:id="rId9" action="ppaction://hlinksldjump"/>
              </a:rPr>
              <a:t>Объем границы гипер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>
            <a:hlinkClick r:id="rId10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Физический способ измерения размерности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304920" y="2743200"/>
            <a:ext cx="3504600" cy="3657240"/>
            <a:chOff x="304920" y="2743200"/>
            <a:chExt cx="3504600" cy="3657240"/>
          </a:xfrm>
        </p:grpSpPr>
        <p:sp>
          <p:nvSpPr>
            <p:cNvPr id="175" name="Rectangle 4"/>
            <p:cNvSpPr/>
            <p:nvPr/>
          </p:nvSpPr>
          <p:spPr>
            <a:xfrm>
              <a:off x="765720" y="4614480"/>
              <a:ext cx="2490120" cy="1785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"/>
            <p:cNvSpPr/>
            <p:nvPr/>
          </p:nvSpPr>
          <p:spPr>
            <a:xfrm>
              <a:off x="304920" y="2743200"/>
              <a:ext cx="3504600" cy="1871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11" descr=""/>
          <p:cNvPicPr/>
          <p:nvPr/>
        </p:nvPicPr>
        <p:blipFill>
          <a:blip r:embed="rId1"/>
          <a:stretch/>
        </p:blipFill>
        <p:spPr>
          <a:xfrm>
            <a:off x="6781680" y="4952880"/>
            <a:ext cx="882720" cy="133380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21"/>
          <p:cNvGrpSpPr/>
          <p:nvPr/>
        </p:nvGrpSpPr>
        <p:grpSpPr>
          <a:xfrm>
            <a:off x="4192560" y="1527120"/>
            <a:ext cx="2217240" cy="1907640"/>
            <a:chOff x="4192560" y="1527120"/>
            <a:chExt cx="2217240" cy="1907640"/>
          </a:xfrm>
        </p:grpSpPr>
        <p:sp>
          <p:nvSpPr>
            <p:cNvPr id="179" name="Line 13"/>
            <p:cNvSpPr/>
            <p:nvPr/>
          </p:nvSpPr>
          <p:spPr>
            <a:xfrm flipV="1">
              <a:off x="4552200" y="1760040"/>
              <a:ext cx="0" cy="123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552200" y="2991600"/>
              <a:ext cx="162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8"/>
            <p:cNvSpPr/>
            <p:nvPr/>
          </p:nvSpPr>
          <p:spPr>
            <a:xfrm>
              <a:off x="4192560" y="1527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9"/>
            <p:cNvSpPr/>
            <p:nvPr/>
          </p:nvSpPr>
          <p:spPr>
            <a:xfrm>
              <a:off x="6076800" y="2975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22"/>
          <p:cNvSpPr/>
          <p:nvPr/>
        </p:nvSpPr>
        <p:spPr>
          <a:xfrm flipH="1">
            <a:off x="3733920" y="2971800"/>
            <a:ext cx="8380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278520" y="33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4572000" y="259092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7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8827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8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33334 L 3.33333E-006 4.44444E-006 E">
                                      <p:cBhvr>
                                        <p:cTn id="41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4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4.44444E-006 L 3.33333E-006 4.44444E-006 E">
                                      <p:cBhvr>
                                        <p:cTn id="47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0" dur="615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1" dur="615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2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3" dur="615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4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1447920" y="1143000"/>
            <a:ext cx="3504600" cy="3428640"/>
            <a:chOff x="1447920" y="1143000"/>
            <a:chExt cx="3504600" cy="3428640"/>
          </a:xfrm>
        </p:grpSpPr>
        <p:sp>
          <p:nvSpPr>
            <p:cNvPr id="188" name="AutoShape 4"/>
            <p:cNvSpPr/>
            <p:nvPr/>
          </p:nvSpPr>
          <p:spPr>
            <a:xfrm>
              <a:off x="1447920" y="1143000"/>
              <a:ext cx="3504600" cy="3428640"/>
            </a:xfrm>
            <a:prstGeom prst="cube">
              <a:avLst>
                <a:gd name="adj" fmla="val 25000"/>
              </a:avLst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5"/>
            <p:cNvSpPr/>
            <p:nvPr/>
          </p:nvSpPr>
          <p:spPr>
            <a:xfrm flipV="1">
              <a:off x="1447920" y="3689640"/>
              <a:ext cx="901080" cy="88164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2349000" y="1143000"/>
              <a:ext cx="0" cy="254700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2349000" y="3690000"/>
              <a:ext cx="260352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utoShape 10"/>
          <p:cNvSpPr/>
          <p:nvPr/>
        </p:nvSpPr>
        <p:spPr>
          <a:xfrm>
            <a:off x="6477120" y="2438280"/>
            <a:ext cx="1600200" cy="1447920"/>
          </a:xfrm>
          <a:prstGeom prst="cube">
            <a:avLst>
              <a:gd name="adj" fmla="val 25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09480" y="4800600"/>
            <a:ext cx="82296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Arial"/>
              </a:rPr>
              <a:t>Можно нарушить замкнутость контура при помощи увеличения</a:t>
            </a:r>
            <a:r>
              <a:rPr b="0" lang="ru-RU" sz="3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3500" spc="-1" strike="noStrike">
                <a:solidFill>
                  <a:srgbClr val="ff0000"/>
                </a:solidFill>
                <a:latin typeface="Arial"/>
              </a:rPr>
              <a:t>мерности пространства</a:t>
            </a:r>
            <a:r>
              <a:rPr b="0" lang="ru-RU" sz="35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ru-RU" sz="3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2438280" y="2133720"/>
            <a:ext cx="1600200" cy="1447560"/>
          </a:xfrm>
          <a:prstGeom prst="cube">
            <a:avLst>
              <a:gd name="adj" fmla="val 25000"/>
            </a:avLst>
          </a:prstGeom>
          <a:noFill/>
          <a:ln w="316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9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609840" cy="762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941400" cy="1743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"/>
          <p:cNvPicPr/>
          <p:nvPr/>
        </p:nvPicPr>
        <p:blipFill>
          <a:blip r:embed="rId3"/>
          <a:stretch/>
        </p:blipFill>
        <p:spPr>
          <a:xfrm>
            <a:off x="4724280" y="3124080"/>
            <a:ext cx="60984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"/>
          <p:cNvPicPr/>
          <p:nvPr/>
        </p:nvPicPr>
        <p:blipFill>
          <a:blip r:embed="rId4"/>
          <a:stretch/>
        </p:blipFill>
        <p:spPr>
          <a:xfrm>
            <a:off x="3886200" y="312408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199" name="Line 29"/>
          <p:cNvSpPr/>
          <p:nvPr/>
        </p:nvSpPr>
        <p:spPr>
          <a:xfrm flipV="1">
            <a:off x="4952880" y="20574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0"/>
          <p:cNvSpPr/>
          <p:nvPr/>
        </p:nvSpPr>
        <p:spPr>
          <a:xfrm>
            <a:off x="4952880" y="3429000"/>
            <a:ext cx="1524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1"/>
          <p:cNvSpPr/>
          <p:nvPr/>
        </p:nvSpPr>
        <p:spPr>
          <a:xfrm flipH="1">
            <a:off x="3962160" y="3429000"/>
            <a:ext cx="99036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3962520" y="43434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6310440" y="339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5015160" y="1639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6"/>
          <p:cNvSpPr/>
          <p:nvPr/>
        </p:nvSpPr>
        <p:spPr>
          <a:xfrm>
            <a:off x="1508040" y="6970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зменение симметр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990720" y="4876920"/>
            <a:ext cx="7238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В пространстве размерности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n+1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 можно менять симметрию объектов, взятых из пространства размерности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3</cp:lastModifiedBy>
  <dcterms:modified xsi:type="dcterms:W3CDTF">2008-12-02T15:03:34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