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1152-21DA-4B06-9DEE-5EF5FF3D84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38A6-4868-4EC1-A1F2-CF7638CAC5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E8FF-7276-4E65-9B3A-CF6261016A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480E-E4D8-4A56-B568-A8E72912BA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F240-0080-4761-B4FB-1D3C2E6F54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F050-EFB3-4E0C-80A9-2ED246E678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27F-175E-4C5D-B19F-1F048ABC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AC6-AC55-427D-900D-4BF1C42A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D378B-BA8B-42AE-8302-F4ABEC75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AC915-C4F2-4BDF-BB21-911B875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655D8-36ED-4719-B4FD-B4BEFC76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0F8BD-83C3-4F90-9F6A-B00B22BD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6C562-84E9-4498-A1E7-128F00C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3DC5A-2145-4159-B455-95C3409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8AAEA-C261-4B12-A20A-17684B7F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2F13B-669D-4C33-9CBC-0FE1FC87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C7265-5893-4831-889B-393C8B74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B79F9-D810-4857-89FB-7C89A7B4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6D5-1774-4022-9C08-9DEE979A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EC130-C560-4235-A295-24E520A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D46D0-B2C6-4712-B599-E148950E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5E025-EB2D-47D8-B9D0-4323EDAF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8691F-5FFF-49F1-8980-959B99A5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71E82-0F5D-4F68-82DE-79CB26BA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D6CFE-E203-4401-9683-99D0AAB8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0D8CA-3058-449E-ABF0-EE74A72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11DC0-7BB1-4FFD-A9CD-08DC008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5101C-FD33-4C1F-9888-6466726F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67013-3D77-46CA-A9EF-FAE8826F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CE6-7825-402F-89A6-E8C58609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BAEBE-D144-49FD-9FFF-89D2EC31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FEFAE-4F33-4780-98EA-34E5B562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0393D-CC81-4893-89B6-EBD66540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34BF7-A007-4400-B241-A1290D6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8E63B-47A2-4FFD-9419-83B577C3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15973-D3CB-44AA-A387-2D642883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2371A-C3ED-4D13-883B-5C9FBFF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68F68-CAEF-4AA3-A3E4-5B88EC7F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EDDED-B3D6-416B-B7EC-8F75276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3F4F5-6DBB-4780-BA16-6A3B255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9BFD-4665-4A0B-ADFC-A3202188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312B6-1B48-4F07-B9BA-D56A9F55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8F8C-523A-4C0D-9DAD-FADA62E8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EC957-8ADC-41ED-98E0-4F46894A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687B3-3472-4563-A94D-8188932A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3CA15-D6FB-43CB-A813-8E07F720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33792-4763-4D75-ADF4-8C830BCA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D7CCF-6B49-490C-B4C8-691427B1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F45EF-10E7-435E-A4E0-8522E84F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683D6-D584-4B98-BAE8-82B3DC6C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8ADDA-103D-49D5-A0BE-9B1B305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E63F-8233-454F-9B85-0F1FA50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CD647-3E93-4342-AD94-8E2CE946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0B66F-407B-48E7-BE6E-1E86602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31A0A-BEF7-4BE8-9424-A2FF6A30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83225-8476-4DEB-96DF-BD16FA81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3FCAD-8A2A-4E20-88E7-33735FBE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D2186-7058-4DE8-8F46-434FBFEC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FC1A9-5699-4F06-AD6D-E4D0B49E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65713-70F1-4660-A9C3-80DBEA3F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BDA46-6347-4830-94D1-0F86BA12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339CB-2D47-4946-B788-DE404976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2499-6D85-4F60-8BF6-EF398496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79716-7171-4B04-AA36-59973A5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F0436-12EB-45FC-8596-EE98FE1C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2CC87-4C5B-4538-BAE1-EE399F83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D0C1B-2AEA-4104-8EC2-CBD57436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11D90-B9B6-471A-9169-6C032033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360A6-0194-42C5-ADA2-57BFB455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522B5-3383-4C85-9550-2CCAAC79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C27A3-AC0E-41BC-BC61-789E41D0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A8CD9-73C0-465F-A603-E1AFCDF8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B5FC8-5F5D-4C31-8DE3-0DE524AD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1342-E0C4-4BF6-BD6B-C7E2F622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4AE07-7950-4C53-AD5A-E34BC1F6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B5902-7359-448B-AB43-1C4C4573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4EC69-EDC6-40BB-9AC2-2B4C06C5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0C0C0-8261-4BA1-9CCA-560C979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C0DEF-326F-4521-8176-D63367BB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44460-BB7A-4CE8-B0BE-7DB64CF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4874C-34CB-4263-BA70-125F9764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75A0B-BA7C-49EB-B4CE-F3F6638D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01927-00B6-47E5-949D-5D39AF62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A439-2D5E-473C-BC02-C3C551F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E779-79BB-4372-8C0F-A5828DD8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87E9-D6E4-4173-B11D-A81EB5A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298-ABC2-44A2-ADAB-8F0395E3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17C8-1B56-41EB-A7CA-0FBEF23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26E9-38CA-46FB-8AED-B0C6209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4C02-5198-4B42-AEAA-83BE9579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94C4-2BF1-4BD7-9221-10A739B2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85C2-F0F9-427B-B074-DE4B5754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7F01-38B5-46BB-8BC8-FFE19AEB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C6D0-46DE-4427-9ADD-1328F79D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AF93-2F1C-45AE-BBEF-72617A18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B6D4-8FE9-48CA-81F7-E7DA399B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C65F-77F3-443D-AFCE-8CB9C10F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084-316E-4BAD-AB64-D1513C4A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39C0-E40F-4A23-B332-C8F15EA6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BA5D-D917-402D-A23A-8CBFD05B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7181-71AB-44C6-9896-C8C507C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09866-486E-4E9F-893F-54E7A3B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8420-CCCC-4448-AD3C-0D8BD7FF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78BE-9310-4F3F-9241-5A180BE3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C9FAC-D1E8-4E83-9D88-43B3DCF8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6E747-798C-42C6-9ACC-37696AD7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04981-F8A0-446B-87BB-72F2F374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C757-2B40-4347-A141-11CF1789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3F1-596E-4C7F-84B9-CD231163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89D86-4A97-40FF-8AA3-E35F2FF9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CCF1-CF63-4848-A920-AD065EA7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48AD-FAAD-4301-84FC-ACD44A52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CA85-75DC-48F9-9508-17351FC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6421-3A25-43C9-AFC5-2573F56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C9855-08D3-400F-87FA-F649A50F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D1D4-6137-4E60-BBA7-26D6476C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DC23-9A0F-48B5-8FE4-71AB2ABA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8E5CC-A6A8-4C7A-ADD1-2C3A0A88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2DBE3-4300-427A-A01A-36B7D0B0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B7F-40E3-4EB8-9E1E-A121955B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96F78-CE68-4B89-B883-47662E01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95EC5-023D-41F3-92D1-3727FDF8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DFE8F-BB6D-485F-8F2C-E97BD29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6155D-93C4-4DA8-ACD5-677D82CE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1BB1-735C-4A17-BB43-B4CD9A72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83E1D-7509-4404-817A-17F59D61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9125D-FAA6-49A7-B086-A6BCD0A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329C-7DE3-4970-8770-7200F75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F33C-D3A0-4BBA-A0ED-E9B31934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F164D-4C15-464A-AB21-2C3E1A94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B83-6872-45CA-88AA-0DC47B17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7BE9D-545D-434A-8810-AE091F2C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91748-F779-4C82-9139-7ECCF561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DC077-D8FB-4AD3-AB1F-CB73CAAE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40673-6ECF-4B52-8A94-93A19802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AEA7-2E78-4676-BC31-A7A1FA2B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BB68-D710-477C-A189-F3DE0EC6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A0B5-3279-46D6-B77F-1996A004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2909-FA47-4555-85C7-449E966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413EA-18B9-49ED-B461-9E590A7B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44856-7C78-48C9-B505-402ED9FA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7E6-C44D-4EE8-BF25-B91B9EA1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33806-21F4-49B1-81C4-EEE53AD8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A6432-238F-4AC9-A062-42F99ABE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F9B92-9A3A-484C-B234-B26C0413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DD8F6-A406-4C41-8733-F9A99D15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30527-5DE9-4595-A3C4-490DDFD3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8D56-2167-4BF3-91BB-A77875C2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A923C-4E05-4739-B9AE-6226837A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9E45D-6F5F-45F6-B534-C3A525E8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4955B-72D8-4D5B-95D3-047A5F4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E010E-2701-46FB-9AFB-0284084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B03-80E7-40DE-9A90-079F35E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096DA-5F74-4556-B446-B44AED09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3EACE-7999-4E7A-8642-0B4C949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5BF3F-647A-4BF0-9F95-B25B61A7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BBBB9-5A4D-499F-9878-23A8804B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7C292-C66A-4D0C-B12D-A8C0CCD4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86786-D3F6-4370-9736-90A6A564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99F8C-71F8-49E9-81FE-B95F65AE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8FAF7-F7D5-4927-A5F2-E159CCA2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0DCE9-0944-4B70-ACEF-69A9F20B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A1B0-6E70-45D7-AC31-8618936C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766-706E-49B2-A2FB-D7A8B378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CFF21-FEDE-4914-AA39-5F0168D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2DE41-A6EE-492C-943A-2AF2012B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BE2C0-1966-4705-95BF-198870B9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FF9D3-EBB4-44D3-8075-3461CEC1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078C6-62ED-43B8-ADC4-8EE656A6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13E5-CB59-4544-8CB4-909A9FFC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05AE4-345B-4241-BD56-B467A85A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417EC-2803-4648-A2DE-6BFB13C7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79C27-DCB0-4CEA-9078-9547617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62077-F60F-4FB6-8F45-2B2AC7F2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FAD6-3426-4C90-BB25-22AF0EFF9E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A1FC-9959-4F73-B652-B25506B60C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A3C6-B801-4654-B5BD-457A39EB9E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44A2-A2A9-418D-AA56-9B2630F51C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3761-084D-4DAA-A8D5-974A658071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DA8B-1164-40DA-B3E7-52578F7AA6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7413-D0AB-403D-851B-ADA05A585D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4B11-D8B4-4EDE-82A0-C6A08A7DD6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C7AD-14FB-4006-A882-BE7B4E1807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090-B7D8-46BC-AD3D-1015492B09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9A3B-F7BE-4353-A434-CCDBB7C8C3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927C-C358-4ED7-A5C8-B96F1D39ED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B514-2E74-4562-8139-CE2584A3FD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4D79-DC3F-4886-90BA-9E25005D71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372000" y="4292280"/>
            <a:ext cx="25923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Monotype Corsiva"/>
              </a:rPr>
              <a:t>Выполнили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Monotype Corsiva"/>
              </a:rPr>
              <a:t>учитель математики </a:t>
            </a: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Черемисина Г. 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Monotype Corsiva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Ткачёва Л. 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523320" y="5996160"/>
            <a:ext cx="20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. Краснообск, 2005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2843280" y="6381720"/>
            <a:ext cx="34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©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Черемисина Г. А.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358440" y="260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МОУ гимназия №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979640" y="1700280"/>
            <a:ext cx="51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Организация исследовательской </a:t>
            </a:r>
            <a:r>
              <a:rPr b="1" lang="en-US" sz="40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деятельности </a:t>
            </a:r>
            <a:r>
              <a:rPr b="1" lang="en-US" sz="40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учащих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5113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Цели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и задачи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про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6280" y="907920"/>
            <a:ext cx="8001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Методические задач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35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ирование умения работать с различными информационными источник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35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витие навыка отбора необходимой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35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витие умения логического решения пробл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35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своение методик и приемов компьютерных технолог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87868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емы творческих работ учащихс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99680" y="1736640"/>
            <a:ext cx="8032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Методы решения логических зада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Золотое сеч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риложение интеграла и производн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роизводная обратной и сложной функ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Как мы видим то, что вид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истемы координ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Фрактальная граф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Чис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1116000" y="6237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едставление результатов: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мультимедийные презен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8001000" cy="21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емы исследовательских работ учащихся: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428760" y="1752480"/>
            <a:ext cx="83912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остроение графиков сложных фун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остроение асимптот графиков фун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умма углов звёздчатого многоуголь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Ортоцентрический тре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Геометрия кривых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Тетраэдр и его св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Удвоение ку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Гипер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1116000" y="6237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едставление результатов: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мультимедийные презен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729480" cy="69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Этапы работы над проекто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5000"/>
              </a:lnSpc>
              <a:spcBef>
                <a:spcPts val="601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Определение темы и целей проекта, формулирование тем исследований учащих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01"/>
              </a:spcBef>
              <a:buClr>
                <a:srgbClr val="cc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ланирова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пределение источников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пределение способов сбора и анализа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пределение способа представления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становление процедуры и критериев оценк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22944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Этапы работы над проект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амостоятельная исследовательская работа учащих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нализ данных, формулирование выводов, оформление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дготовка отчета о проделанной работе в виде презентации, буклета, сай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щита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504036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атериалы про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669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2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писание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имеры работ уча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рганизацион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2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лан проведения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3818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писок используемой литерату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Л. Ф. Батан. Развитие познавательной активности в адаптивной технологии обучения: Курс лекций. Новос. : Изд-во НИПКиПРО, 200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А.С.Белкин. Ситуация успеха. Как ее создать. М. Просвещение, 1991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А.С.Границкая. Научить думать и действовать. М. Просвещение, 1991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Н.И.Зильберберг. Приобщение к математическому творчеству. Уфа. Башкирское книжное издательство, 1988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Костюкова Н.К. Научно-исследовательская работа учащихся. – М.: Математика в школе №5, 1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А.М.Матюшкин. Загадки одаренности. М. Школа-пресс, 1993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Д.Пойа. Математическое открытие. М. Наука, 1976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В.Д.Степанов. Активизация внеурочной работы по математике в средней школе. М.  Просвещение, 1991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Л.Ф.Тихомирова. Развитие интеллектуальных способностей школьника. Ярославль.  Академия развития, 1997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1476000" y="1628640"/>
            <a:ext cx="5545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блема устанавливае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цель мысли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а цель контролируе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цесс мышления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6805440" y="551664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жон Дью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4818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Актуальность</a:t>
            </a: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 выбора т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6699"/>
                </a:solidFill>
                <a:latin typeface="Times New Roman"/>
              </a:rPr>
              <a:t>Целенаправленное  управление  внутренними процессами учебной деятельности учащихся осуществляется путём видоизменения внешних условий, в которых протекает эта деятельность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31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Решение познавательных и творческих задач, выходящих за рамки школьного курса (5-8 классы, с/к «Развитие логического мышления», «Практическое применение информационных технологий»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Организация исследований по темам, расширяющим и углубляющим базовые знания (9-11 классы, с/к «Решение нестандартных задач по математике, информатике, физике, химии»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Создание учебных проектов (7-11 классы, с/к «Основы исследовательской деятельности»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39640" y="260280"/>
            <a:ext cx="813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Этапы формир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зна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7690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опросы проектной деятельност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Как пробудить интерес учащихся к изучению математики?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Какова взаимосвязь между темой и  проблемой исследования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Каким образом задача помогают конкретизировать цель исследования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Какие виды источников необходимо использовать при проведении математического исследования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Как наиболее грамотно и эффективно представить исследовательскую работу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Как влияет использование информационных технологий на развитие познавательной деятельности, творческих способностей учащихся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Использование на основных уроках математики, информатики, физики и др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Участие авторов в научно-практических конференциях разного уров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1116000" y="476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именение проек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3313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Times New Roman"/>
              </a:rPr>
              <a:t>Аннотац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анный проект охватывает все разделы курса математики и имеет целью формирование активной познавательной деятельности учащихся средствами информационных технологий, а также расширение представлений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етодах и способах решения поставленных задач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5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Times New Roman"/>
              </a:rPr>
              <a:t>Учащиеся получают навыки исследовательской деятельности, поиска и обработки информации различных источник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этапное выполнение творческих заданий и исследований различной степени сложности позволяет создать ситуацию успеха в обучен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 algn="ctr">
              <a:lnSpc>
                <a:spcPct val="155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41672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сновополагающий вопрос  проект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Какими способами, отличными от стандартных, можно решать задачи школьного курса математики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250920" y="4221000"/>
            <a:ext cx="316872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чебные предме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Геомет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Алгебра и начала анал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Математическая лог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3276720" y="4869000"/>
            <a:ext cx="273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частник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учащиеся 7–11 классов гимназ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6156360" y="4292640"/>
            <a:ext cx="244944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Тема проек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«За страницами учебника математик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496908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Цели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и задачи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про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Дидактические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ирование компетентности в сфере рационального планирования и осуществления самостоя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ирование умения выносить аргументированные сужд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ирование практических навыков применения 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обилизация учащихся на усвоение принципов саморегуляции и сотруднич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14:12:30Z</dcterms:created>
  <dc:creator>Евгений</dc:creator>
  <dc:description/>
  <dc:language>en-US</dc:language>
  <cp:lastModifiedBy>13</cp:lastModifiedBy>
  <dcterms:modified xsi:type="dcterms:W3CDTF">2009-01-10T15:13:19Z</dcterms:modified>
  <cp:revision>147</cp:revision>
  <dc:subject/>
  <dc:title>За страницами школьного учебника математик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