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74D-A0F3-4437-96A6-D76C7281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293-A572-406D-A395-B353F4B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D89-E101-4995-83FA-40ED8A42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95B-89AD-4489-8ECE-D5ED880B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7141-DC2E-4B6A-9494-3D45DA99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83d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0A58-2EE9-4109-935E-BA5C96F6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AFE9-AF02-4106-849A-74D8F00D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AC5C-387D-4EF0-B071-31E694D8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EEB5-A707-408B-B526-A2C1ACBF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83d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72E-E7DD-4EAC-8AD4-59328155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E8A-3A3F-462F-AB43-217EE41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83d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180-FBD2-4A7D-8387-0444445F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9810-B930-4411-8131-17A6250B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58A1-512C-4A99-9F25-0574C047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C7C-1F81-48D4-88C8-14F8D55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F6EB-3DF7-46F3-A095-2E8B1BC2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0249-C856-49FB-AD8A-D3C84D43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12A-9ECB-47F9-A735-13A0CC1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180-516F-4DE8-A165-A76C79BD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A8A-2508-4DC2-8E81-4953DB25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83d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39C-AEB6-41FF-A78B-99BDC92B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4A4-8F26-420D-983D-F1E58F3A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72B-EAFF-4896-81D2-4BDAD72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496-A3E1-4A68-B194-FF0DB53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8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2783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783d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783d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783d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783d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783d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1473-A78F-4FAD-9EFE-C443E3009EC8}" type="slidenum">
              <a:rPr b="0" lang="ru-RU" sz="1400" spc="-1" strike="noStrike">
                <a:solidFill>
                  <a:srgbClr val="2783d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FFB-C937-4394-961D-08FC35B25D4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&#1060;&#1077;&#1089;&#1090;&#1080;&#1074;&#1072;&#1083;&#1100;/&#1055;&#1088;&#1077;&#1079;&#1077;&#1085;&#1090;&#1072;&#1094;&#1080;&#1080;/&#1053;&#1040;&#1064;&#1048;/AUDIO/&#1043;&#1080;&#1084;&#1085;/&#1043;&#1048;&#1052;&#1053;%20&#1056;&#1054;&#1089;&#1089;&#1080;&#1080;.wa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-127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Разработан 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учителем начальных классов    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 МОУ СОШ с. Васильевка  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 Ставропольского рай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Самарской области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ШЕЙКИНОЙ С.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404640"/>
            <a:ext cx="7850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лассный ча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 теме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2205000"/>
            <a:ext cx="7632720" cy="14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веянные славой  флаг наш и герб.</a:t>
            </a:r>
            <a:endParaRPr b="0" lang="en-US" sz="2400" spc="1" strike="noStrike">
              <a:ln w="12600">
                <a:solidFill>
                  <a:srgbClr val="993366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AE7-03DE-4677-ACE0-C651E4979E41}" type="slidenum">
              <a:t>1</a:t>
            </a:fld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4500"/>
                </a:solidFill>
                <a:latin typeface="Arial Black"/>
              </a:rPr>
              <a:t>Большой Государственный Герб Российской  империи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557360"/>
            <a:ext cx="4157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856 году появились 3 варианта государственного герба: Большой, Средний, Малый, различавшиеся по числу детале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большом гербе вокруг щитка с двуглавым орлом располагались гербы российских земель.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456000" cy="374472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DCC-82F7-4A4F-938F-744EC848478A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45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8a4500"/>
                </a:solidFill>
                <a:latin typeface="Arial Black"/>
              </a:rPr>
              <a:t>Герб СССР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5892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18 году гербом Советской России становится серп и молот в лучах восходящего солнца на фоне земного шара – как знак перемен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рб окаймляли колосья, которые были перевязаны ленточками с названиями союзных республ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6000" y="2349360"/>
            <a:ext cx="2952720" cy="30956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E44-D4E0-41A9-882C-4A2C4836030D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ФЛАГ РОССИИ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официальный символ государственной власти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ая полоса- означает, чт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России нет злых намерений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честно и дружелюбно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ся ко всем страна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яя полоса говорит о том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Россия против войны и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т дружить со всеми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одам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ная полоса означает, что каждый гражданин России готов защищать свободу и честь Родины от враг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331308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AD3-6B9A-405E-B331-3CF19838D004}" type="slidenum">
              <a:t>12</a:t>
            </a:fld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ИСТОРИЯ ФЛАГА РОССИИ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554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царствовании Пет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уществует сразу три флаг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ый с синим поперечным крестом (Андреевский) –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военного флот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ло-сине- красный– для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ргового флот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но-желто-белый – государственный флаг             Российской импер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448000" cy="30956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839-CDB8-4D27-A6D2-571EB2C0124B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ФЛАГ СССР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483920"/>
            <a:ext cx="451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момента установления советской власти сменился не только герб, но и флаг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ерь он стал красным  и на нем помещался серп и молот, такие же как и на герб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068640" cy="295272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1F8-8679-42C9-9B46-715FA8FA3AC5}" type="slidenum">
              <a:t>14</a:t>
            </a:fld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i="1" lang="ru-RU" sz="3200" spc="-1" strike="noStrike">
                <a:solidFill>
                  <a:srgbClr val="663300"/>
                </a:solidFill>
                <a:latin typeface="Arial Black"/>
              </a:rPr>
              <a:t>ОБНОВЛЕННАЯ 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Arial Black"/>
              </a:rPr>
              <a:t>         РОССИЯ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988640"/>
            <a:ext cx="466092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ек Россия вступила уже с бело-сине-красным флаг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е о принятии этого флага было принято первым Президентом России Борисом Николаевичем Ельцины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3056040" cy="216072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3141720"/>
            <a:ext cx="2664000" cy="30970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910-E76A-4132-B3D6-5C684DEE2B35}" type="slidenum">
              <a:t>15</a:t>
            </a:fld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Великая Побед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484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ень Победы 9 мая и в День защитника Отечества можно увидеть Знамя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беды во врем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зднично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да в Москв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рас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щади в мо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лож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ветов и венков к могиле Неизвестного солда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22200" y="1557360"/>
            <a:ext cx="745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4321080" cy="2736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454-4371-4858-9949-76051564A52E}" type="slidenum">
              <a:t>16</a:t>
            </a:fld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Великая Побед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483920"/>
            <a:ext cx="7684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идетельством                               разгрома                                      фашистской                                            Германии стала                                               груда немецких                                         знамен,                                                        брошенных                                    советскими  солдатами к подножию Мавзолея во время Парада Победы в 1945 год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248000" cy="321012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DE0-5845-49EE-9360-A0709F01D5DC}" type="slidenum">
              <a:t>17</a:t>
            </a:fld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ПОСЛОВИЦЫ О РОДИНЕ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 Black"/>
              </a:rPr>
              <a:t>Родная землица и во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 Black"/>
              </a:rPr>
              <a:t>сне снитс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 Black"/>
              </a:rPr>
              <a:t>Родина – мать , уме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 Black"/>
              </a:rPr>
              <a:t>за нее постоят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Arial Black"/>
              </a:rPr>
              <a:t>Родина краше солнца, дороже золот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266920" cy="24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1F7-E678-4A44-BD75-1D1CDCFAEADC}" type="slidenum">
              <a:t>18</a:t>
            </a:fld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           </a:t>
            </a: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В МИРЕ МУДРЫХ 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Arial Black"/>
              </a:rPr>
              <a:t>                МЫСЛЕЙ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227664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В ком нет любви к стране родной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Те сердцем нищи, как калек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Т.Г. Шевченко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Жизнь каждого принадлежит Отечеству, и не удальство, а только истинная храбрость приносит ему пользу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.С. Нахимо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Тот, кто не любит свою страну, ничего любить не может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Д. Байрон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23380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DE8-6B6A-4B99-90FF-9063C12C71A8}" type="slidenum">
              <a:t>19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 Black"/>
              </a:rPr>
              <a:t>ЦЕЛИ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2997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Воспитание у учащихся начальной школы патриотизма и гражданствен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Воспитание уважения к Родине, гордости за Отечество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Популяризация государственных символов Российской  Федерации, Самарской обла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Расширенение исторических знаний и представлений учащихся об истории возникновения государственной символики России и символики Самарской обла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2268360" y="1700280"/>
            <a:ext cx="496764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4B1-7ECD-43E1-9563-4E57FA419481}" type="slidenum">
              <a:t>2</a:t>
            </a:fld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МОЯ РОДИНА –</a:t>
            </a:r>
            <a:r>
              <a:rPr b="0" lang="ru-RU" sz="4400" spc="-1" strike="noStrike" u="sng">
                <a:solidFill>
                  <a:srgbClr val="742aa2"/>
                </a:solidFill>
                <a:uFillTx/>
                <a:latin typeface="Arial"/>
                <a:hlinkClick r:id="rId1"/>
              </a:rPr>
              <a:t>РОССИЯ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Россия – необъятная стран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Её площадь составляет 17 млн. кв.к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Расстояние с севера на юг – около 4 тыс. к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А если мы полетим на самолете с запада на восток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о будем в пути    около 12         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часов, пролетев над               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сторами России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10 тыс. км.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3671640" cy="27370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44B-193F-4B5D-AC87-50C6E45F3788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СИМВОЛ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НАШЕГО ГОСУДАРСТВ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ГИМ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ГЕРБ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ФЛА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4897440" cy="34560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7D4-BF68-48BF-92B6-13965A8282C2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 Black"/>
              </a:rPr>
              <a:t>ГЕРБ РОССИИ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57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ерб- отличительный символ любого государств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Золотой двуглавый оре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Щит с изображением всадник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кипетр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ержав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024000" cy="316872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B36-8C17-460F-AC76-79B50199FE3D}" type="slidenum">
              <a:t>5</a:t>
            </a:fld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История Росссийского герба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28640"/>
            <a:ext cx="5236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начала 16 века Россия была разрозненным государством, состоящим из нескольких независимых княжеств, поэтому  о едином государственном гербе не могло быть и речи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б появился при  Иван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В качестве герба в то время выступала печать, на лицевой стороне которой был изображен всадник, протыкающий копьем змия, а  на оборотной- двуглавый орел.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2205000"/>
            <a:ext cx="2448000" cy="381636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0CB-4955-4782-84CD-F96D8D6C056E}" type="slidenum">
              <a:t>6</a:t>
            </a:fld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Георгий Победоносец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11280" y="1828800"/>
            <a:ext cx="45514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ще до появления печати гербом Московского княжества считалась икона – эмблема Воина Небесного, св. Георгия Победоносц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итание Георгия как святого началось с 5 в. И получило распространение во всем христианском мире. С принятием христианства почитание св. Георгия пришло и на Рус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027240" cy="388332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DD1-81B0-4C8C-82E9-5E6C4350B7CB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 Black"/>
              </a:rPr>
              <a:t>Двуглавый орел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496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ки 18 века полагали, что двуглавый орел пришел на Русь из Византии в результате женитьбы Иван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а Софье Палеолог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ако современные исследователи подвергают сомнению это утверждение. Возможно, изображение орла появилось на русских монетах под влиянием южнославянских стран, где двуглавый орел использовался как герб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Византии же орел служил отличительным знаком принадлежности к императорскому двору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казывается также предположение о заимствовании русскими князьями двуглавого орла из Золотой Орды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736720" cy="29732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082-66FA-43DA-AE7E-F1B41B12A00B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4500"/>
                </a:solidFill>
                <a:latin typeface="Arial Black"/>
              </a:rPr>
              <a:t>Изображение орла на русском гербе неоднократно менялось</a:t>
            </a: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2016000" cy="20890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95640" y="1916280"/>
            <a:ext cx="2016360" cy="20890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944720" cy="20890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627280" y="4365720"/>
            <a:ext cx="2016000" cy="20160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364000" y="4365720"/>
            <a:ext cx="1944720" cy="20160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C55-E544-4B52-8C00-0E8B688E61CE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8:15:22Z</dcterms:created>
  <dc:creator>Голуб</dc:creator>
  <dc:description/>
  <dc:language>en-US</dc:language>
  <cp:lastModifiedBy>Мама</cp:lastModifiedBy>
  <dcterms:modified xsi:type="dcterms:W3CDTF">2008-09-19T15:13:04Z</dcterms:modified>
  <cp:revision>59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1000000000001023720</vt:lpwstr>
  </property>
</Properties>
</file>