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1E5-778D-450A-83D2-C3C43C6B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2F8-C99F-44F1-9D55-B85A5F1C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C8A-F5AE-40ED-8446-CE8D8032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EDB-C7F0-4F64-ABF9-84B43068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B297-0EE1-44FA-8891-3D184CB7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CE55-C9B4-46B4-BF6A-E81FDCF4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A8AC-4B96-4789-8485-4C013405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7C96-28AA-4ACF-B000-0861C4C7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294-6A97-487F-9C87-CE1F407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F48D-E27A-45D2-88BF-44CF5E64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1AB6-1E9B-4E39-837F-A42C363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2A1-7AD0-454D-BEF0-3704B6C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8777-C050-4614-BDC7-2EC2F78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06F9-990C-4DC2-B3E5-97DD1C57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B950-5F31-4FAB-8AAB-D09C3AC2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0D4-4280-4FEB-9D69-30C67E29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BCBB-DC17-4390-A3E4-62399AB8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5661-FECC-4652-9E66-8201E171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8307-E944-424F-B7E2-55F36BCA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E8B9-6054-4080-8303-78FE56D7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9D5E3-7FEB-441B-9E65-6EC81E54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7A6D-04F2-4F30-905D-C7D6A47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1FF-9C17-47B5-93A0-F0728130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29E5-0308-4FFA-8E59-927ED6E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4F66-0456-49D1-A8D8-0BF5310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0CCC-D41F-4F69-922C-08F06BE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9215-3A38-4182-AB34-10A9846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36D88-96F8-40AE-8C64-BF244E79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17BA-1E00-4850-819B-11061038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173E-2679-4EFE-87BC-DBB51791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F819-A17C-4940-9DCE-D9E35737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48FC-C22F-4889-AD7A-E0809F7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A67A-C9EF-4024-9873-B59D1A2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33E-5516-4390-8F0C-123C4F3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FCD8-D79B-49F1-8DFA-183DB092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8014-5D5B-475C-93E9-1F515A5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724E-2B5C-4F1D-96A1-594267B2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32C3-E4EA-43B9-8ED3-82E10FDE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01BB-628A-41FE-9AA3-186DE94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1B29-25BD-41C1-BB85-BEB8D74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50FE-6452-45DC-AEA6-58DBE9E0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AC2D-804B-4DCD-8C01-8624E6A0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843E-240F-4D00-800B-D5FC1EC0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22EE-B93D-4698-9B21-B46155FF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FFB-578E-43A2-B2DD-45D87796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460B-F784-41E0-8A02-E5B99554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0091-3AEA-4488-9E93-4E3352CD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D86F-82FD-43F6-9CEE-08FD3BB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04D6-E1CB-41F5-8B4A-94970D1F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0926-9675-4DA4-9082-6EA3D0AD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1502D-415E-4F80-A30E-43573F4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A847-38A8-4A6E-A231-4EB05ECF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DD0F9-8AFB-4880-9A75-01D366A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9CFF7-CE16-44BD-A335-900AC00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6FF4-A2F3-4D9A-AD31-FF2F8BE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CE3-FBEF-4FE8-B244-9F6F0E59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832B7-BB08-4BB8-A626-778B70A8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6AAD-3EC3-4A37-BDC3-6457B669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18832-F864-4659-8F3A-2D6DAFB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D153-1D90-4F7B-90F2-391EF12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61D0F-33E5-427D-8ACB-466CB67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56F36-6450-49B4-B0DB-C8CFC17D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8D424-6B69-490F-A73C-B6A64119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65E5-B3BD-4218-88E2-B98BA3A0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7A85-4BC0-4AAE-9A02-8EFABC5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CD6B-6A0E-4722-B750-B0956EBE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EA5-D3AF-4877-B6FF-4DD06E4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4032-2E1D-46E0-9741-9044BC3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2939B-81D3-45A6-BB35-471858ED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D934-B592-44EA-AFAF-BC362BDC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C3A18-038B-45EF-BAB7-40D5EAD8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4610-A543-4ECF-9695-4B3EF247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7F51E-2DA9-4AEE-BCB5-61A0318D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077BD-3874-4DF6-8238-A3A5A2F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571F-0BAC-42E3-A8DA-E0D3A8B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88D53-BFDA-406D-A4EC-509B0E28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10FE-CC8C-44FB-95FC-F2DDF214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4CC-655C-4053-8CD2-E370DCF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8A8D-04A8-4326-87A5-53D65604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25EF-1C41-4400-94D2-CEBA372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4862C-C264-4C44-9B07-08C7500C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31B37-CDF4-4522-A2CA-1604CC41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380E5-CC3F-4E35-A140-C195C53E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CA6-5A27-4CAA-9AA3-A1B18067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F9F2-6EB8-4CC6-B21D-7C97B5BA7FB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75EC-A959-4687-9AE3-4166507478A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F126-F85F-4BFE-A8DD-250302297AA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60C-53FF-4C5E-8B2D-7333097ACC2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59C-A309-49C7-9593-9D82F501735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D67-1568-46B3-9DA7-03DA6B7DE05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C27E-D807-458A-AE53-C24D6AED5299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4" descr="982526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1116000" y="455760"/>
            <a:ext cx="734544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«Мы наследники Победы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2 б класс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МАОУ «СОШ № 10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г. Кунгу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</a:rPr>
              <a:t>2015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л. руководи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Голубе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Оксана Вита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0" y="2934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1200"/>
                </a:solidFill>
                <a:latin typeface="Times New Roman"/>
                <a:ea typeface="Times New Roman"/>
              </a:rPr>
              <a:t>4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городском конкур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коративно-прикладного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 наследники Побед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" descr="20150224_172444"/>
          <p:cNvPicPr/>
          <p:nvPr/>
        </p:nvPicPr>
        <p:blipFill>
          <a:blip r:embed="rId1"/>
          <a:srcRect l="0" t="17133" r="0" b="5945"/>
          <a:stretch/>
        </p:blipFill>
        <p:spPr>
          <a:xfrm>
            <a:off x="684360" y="2349360"/>
            <a:ext cx="3268440" cy="335304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348" name="Picture 3" descr="20150227_141842"/>
          <p:cNvPicPr/>
          <p:nvPr/>
        </p:nvPicPr>
        <p:blipFill>
          <a:blip r:embed="rId2"/>
          <a:stretch/>
        </p:blipFill>
        <p:spPr>
          <a:xfrm>
            <a:off x="4284720" y="2637000"/>
            <a:ext cx="3587760" cy="268920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w7EaSga93Us"/>
          <p:cNvPicPr/>
          <p:nvPr/>
        </p:nvPicPr>
        <p:blipFill>
          <a:blip r:embed="rId1"/>
          <a:stretch/>
        </p:blipFill>
        <p:spPr>
          <a:xfrm>
            <a:off x="2152800" y="450720"/>
            <a:ext cx="341928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4360" y="-263880"/>
            <a:ext cx="799128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Цель проект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создание условий для форм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духовно-богатого, социально-активного граждан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воспитание гражданско-патриотического чувства у детей, чувство гордости за подвиг русского народа в В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снижение уровня правонарушений и вредных привычек школьников средств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патриотического воспит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развитие творчес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способностей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684360" y="23274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684360" y="620640"/>
            <a:ext cx="7272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ение  знания детей о Великой Отечественной вой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детей с картин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ов о войне, военными песнями, фильмами о  войне, с художественными произвед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 чувства ува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ветеран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заслугам и подвигам воинов Великой Отечественной вой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4360" y="23274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1042920" y="620640"/>
            <a:ext cx="748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Ожидаемый результа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Знакомство с историей нашей Род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Знакомство с произведениями о Великой Отечественной войне, с героями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Беседы с участниками военных действий и тружениками тыла в годы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Участие в  </a:t>
            </a:r>
            <a:r>
              <a:rPr b="1" lang="en-US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городском конкур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стихов «День неизвестного солдат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684360" y="23274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6"/>
          <p:cNvSpPr/>
          <p:nvPr/>
        </p:nvSpPr>
        <p:spPr>
          <a:xfrm>
            <a:off x="826920" y="62064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Ожидаемый результа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Участие в школьном конкурсе чтец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«У войны не детское лиц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Участие в школьном конкур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театрализованной песни военных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Участие в городском и школьном конкурсах рисунков и поделок ко Дню Поб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a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Создание Книги Памя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5" descr="76093487.jpg"/>
          <p:cNvPicPr/>
          <p:nvPr/>
        </p:nvPicPr>
        <p:blipFill>
          <a:blip r:embed="rId1"/>
          <a:stretch/>
        </p:blipFill>
        <p:spPr>
          <a:xfrm>
            <a:off x="0" y="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0" y="1444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893240" y="690480"/>
            <a:ext cx="542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лама социаль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–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следники победы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7" descr="0Xy8dnBwJ5E"/>
          <p:cNvPicPr/>
          <p:nvPr/>
        </p:nvPicPr>
        <p:blipFill>
          <a:blip r:embed="rId2"/>
          <a:srcRect l="0" t="15157" r="0" b="15157"/>
          <a:stretch/>
        </p:blipFill>
        <p:spPr>
          <a:xfrm>
            <a:off x="1692360" y="2637000"/>
            <a:ext cx="257472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" descr="20141209_130514"/>
          <p:cNvPicPr/>
          <p:nvPr/>
        </p:nvPicPr>
        <p:blipFill>
          <a:blip r:embed="rId2"/>
          <a:stretch/>
        </p:blipFill>
        <p:spPr>
          <a:xfrm>
            <a:off x="1258920" y="1989000"/>
            <a:ext cx="3908520" cy="29307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4"/>
          <p:cNvSpPr/>
          <p:nvPr/>
        </p:nvSpPr>
        <p:spPr>
          <a:xfrm>
            <a:off x="900000" y="476280"/>
            <a:ext cx="67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Знакомство с произведениями о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"/>
          <p:cNvSpPr/>
          <p:nvPr/>
        </p:nvSpPr>
        <p:spPr>
          <a:xfrm>
            <a:off x="2050920" y="76500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Встреча с ветера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1476360" y="13770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теран ВОВ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ряков А.Ф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1123560" y="2568600"/>
            <a:ext cx="583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теран - блокадница Зернина Т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208160" y="3434040"/>
            <a:ext cx="514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реча с детьми отц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вернувшихся с вой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«Памяти серд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5" descr="76093487.jpg"/>
          <p:cNvPicPr/>
          <p:nvPr/>
        </p:nvPicPr>
        <p:blipFill>
          <a:blip r:embed="rId1"/>
          <a:stretch/>
        </p:blipFill>
        <p:spPr>
          <a:xfrm>
            <a:off x="0" y="-11160"/>
            <a:ext cx="9128160" cy="68691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1282680" y="306000"/>
            <a:ext cx="657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c1200"/>
                </a:solidFill>
                <a:latin typeface="Times New Roman"/>
                <a:ea typeface="Times New Roman"/>
              </a:rPr>
              <a:t>3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1 городском конкурсе стих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нь неизвестного солдата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DSC_1558"/>
          <p:cNvPicPr/>
          <p:nvPr/>
        </p:nvPicPr>
        <p:blipFill>
          <a:blip r:embed="rId2"/>
          <a:srcRect l="16372" t="2167" r="31655" b="0"/>
          <a:stretch/>
        </p:blipFill>
        <p:spPr>
          <a:xfrm>
            <a:off x="1476360" y="1773360"/>
            <a:ext cx="3382920" cy="422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7:52:01Z</dcterms:created>
  <dc:creator>Дом</dc:creator>
  <dc:description/>
  <dc:language>en-US</dc:language>
  <cp:lastModifiedBy>Оксана</cp:lastModifiedBy>
  <dcterms:modified xsi:type="dcterms:W3CDTF">2015-05-16T16:06:51Z</dcterms:modified>
  <cp:revision>67</cp:revision>
  <dc:subject/>
  <dc:title>Мы – наследники Победы!</dc:title>
</cp:coreProperties>
</file>