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C80D-6CB3-40F6-B784-392D7F2DD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10CE-667B-4EF6-A722-90230AD3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EB94-34EC-421D-8313-1E4121AD0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594A-3115-4C61-B50D-5DFD69EC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B033-E547-48A3-B0E4-EEB99701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3F89-3968-408A-AD66-A3C6F5E1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9C59-EDCF-4CE0-A715-2ACA9271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1031-07EA-44EB-A42B-2C8AC5FD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2C13B-F363-41E0-BF5E-76F9D927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C012-4970-4EEC-A77B-DE27AB67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3D6D-5B62-4F2A-978A-CC1F32B6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F69E-7271-44FC-A211-AFAB399D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CB24B-85A3-46AA-99BC-98812999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1E48-3685-44F3-98FA-A5D1006D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9CEB-E3ED-4A9B-B305-1F5F514D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8316-EDB8-4625-92B0-CD88C2CEB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AD8F-E6BC-4563-88DC-22303412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1620F-314C-4D9D-B304-4E0E26E6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64FB7-B258-4B37-8B44-AC323A4AD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4A8D7-B009-426B-8C2A-B9142ED0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C34D9-D67D-4AD6-AA7E-44E19F44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59B13-57A9-426E-9963-2BEB8F2D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B690-D032-49FC-B0E6-DC1FAD11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DFE25-C28D-4647-856C-9D4CEA53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773AB-DEB2-4F22-ACED-EBEFF2BD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6FC91-31C4-4F64-A473-582733EF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F9C65-E90C-499D-8551-B26916CD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38020-1787-4A37-A1FF-F07687C3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9EF21-7445-432E-B5F8-3FE07A82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AF546-3331-4FFF-AF3B-EE406951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C903D-C248-474A-9773-282682AF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73E7D-1B4A-4CB3-872F-89209953A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5E332-7695-4343-9D60-A1AA26E2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55C-221E-4ABF-92CA-004FD286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BA95A-30CC-42A6-B96F-6BDD73B6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9F4A5-F5C0-4490-9814-CF6C9355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D83D2-7F3A-4E31-9472-6F5EAA85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CA08D-EFEC-4632-BA09-DE9C38C6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77137-F3C7-412D-8507-435A169B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74A63-D53A-4B82-9060-83C7DFB9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820BD-4C49-46CC-A366-EBCE75D8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596A6-C98D-4F1E-82B7-52155896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E9DE9-9BC7-412B-9387-0B14910B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92B70-CE89-4A2D-92F7-3E34F631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DDF-E9AF-4BC8-9A20-69C471FDA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D4EAD-D883-4307-9B43-D71CC5DC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8DCE9-DD4A-45E6-B2F7-1D092EB9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33221-9D1C-48D8-BD67-9F022FDA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072E3-D75A-4257-A3FF-5C02AC1E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4143A-6384-4888-8BE3-B27EE2903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23458-6225-4747-BE80-6C747AD6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0EA8E-D36E-48C3-B1D8-19966FE2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BA0D0-3805-4E55-BE8D-A0820CAE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EABE8-0B83-4B7B-AD76-CB06EE25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CEF37-DA9E-4974-A80A-67300C0D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E8BB-E289-4E8B-AC5B-09CC1D1D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22CA6-6D46-47BF-9A3C-B990D04F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5DB04-38D8-4755-BE03-657A6796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0E67E-EFB1-47D8-B770-F9DDD023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85E03-3F5C-49EE-9125-9339E886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31AA8-BE69-474B-A226-34ED7509C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60E7C-0A31-48DF-8D99-4AF7BB65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ACA55-7105-41D3-92A4-8E06D6E9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92CAC-941B-4D74-8759-2ABEDAE0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BBF58-89BF-4DB3-B225-A1D2740F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D1180-33B2-41D0-83FB-30AB8C25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DA33-6092-406D-B657-6CDFBDD1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4470E-1726-475C-BDE7-B1AF2720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DC31C-DE97-46AB-8BA2-544D9208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061E5-7393-4838-99CA-A4840A66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61C71-083C-42AF-AF54-FC4241F2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87A99-22F1-4E73-9843-90AD9D38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DD631-2F59-4A8B-9426-1B9AFE83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14FF3-01EC-4201-BDE3-D74811D0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75376-24E1-4A38-ABF8-2AD859CA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CBA84-7F6E-42BA-9B22-0A6775D2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9067E-FF64-4AC6-B462-CAF355AB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6265-6616-48B0-AB29-3C8C798A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7947D-00C8-4A3C-BC37-B5D2EA0B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3026BC-8E1D-46E6-B6FA-F24D4B89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B02FA-C5E8-47F2-85BD-A18C3B851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8E710-F935-40EF-8415-B19EAFDA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56120-5330-4E82-9263-22CB2C842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3034-5533-445E-8E71-94DAF580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90AF-A600-4EA4-BE3C-A07FE574FD1D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47D0-6629-47B6-82D0-C2F8C5EF77E2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A64F-C056-4ACC-B261-176D2DF2610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311E-623E-4AB1-BE71-372B21BA0A2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EABB-5549-4EED-A092-B97CAC7F1D7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9754-C42F-4FD9-A9A2-2F80608A728F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9541-F0E4-4942-A84B-68041842D1E1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"/>
          <p:cNvSpPr/>
          <p:nvPr/>
        </p:nvSpPr>
        <p:spPr>
          <a:xfrm>
            <a:off x="0" y="-1152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1200"/>
                </a:solidFill>
                <a:latin typeface="Times New Roman"/>
                <a:ea typeface="Times New Roman"/>
              </a:rPr>
              <a:t>5 эта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ие в краевом интеллектуальном турнире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вященном 70-летию Побе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Великой Отечественной войн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ы помним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2" descr="Мусихина Анна Андреевна (3)"/>
          <p:cNvPicPr/>
          <p:nvPr/>
        </p:nvPicPr>
        <p:blipFill>
          <a:blip r:embed="rId1"/>
          <a:stretch/>
        </p:blipFill>
        <p:spPr>
          <a:xfrm>
            <a:off x="1116000" y="2708280"/>
            <a:ext cx="3343320" cy="290844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3" descr="Тазова Милана Серегеевна"/>
          <p:cNvPicPr/>
          <p:nvPr/>
        </p:nvPicPr>
        <p:blipFill>
          <a:blip r:embed="rId2"/>
          <a:stretch/>
        </p:blipFill>
        <p:spPr>
          <a:xfrm>
            <a:off x="4830840" y="2852640"/>
            <a:ext cx="323856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0" y="34596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c1200"/>
                </a:solidFill>
                <a:latin typeface="Times New Roman"/>
                <a:ea typeface="Times New Roman"/>
              </a:rPr>
              <a:t>6 этап                                                                                                                                            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ие в школьном фестивал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енно-патриотической пес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сценировка «Песни фронтового шофер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Рисунок 4" descr="фестиваль песи.jpg"/>
          <p:cNvPicPr/>
          <p:nvPr/>
        </p:nvPicPr>
        <p:blipFill>
          <a:blip r:embed="rId1"/>
          <a:stretch/>
        </p:blipFill>
        <p:spPr>
          <a:xfrm>
            <a:off x="1403280" y="2349360"/>
            <a:ext cx="2808360" cy="385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071800" y="554400"/>
            <a:ext cx="415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1200"/>
                </a:solidFill>
                <a:latin typeface="Times New Roman"/>
                <a:ea typeface="Times New Roman"/>
              </a:rPr>
              <a:t>7 эта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здание Книги Памя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Рисунок 4" descr="книга памяти.jpg"/>
          <p:cNvPicPr/>
          <p:nvPr/>
        </p:nvPicPr>
        <p:blipFill>
          <a:blip r:embed="rId1"/>
          <a:srcRect l="-2005" t="3811" r="5576" b="1047"/>
          <a:stretch/>
        </p:blipFill>
        <p:spPr>
          <a:xfrm>
            <a:off x="539640" y="2421000"/>
            <a:ext cx="2692440" cy="354492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4"/>
          <p:cNvSpPr/>
          <p:nvPr/>
        </p:nvSpPr>
        <p:spPr>
          <a:xfrm>
            <a:off x="2987640" y="1567080"/>
            <a:ext cx="56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 создали нашу «Книгу памяти»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оторой попытались рассказа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 мы помним и гордимся подвигом наших бабушек и дедушек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ажавшихся на полях сражений и работавших в ты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Box 5"/>
          <p:cNvSpPr/>
          <p:nvPr/>
        </p:nvSpPr>
        <p:spPr>
          <a:xfrm>
            <a:off x="826920" y="5013360"/>
            <a:ext cx="20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нига Памя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Box 1"/>
          <p:cNvSpPr/>
          <p:nvPr/>
        </p:nvSpPr>
        <p:spPr>
          <a:xfrm>
            <a:off x="2627280" y="6206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Бессмертный полк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468360" y="1413000"/>
          <a:ext cx="7993080" cy="4906800"/>
        </p:xfrm>
        <a:graphic>
          <a:graphicData uri="http://schemas.openxmlformats.org/drawingml/2006/table">
            <a:tbl>
              <a:tblPr/>
              <a:tblGrid>
                <a:gridCol w="1292040"/>
                <a:gridCol w="1357560"/>
                <a:gridCol w="1349280"/>
                <a:gridCol w="1349280"/>
                <a:gridCol w="1349280"/>
                <a:gridCol w="1295640"/>
              </a:tblGrid>
              <a:tr h="875160"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ФИО ребен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ФИО предка, воевавшего в ВОВ (пояснить в скобках, кем приходится ребенку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Где служил (место службы и род войск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Годы служб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Звани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Ордена, наград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1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Тазова Милан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Степанов Виталий Иванович, родной дядя дедушк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I </a:t>
                      </a: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Гвардейская минометная бригада, Северо-Кавказский фронт, отдельная Приморская арми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942-1945гг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красноармеец, рядово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неизвестн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Борисова Анн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Суслов Владимир Николаевич, прадедуш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363 отдельный танковый батальон, 130 стрелковый полк, 156 стрелковый дивизион, 329 корпусная артиллерийская бригад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941-1945гг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механик-водитель, музыкан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не был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Белобородова Лиз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Рожков Федор Иванович, прадедуш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Пехотные войс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942-1945гг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рядово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имеютс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Костарев Ники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Горбунов Иван Георгиевич, прадедуш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I </a:t>
                      </a: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Украинский фрон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942-146гг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взрывни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имеются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Мусихина Анн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Быков Николай Петрович, прадедушк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Брянский фронт, Воронежский фронт в составе 60-й армии, </a:t>
                      </a:r>
                      <a:r>
                        <a:rPr b="1" lang="en-US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I </a:t>
                      </a: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Украинский фрон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941-1945гг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рядово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имеются: «За отвагу!», «За боевые заслуги!»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755640" y="692280"/>
          <a:ext cx="7391520" cy="4836960"/>
        </p:xfrm>
        <a:graphic>
          <a:graphicData uri="http://schemas.openxmlformats.org/drawingml/2006/table">
            <a:tbl>
              <a:tblPr/>
              <a:tblGrid>
                <a:gridCol w="1193760"/>
                <a:gridCol w="1255680"/>
                <a:gridCol w="1249560"/>
                <a:gridCol w="1247760"/>
                <a:gridCol w="1247760"/>
                <a:gridCol w="1197000"/>
              </a:tblGrid>
              <a:tr h="18921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Пачев Артем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Закирзянов Мытыгула, прадедуш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6 запасной стрелковый полк,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45 железнодорожная бригад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942-1945г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стрелок, минер-подрывни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имеются: «За боевые заслуги!», «За победу над Германией», «За оборону Сталинграда», орден «Красной Звезды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26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Галямов Глеб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Абрамов Николай Иванович, прадедуш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8-ая мотострелковая бригада 9-ого танкового корпус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941-1945г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команди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имеются: два ордена «Красной Звезды», «За освобождение Варшавы», «За взятие Берлина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Капустин Алексе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Козлова Мария Федоровна, Туров Иван Терентьевич, прадедушка и прабабуш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Воевали на передово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942-1945гг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старшина, ефрейто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имеются:  четыре «За отвагу!»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Box 2"/>
          <p:cNvSpPr/>
          <p:nvPr/>
        </p:nvSpPr>
        <p:spPr>
          <a:xfrm>
            <a:off x="2050920" y="620640"/>
            <a:ext cx="55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стие в городском праздни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апа, мама, я – спортивная семья», посвященном 70-летию Побед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Рисунок 4" descr="2 место папа, мама я спорт.семья.jpg"/>
          <p:cNvPicPr/>
          <p:nvPr/>
        </p:nvPicPr>
        <p:blipFill>
          <a:blip r:embed="rId1"/>
          <a:stretch/>
        </p:blipFill>
        <p:spPr>
          <a:xfrm>
            <a:off x="1692360" y="1773360"/>
            <a:ext cx="3097080" cy="42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Box 1"/>
          <p:cNvSpPr/>
          <p:nvPr/>
        </p:nvSpPr>
        <p:spPr>
          <a:xfrm>
            <a:off x="1332000" y="69228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c1200"/>
                </a:solidFill>
                <a:latin typeface="Times New Roman"/>
                <a:ea typeface="Times New Roman"/>
              </a:rPr>
              <a:t>Отзывы участников прое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3" descr="сканирование0013"/>
          <p:cNvPicPr/>
          <p:nvPr/>
        </p:nvPicPr>
        <p:blipFill>
          <a:blip r:embed="rId1">
            <a:lum bright="-30000"/>
          </a:blip>
          <a:srcRect l="0" t="4295" r="2565" b="0"/>
          <a:stretch/>
        </p:blipFill>
        <p:spPr>
          <a:xfrm>
            <a:off x="1476360" y="1268280"/>
            <a:ext cx="4826160" cy="38815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-45072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-45072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468360" y="349200"/>
            <a:ext cx="77756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зыв Ани Борисов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этом году 9 мая празднуется праздник 70-лет Победы!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у нас в школе проводились разные мероприятия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свящённые этому дню: «Реклама нашего проекта»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ы наследники победы»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курсы рисунков и поделок ко Дню Победы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курс чтецов, встречи с ветеранами, создание Книги Памяти, гд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ждый из нас написал о своих родственниках участвовавших в ВОВ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написала о своём прадедушк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встрече с ветераном я узнала много нового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имер, о том, что ушло на войну из города Кунгура 25 тысяч человек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 вернулось только 11 тысяч и это меня очень впечатлило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инство из оставшихся ветеранов сидят дома 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куда не ходя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 и несколько девочек из нашего класса поучаствовал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онкурсе чтецов. Я рассказала стихотворение Самуила Марша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Мальчик из села Поповки». В этом конкурсе я заняла 2 место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не очень понравились все мероприятия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 больше всех мне понравилась встреча с ветераном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тому что он всё помнит и согласился прий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школу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тобы рассказать нам о войн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324000" y="56988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Lucida Sans Unicode"/>
              </a:rPr>
              <a:t>Ну вот и закончили мы представлень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Lucida Sans Unicode"/>
              </a:rPr>
              <a:t>Защитили проект всем  в удивленье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Lucida Sans Unicode"/>
              </a:rPr>
              <a:t>Мы много узнали и много смогли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Lucida Sans Unicode"/>
              </a:rPr>
              <a:t>Родители и Оксана Витальевна нам помогли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Lucida Sans Unicode"/>
              </a:rPr>
              <a:t>Мы память о подвиге воинском то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Lucida Sans Unicode"/>
              </a:rPr>
              <a:t>Хранить в своем сердце клянем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Lucida Sans Unicode"/>
              </a:rPr>
              <a:t>И в мирное время, в котором живе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Lucida Sans Unicode"/>
              </a:rPr>
              <a:t>Уверены: многого в жизни добьемс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Lucida Sans Unicode"/>
              </a:rPr>
              <a:t>Учиться также старательно буде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Lucida Sans Unicode"/>
              </a:rPr>
              <a:t>Идти в своих знаниях только вперед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Lucida Sans Unicode"/>
              </a:rPr>
              <a:t>Чтоб говорили в Кунгуре все люд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Lucida Sans Unicode"/>
              </a:rPr>
              <a:t>«Вот гордость 10-ой школы идет!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4T17:52:01Z</dcterms:created>
  <dc:creator>Дом</dc:creator>
  <dc:description/>
  <dc:language>en-US</dc:language>
  <cp:lastModifiedBy>Оксана</cp:lastModifiedBy>
  <dcterms:modified xsi:type="dcterms:W3CDTF">2015-05-16T16:06:06Z</dcterms:modified>
  <cp:revision>66</cp:revision>
  <dc:subject/>
  <dc:title>Мы – наследники Победы!</dc:title>
</cp:coreProperties>
</file>