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A9F-61A8-4123-B7FB-4A4097B6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F05-A8A0-451B-BBB6-2CAC04DB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3F0-EE1D-4CF2-85F5-DFC93F11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F66-AE45-4BDC-BD01-EFA02AA4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41E7-4E2A-47E1-A5B8-B0AE2946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9D35-C44B-40A4-BD15-639605CF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13F0-AB6C-4A46-9D55-3B5F2803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EFC9-C21C-4900-9DE8-2EBFEE41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CFBD-1649-491B-9884-F79F42AA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CD45-4520-4DA8-B06A-FCE92C8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5814-E1FC-46FF-8727-EB5EB219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BC9-9B95-423A-A5F6-880BC102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7DE4-25BF-44A6-868F-B07B1E0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5473-0AF3-485B-A8EB-11F879A3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8AF4-7C35-4309-8850-98F9E090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B1CE-06EE-45DF-841A-9211A2B4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8BDD-D0C7-45F6-ADE7-E02F7984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FA2-0B09-43B4-8B69-A30D6571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7CE-69EE-4EC7-BAB8-B6D2688D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A8A-1D9B-4F98-8B48-2C534D17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A58-68F1-4BBF-9EE1-C483A10D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882-7A7D-4E6B-AF58-E7A763FB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752-6FC2-4479-B593-A825CFB4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7EC-4667-450A-9C4C-99BB288F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4AB3-CA11-413A-B303-CB5138E7FE6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297-8B05-4A82-BED4-D9D9493DB14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1plus.am/file/img/b/152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СПИД– смертельная угроза человечеству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Что должен знать школьник о СПИДе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Гипотезы происхождения виру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285228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8f8f8"/>
                </a:solidFill>
                <a:latin typeface="Tahoma"/>
              </a:rPr>
              <a:t>Мартышки в Африке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8f8f8"/>
                </a:solidFill>
                <a:latin typeface="Tahoma"/>
              </a:rPr>
              <a:t>Бактериологическое оружие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8f8f8"/>
                </a:solidFill>
                <a:latin typeface="Tahoma"/>
              </a:rPr>
              <a:t>Мог существовать с древност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тория Томаса 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Картинка 21 из 2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1844640"/>
            <a:ext cx="335448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Как действует вирус СПИД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Вирус поражает ту часть иммунной системы человека, которая отвечает за иммунитет, за борьбу с различными инфекциями, попавшими в организм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И что дальш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В результате болезни человеческий организм становится беззащитным перед инфекционными и опухолевыми заболеваниями, с которыми справляется нормальная иммунная систе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PyramidChart 2;Master;1;0.15;3"/>
          <p:cNvSpPr/>
          <p:nvPr/>
        </p:nvSpPr>
        <p:spPr>
          <a:xfrm>
            <a:off x="1187280" y="2060640"/>
            <a:ext cx="6723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537372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72" h="21600">
                <a:moveTo>
                  <a:pt x="13741" y="14281"/>
                </a:moveTo>
                <a:lnTo>
                  <a:pt x="13741" y="12323"/>
                </a:lnTo>
                <a:cubicBezTo>
                  <a:pt x="13741" y="11496"/>
                  <a:pt x="14072" y="10800"/>
                  <a:pt x="14673" y="10800"/>
                </a:cubicBezTo>
                <a:cubicBezTo>
                  <a:pt x="15804" y="10800"/>
                  <a:pt x="16701" y="9434"/>
                  <a:pt x="16701" y="7849"/>
                </a:cubicBezTo>
                <a:cubicBezTo>
                  <a:pt x="16701" y="5534"/>
                  <a:pt x="14847" y="3794"/>
                  <a:pt x="12636" y="3794"/>
                </a:cubicBezTo>
                <a:cubicBezTo>
                  <a:pt x="10425" y="3794"/>
                  <a:pt x="8754" y="5534"/>
                  <a:pt x="8754" y="7849"/>
                </a:cubicBezTo>
                <a:lnTo>
                  <a:pt x="10608" y="7849"/>
                </a:lnTo>
                <a:cubicBezTo>
                  <a:pt x="10608" y="6709"/>
                  <a:pt x="11531" y="5821"/>
                  <a:pt x="12636" y="5821"/>
                </a:cubicBezTo>
                <a:cubicBezTo>
                  <a:pt x="13741" y="5821"/>
                  <a:pt x="14673" y="6709"/>
                  <a:pt x="14673" y="7849"/>
                </a:cubicBezTo>
                <a:cubicBezTo>
                  <a:pt x="14673" y="8589"/>
                  <a:pt x="14203" y="9320"/>
                  <a:pt x="13741" y="9320"/>
                </a:cubicBezTo>
                <a:cubicBezTo>
                  <a:pt x="12636" y="9320"/>
                  <a:pt x="11531" y="10800"/>
                  <a:pt x="11531" y="12323"/>
                </a:cubicBezTo>
                <a:lnTo>
                  <a:pt x="11531" y="14281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44" name="XceedStreamingCompression1"/>
          <p:cNvGraphicFramePr/>
          <p:nvPr/>
        </p:nvGraphicFramePr>
        <p:xfrm>
          <a:off x="4419720" y="3276720"/>
          <a:ext cx="30456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XceedStreamingCompression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2767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47640" y="1413000"/>
          <a:ext cx="60962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141300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Стадии болезни СПИ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ff"/>
                </a:solidFill>
                <a:uFillTx/>
                <a:latin typeface="Tahoma"/>
              </a:rPr>
              <a:t>Заражение вирусом ВИЧ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ff"/>
                </a:solidFill>
                <a:uFillTx/>
                <a:latin typeface="Tahoma"/>
              </a:rPr>
              <a:t>Скрытый период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ff"/>
                </a:solidFill>
                <a:uFillTx/>
                <a:latin typeface="Tahoma"/>
              </a:rPr>
              <a:t>СПИД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172360" y="59500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аражение вирусом ВИЧ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1 стадия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едельная лихорадка, увеличение лимфоузлов, сыпь. Через месяц в крови обнаруживаются антитела к вирусу ВИЧ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8101080" y="602136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602136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рытый период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2 стадия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от нескольких недель до нескольких лет: язвы на слизистой оболочке, грибковые поражения кожи, похудание, понос, повышенная температура тел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8101080" y="602136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ПИ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3 стадия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воспаление легких, опухоли, туберкулез, потеря зрения, слуха, кишечные инфекции, невозможность проглотить пищу, потливость по ночам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602136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но ли убить возбудителя СПИ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1125360"/>
          <a:ext cx="7919640" cy="5356440"/>
        </p:xfrm>
        <a:graphic>
          <a:graphicData uri="http://schemas.openxmlformats.org/drawingml/2006/table">
            <a:tbl>
              <a:tblPr/>
              <a:tblGrid>
                <a:gridCol w="3959640"/>
                <a:gridCol w="3960000"/>
              </a:tblGrid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-7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о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ирт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сколько секунд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пячение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новенно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падание в желудочно-кишечный тракт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рушается соляной кислотой и ферментами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мпература 56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о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минут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зинфицирующие вещества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новенно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падание на кожу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ез 20 минут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412560" y="44136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8f8f8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ути передачи ВИЧ-инфек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Половой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при непостоянном половом партнере </a:t>
            </a:r>
            <a:r>
              <a:rPr b="1" lang="ru-RU" sz="2800" spc="-1" strike="noStrike">
                <a:solidFill>
                  <a:srgbClr val="ff6633"/>
                </a:solidFill>
                <a:latin typeface="Tahoma"/>
              </a:rPr>
              <a:t>(пользоваться презервативами!)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и гомосексуальных отношениях, при искусственном оплодотворени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и использовании </a:t>
            </a:r>
            <a:r>
              <a:rPr b="1" lang="ru-RU" sz="2800" spc="-1" strike="noStrike">
                <a:solidFill>
                  <a:srgbClr val="ff6633"/>
                </a:solidFill>
                <a:latin typeface="Tahoma"/>
              </a:rPr>
              <a:t>загрязненных медицинских инструментов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, у наркоманов – одним шприцем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33"/>
                </a:solidFill>
                <a:latin typeface="Tahoma"/>
              </a:rPr>
              <a:t>От матери- ребенку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: внутриутробно, при родах, при кормлении грудным молоком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33"/>
                </a:solidFill>
                <a:latin typeface="Tahoma"/>
              </a:rPr>
              <a:t>Через кровь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: при переливании крови, пересадке органов и ткан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Ц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Tahoma"/>
              </a:rPr>
              <a:t>Утверждение здорового образа жизни, выработка теоретических знаний и убеждений о здоровом образе жизни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Tahoma"/>
              </a:rPr>
              <a:t>Помочь подросткам осознать, что СПИД – смертельная болезнь, от которой нет спасения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Tahoma"/>
              </a:rPr>
              <a:t>Сформировать ответственное отношение к своему здоровью и здоровью окружающих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ВИЧ не передаетс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Через воздух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При разговоре, кашл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При пользовании общей посудой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Через рукопожати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Через поцелуй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Через пищу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При купании в бассейне, душ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Через спортивные предметы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Через домашних животных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Через укусы насекомых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При уходе за больными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авила написания синквейн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В синквейне 5 строк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нятие (одно слово)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илагательные (два слова)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лаголы (три слова)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едложение (из четырех слов)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существительное (одно слово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илагательные и глаголы должны раскрывать понятие, а предложение – иметь смысловой характер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1.СПИД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Опасный, смертельный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3. Калечит, уродует, разрушает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4. Распространяется из–за невежеств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5. Боль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9185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СПИД – опасное и коварное заболевание, которое вызывается вирусом иммунодефицит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СПИД распространяется из-за нашего невежества, а также нежелания изменить нормы своего поведе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Лозунг «Не погибни из-за невежества!» должен стать нормой жизни для каждого человека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7724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8f8f8"/>
                </a:solidFill>
                <a:latin typeface="Tahoma"/>
              </a:rPr>
              <a:t>1 ДЕКАБРЯ –</a:t>
            </a:r>
            <a:endParaRPr b="0" lang="en-US" sz="7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8f8f8"/>
                </a:solidFill>
                <a:latin typeface="Tahoma"/>
              </a:rPr>
              <a:t>Всемирный день борьбы со СПИдом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На пороге тысячелетий наступает момент, когд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Мы за все бываем в ответе, перелистывая года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Человек, покоривший небо, чудо техники изобретая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Приобщаясь к дурным привычкам о здоровье своем забывает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сновные понят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Tahoma"/>
              </a:rPr>
              <a:t>В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– вирус (крошечный организм, микроб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f8f8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– иммунодефицит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f8f8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- человек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сновные понят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f8f8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синдром (картина болезни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f8f8"/>
                </a:solidFill>
                <a:latin typeface="Tahoma"/>
              </a:rPr>
              <a:t>П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приобретенного (полученного при заражении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f8f8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иммуно- (невосприимчивость, защита от инфекций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f8f8"/>
                </a:solidFill>
                <a:latin typeface="Tahoma"/>
              </a:rPr>
              <a:t>Д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– дефицита (недостаток, недостаточное количество)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8f8f8"/>
                </a:solidFill>
                <a:latin typeface="Tahoma"/>
              </a:rPr>
              <a:t>СПИД</a:t>
            </a:r>
            <a:endParaRPr b="0" lang="en-US" sz="20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ahoma"/>
              </a:rPr>
              <a:t>Опасность!!!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ухая статис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Сегодня в мире около 40 млн. человек заражены ВИЧ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От СПИДа умерло около 25 млн. человек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3280" y="40428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Всего проживает в Казахстане - 15.394.600 человек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з них 9083 ВИЧ-инфицированных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С января 2006 по январь 2007 года обнаружено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1 286 случае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4941720"/>
            <a:ext cx="1200240" cy="762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57340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А за этот год уже 3000 человек!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оличество выявленных за г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99880" y="1103400"/>
          <a:ext cx="8433000" cy="52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103400"/>
                    <a:ext cx="84330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го в Казахстане ВИЧ-инфицирова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1268280"/>
          <a:ext cx="8437680" cy="50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437680" cy="50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1:11:07Z</dcterms:created>
  <dc:creator>Александр</dc:creator>
  <dc:description/>
  <dc:language>en-US</dc:language>
  <cp:lastModifiedBy>Александр</cp:lastModifiedBy>
  <dcterms:modified xsi:type="dcterms:W3CDTF">2007-12-03T01:47:02Z</dcterms:modified>
  <cp:revision>18</cp:revision>
  <dc:subject/>
  <dc:title>СПИД– смертельная угроза человечеств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