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A07-CFD0-4F2C-9C5E-54CEECA7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5D7-74A8-4FCB-8794-19886D92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F7D-E9D6-4D76-9C32-C6D65B2B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82B-53F5-49D3-BEBA-809DC858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B92C-1CA4-409D-95CA-347AFFD9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1B00-988E-483C-9BA8-931AFD88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7ED8-B0FB-40F8-AECA-DC3D4162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BDE4-779D-4889-AC4A-399A03D1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5048-B448-4746-954F-9EF9D365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27D3-F6D7-4784-B489-83E0806C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CEF7-7AFF-49FF-9A6E-1DA28777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5C6-1ACD-4238-905A-4BB7F44A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1D50-9E58-4997-A7E2-FB26F00A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7D20-6E4F-4E1A-B326-0B8459D0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8831-CF8A-4658-AF87-8BEFFB8D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412D-DD58-4FD2-B1AA-90F924F4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56F7-893A-4B73-8651-66554C3A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726-FBF4-41FF-9948-0F772D91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1FD-3572-4F93-8CDF-C761063B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35E-0F40-4D19-B113-01E17522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39F-C3A1-4413-BDB1-68A55289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230-9E00-4DBB-A333-8DC282B7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D6B6-A40D-4327-BEBB-7BF26897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CC9-ED4F-4E68-8389-0F2E786E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9416-44A9-4A97-9E98-D65BFA0005D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6485-6B2B-4F1B-B731-8624FF43E78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332000" y="2144880"/>
            <a:ext cx="655308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хочет ста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личнико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411280" y="476280"/>
            <a:ext cx="3240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Раств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1844640"/>
            <a:ext cx="77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5. Концентрация раствора при постоянной температуре зависит о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8200" y="2944800"/>
            <a:ext cx="685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количества растворенного веществ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количества растворителя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4508640"/>
            <a:ext cx="6178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перемешивания раствор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характера растворенного вещества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9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700360" y="476280"/>
            <a:ext cx="439272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борочный тур</a:t>
            </a:r>
            <a:endParaRPr b="1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84464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В авторской формулировке периодического закона Д.И.Менделеева имеется выражение «простое тело», которое на современном химическом языке означа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43657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простое вещество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5084640"/>
            <a:ext cx="311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неорганическое вещество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4365720"/>
            <a:ext cx="311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неодушевленное тело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химический элемент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195640" y="404640"/>
            <a:ext cx="4914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Times New Roman"/>
              </a:rPr>
              <a:t>ПСХЭ Д.И. Менделее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1052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. Какой из приведенных химических элементов имеет наиболее ярко выраженные неметаллические свойства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2349360"/>
            <a:ext cx="95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A) S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68360" y="2349360"/>
            <a:ext cx="38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Б)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Se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; В)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 Si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; Г)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 Sc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95480" y="3089160"/>
            <a:ext cx="66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2. Химические свойства определяются прежде всег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4067280"/>
            <a:ext cx="2735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зарядом ядра атом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положением химического элемента в ПТХЭ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67280" y="3933720"/>
            <a:ext cx="32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атомной массой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75120" y="4600440"/>
            <a:ext cx="340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строением внешнего электронного уровня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195640" y="404640"/>
            <a:ext cx="4914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Times New Roman"/>
              </a:rPr>
              <a:t>ПСХЭ Д.И. Менделее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Times New Roman"/>
              <a:ea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557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3. Какой из приведенных химических элементов имеет наиболее ярко выраженные металлические свойства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2841480"/>
            <a:ext cx="31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А)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Te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Б)А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В)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Fe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2000" y="2852640"/>
            <a:ext cx="8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Г)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342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4. Физический смысл порядкового номера химического элемента в том, что он определя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1480" y="4570560"/>
            <a:ext cx="31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положение элемента в ПТХЭ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79480" y="5392800"/>
            <a:ext cx="326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число протонов в ядре атом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43280" y="460044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число энергетических уровней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число нейтронов в атоме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1280" y="1341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5. Какие два химических элемента из приведенных обладают наиболее сходными химическими свойствами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8004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А)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Al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и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 Se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; Б)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 P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; В)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 Ti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278136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Г)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и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 Se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35924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6. Металлические свойства химических элементов в ряду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Mg-Al-Na-K-Rb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5120" y="4745160"/>
            <a:ext cx="282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возрастают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уменьшаются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19480" y="4529160"/>
            <a:ext cx="36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вначале ослабевают, а затем усиливаются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5120" y="5392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вначале возрастают, затем уменьшаются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95640" y="404640"/>
            <a:ext cx="4914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Times New Roman"/>
              </a:rPr>
              <a:t>ПСХЭ Д.И. Менделее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9640" y="1413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7. Какие вещества в каждой паре реагируют между собой наиболее активно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2492280"/>
            <a:ext cx="31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6666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Cl2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и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 Al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Б)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Ca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и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 Cl2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48000" y="2349360"/>
            <a:ext cx="21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B) K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и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 Cl2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2492280"/>
            <a:ext cx="28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Г)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Cl2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и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 N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3500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8. Неметаллические свойства химических элементов с точки зрения химии обусловлены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4437000"/>
            <a:ext cx="376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активностью взаимодействия их с металлами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5661000"/>
            <a:ext cx="37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способностью атомов принимать электроны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00560" y="4889520"/>
            <a:ext cx="361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строением кристаллической решетки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величиной относительной ЭО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95640" y="404640"/>
            <a:ext cx="4914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Times New Roman"/>
              </a:rPr>
              <a:t>ПСХЭ Д.И. Менделее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29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30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8360" y="1720800"/>
            <a:ext cx="71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9. Амфотерными свойствами не обладае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280044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A) ZnO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; Б)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Zn(OH)2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В)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Al2O3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27813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Г) </a:t>
            </a: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Cu2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37368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0. У химических элементов изменяются периодическ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4869000"/>
            <a:ext cx="28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атомная масс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атомное ядро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64000" y="4869000"/>
            <a:ext cx="29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атомный радиус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5373720"/>
            <a:ext cx="30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атомный номер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195640" y="404640"/>
            <a:ext cx="4914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Times New Roman"/>
              </a:rPr>
              <a:t>ПСХЭ Д.И. Менделее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31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33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9640" y="1647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1. Число электронов в атоме определяется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23840" y="2440080"/>
            <a:ext cx="340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строго определенной атомной массой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строением внешнего электронного слоя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27480" y="2440080"/>
            <a:ext cx="318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наличием избыточного заряд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213000"/>
            <a:ext cx="35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зарядом ядра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3933720"/>
            <a:ext cx="70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2. Зная положение элемента в ПТХЭ, можно предсказать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4941720"/>
            <a:ext cx="36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максимальную валентность элемент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50760" y="5753160"/>
            <a:ext cx="340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распространенность элемента в природе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72200" y="5218200"/>
            <a:ext cx="18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56360" y="5013360"/>
            <a:ext cx="230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число изотопов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число электроно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95640" y="404640"/>
            <a:ext cx="4914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Times New Roman"/>
              </a:rPr>
              <a:t>ПСХЭ Д.И. Менделее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36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126828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3. Водные растворы водородных соединений каких элементов проявляют кислотные свойства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2492280"/>
            <a:ext cx="13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азот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287352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хлор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11480" y="2513160"/>
            <a:ext cx="326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калия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натрия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342900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4. В каких рядах элементов металлические свойства сначала растут, а затем уменьшаются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4745160"/>
            <a:ext cx="41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натрий, калий, рубидий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бор, бериллий, литий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95840" y="4600440"/>
            <a:ext cx="333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бор, литий, магний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магний, литий, бор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95640" y="404640"/>
            <a:ext cx="4914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Times New Roman"/>
              </a:rPr>
              <a:t>ПСХЭ Д.И. Менделее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36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55640" y="222408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5. В каком ряду металлы перечислены в порядке возрастания химической активности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3480" y="3376440"/>
            <a:ext cx="44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серебро – медь – золото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393372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золото – серебро – медь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4581360"/>
            <a:ext cx="44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медь – серебро – золото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серебро – золото - медь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195640" y="404640"/>
            <a:ext cx="4914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Times New Roman"/>
              </a:rPr>
              <a:t>ПСХЭ Д.И. Менделее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39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700360" y="476280"/>
            <a:ext cx="439272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борочный тур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1989000"/>
            <a:ext cx="73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Arial"/>
              </a:rPr>
              <a:t>Какие из следующих веществ растворяются в воде?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11120" y="344808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A) AlPO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39840" y="4168800"/>
            <a:ext cx="26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Arial"/>
              </a:rPr>
              <a:t>Б)</a:t>
            </a: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AgNO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3429000"/>
            <a:ext cx="244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Arial"/>
              </a:rPr>
              <a:t>В) </a:t>
            </a: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NaOH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Arial"/>
              </a:rPr>
              <a:t>Г) </a:t>
            </a:r>
            <a:r>
              <a:rPr b="1" lang="en-US" sz="3200" spc="-1" strike="noStrike">
                <a:solidFill>
                  <a:srgbClr val="336666"/>
                </a:solidFill>
                <a:latin typeface="Arial"/>
              </a:rPr>
              <a:t>CuS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41497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411280" y="476280"/>
            <a:ext cx="3240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Раств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2571840" y="2482920"/>
            <a:ext cx="509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1484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. По какой формуле можно рассчитать массовую долю растворенного вещества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7120" y="3448080"/>
            <a:ext cx="23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2349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А)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=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*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2852640"/>
            <a:ext cx="19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Б) </a:t>
            </a: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3493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В)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m(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в-ва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=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m(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р-ра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m(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Н2О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852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Г)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W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=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m(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в-ва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m(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р-ра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3500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2. При повышении температуры растворимость твердых веществ в воде, как правило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508640"/>
            <a:ext cx="28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изменяется мало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5300640"/>
            <a:ext cx="24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повышается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4508640"/>
            <a:ext cx="2936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не изменяется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понижается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3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411280" y="476280"/>
            <a:ext cx="3240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Раств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413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3. При понижении те6мпературы растворимость газообразных веществ в воде, как правил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276640"/>
            <a:ext cx="311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изменяется мало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понижается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79840" y="2297160"/>
            <a:ext cx="25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повышается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2852640"/>
            <a:ext cx="24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не изменяется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35924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4. При растворении нитрата аммония в воде температура раствора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485928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не изменяется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5589720"/>
            <a:ext cx="24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понижается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48200" y="4816440"/>
            <a:ext cx="455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повышается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вначале повышается, затем понижается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6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411280" y="476280"/>
            <a:ext cx="3240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Раств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1484280"/>
            <a:ext cx="54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5. Раствор отличается от смес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205000"/>
            <a:ext cx="3152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цветом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постоянным составом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2133720"/>
            <a:ext cx="275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оптической однородностью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292428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агрегатным состоянием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860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6. Какие из следующих веществ не растворяются в воде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157720"/>
            <a:ext cx="30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A) H2SiO3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5120" y="452916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5661000"/>
            <a:ext cx="217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Б)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Ba(OH)2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5084640"/>
            <a:ext cx="2936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B) Zn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Г) </a:t>
            </a: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NaCl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508640"/>
            <a:ext cx="779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7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411280" y="476280"/>
            <a:ext cx="3240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Раств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4292640"/>
            <a:ext cx="61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8.Суспензия представляет собой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4724280"/>
            <a:ext cx="35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смесь твердого и жидкого веществ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5445000"/>
            <a:ext cx="333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раствор твердого вещества в жидком растворителе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41720"/>
            <a:ext cx="340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лекарственное средство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коллоидный раствор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413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7.Концентрация раствора при постоянной температуре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зависит о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34936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количества растворенного веществ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количества растворителя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2421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перемешивания раствор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характера растворенного вещества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11280" y="476280"/>
            <a:ext cx="3240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Раств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170028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9. Эмульсия представляет собой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42100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жидкий раствор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85264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смесь нерастворимых друг в друге жидких веществ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263700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раствор яичного белк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средство для стирки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4076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0. Коллоидный раствор отличается от истинного раствора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5013360"/>
            <a:ext cx="297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концентрацией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плотностью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4869000"/>
            <a:ext cx="390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размерами частиц растворенного веществ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5734080"/>
            <a:ext cx="42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способами приготовления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4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411280" y="476280"/>
            <a:ext cx="3240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Раств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155736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1. Ареометр – это прибор с помощью которог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2276640"/>
            <a:ext cx="426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определяется состав воздух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устанавливают направление ветр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2133720"/>
            <a:ext cx="383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контролируют содержание вредных веществ в растворах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95840" y="3160800"/>
            <a:ext cx="36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измеряют плотность жидкостей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400536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12. В лаборатории растворитель может быть отделен от растворенного вещества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6200" y="4960800"/>
            <a:ext cx="31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электролизом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декантацией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494172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фильтрованием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03840" y="5321160"/>
            <a:ext cx="27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перегонкой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6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411280" y="476280"/>
            <a:ext cx="3240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Impact"/>
              </a:rPr>
              <a:t>Раств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341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3. Растворимость веществ в воде не зависит о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916280"/>
            <a:ext cx="304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химической природы веществ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256536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агрегатного состояния вещества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11640" y="213372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внешних условий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давления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393372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4. Растворимость твердых веществ зависит от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4869000"/>
            <a:ext cx="333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А) степени измельчения веществ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Б) давления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4797360"/>
            <a:ext cx="304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В) температуры;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Г) природы растворителя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7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7:19:20Z</dcterms:created>
  <dc:creator>Татьяна Омельенчук</dc:creator>
  <dc:description/>
  <dc:language>en-US</dc:language>
  <cp:lastModifiedBy>Татьяна Омельенчук</cp:lastModifiedBy>
  <dcterms:modified xsi:type="dcterms:W3CDTF">2007-01-21T14:51:55Z</dcterms:modified>
  <cp:revision>8</cp:revision>
  <dc:subject/>
  <dc:title>Слайд 1</dc:title>
</cp:coreProperties>
</file>