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F2BA-C95B-4983-8D6B-D87B6DF5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1717-4C3C-48FA-B7D6-9C8EE3E3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0355-C0C1-4D3D-A0F1-5A54D225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6A35-3784-48EE-9742-182E3BAF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7381-1CC8-4B9D-B314-5B591E32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48E1-A20A-4613-AD6F-65F3CB85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59DB-321C-4375-BDBA-DF6CAF3A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A77C-5F50-4EB1-9EE5-816E54A7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D9B-0960-4697-A0EE-4D3B13DE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4FE-3D3E-4AB4-88A5-AC66D283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667A-F0F8-49A1-9193-D9FE58CD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3B56-266B-4D3C-BBAB-249A7C9E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8A5C-82A9-4C02-B23D-F5C59EACE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160" y="0"/>
            <a:ext cx="915048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979640" y="306360"/>
            <a:ext cx="670392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814400" y="549360"/>
            <a:ext cx="700416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284720" y="3357720"/>
            <a:ext cx="4535280" cy="3294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763640" y="260280"/>
            <a:ext cx="4753080" cy="34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052720" y="333360"/>
            <a:ext cx="3527280" cy="4437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284720" y="3348000"/>
            <a:ext cx="453708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044960" y="3141720"/>
            <a:ext cx="4775040" cy="3452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763640" y="26028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87400" y="538200"/>
            <a:ext cx="705024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32440" y="27000"/>
            <a:ext cx="5011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97080" y="1052640"/>
            <a:ext cx="6494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02800"/>
                </a:solidFill>
                <a:latin typeface="comic"/>
              </a:rPr>
              <a:t>ОРЁЛ –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02800"/>
                </a:solidFill>
                <a:latin typeface="comic"/>
              </a:rPr>
              <a:t>     </a:t>
            </a:r>
            <a:r>
              <a:rPr b="1" lang="en-US" sz="6600" spc="-1" strike="noStrike">
                <a:solidFill>
                  <a:srgbClr val="502800"/>
                </a:solidFill>
                <a:latin typeface="comic"/>
              </a:rPr>
              <a:t>ГОРОД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02800"/>
                </a:solidFill>
                <a:latin typeface="comic"/>
              </a:rPr>
              <a:t>        </a:t>
            </a:r>
            <a:r>
              <a:rPr b="1" lang="en-US" sz="6600" spc="-1" strike="noStrike">
                <a:solidFill>
                  <a:srgbClr val="502800"/>
                </a:solidFill>
                <a:latin typeface="comic"/>
              </a:rPr>
              <a:t>ПЕРВОГО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02800"/>
                </a:solidFill>
                <a:latin typeface="comic"/>
              </a:rPr>
              <a:t>            </a:t>
            </a:r>
            <a:r>
              <a:rPr b="1" lang="en-US" sz="6600" spc="-1" strike="noStrike">
                <a:solidFill>
                  <a:srgbClr val="502800"/>
                </a:solidFill>
                <a:latin typeface="comic"/>
              </a:rPr>
              <a:t>САЛЮ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14400" y="311040"/>
            <a:ext cx="700560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763640" y="290520"/>
            <a:ext cx="705636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419640" y="301680"/>
            <a:ext cx="541944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198520" y="295200"/>
            <a:ext cx="640584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73480" y="291960"/>
            <a:ext cx="55386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800360" y="549360"/>
            <a:ext cx="702756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238640" y="282600"/>
            <a:ext cx="4218120" cy="63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0T18:05:57Z</dcterms:created>
  <dc:creator>Admin</dc:creator>
  <dc:description/>
  <dc:language>en-US</dc:language>
  <cp:lastModifiedBy>Admin</cp:lastModifiedBy>
  <dcterms:modified xsi:type="dcterms:W3CDTF">2015-05-14T18:52:53Z</dcterms:modified>
  <cp:revision>8</cp:revision>
  <dc:subject/>
  <dc:title>Слайд 1</dc:title>
</cp:coreProperties>
</file>