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8389-4D99-498C-8A16-982B7E87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31D5-BEB1-4651-B312-A2BAEF2D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50BB-726B-4F1C-B6F7-4596475A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233-CD64-4CD9-8C3F-F9CCCB85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AEAE-34F6-4CE3-86F0-7F91747F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1309-058F-41AF-AA19-EB65AE59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7D40-0783-4EB4-A957-7053F011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DA9E-D669-4610-9997-ACF00FC0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78FF-071F-4F48-894A-68CAC6EF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272E-1DAB-48F6-AAAA-F1A6562B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A129-F42D-4821-82BD-C734C512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0BDA-1ADF-438B-993A-E7BC4543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E486-D18D-451A-A3A5-622AB331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6CB0-1BFD-4C7B-83C4-5E4E48B5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47DB-9F1A-41D4-AD42-472B9389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6211-38C4-460D-938A-9A0EA7CC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523A-BBAA-4ABF-A90A-ADDA2265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AD9-7477-4541-8D30-35466054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89C-F31D-4142-8C43-17B04943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01E4-D9E1-47E4-A5BB-EAFA52F2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043D-A3ED-42D7-A5B5-BF0E2906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714-FA0E-425D-8812-3CFA0728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C3B8-363F-4C3E-A1BA-65EA6B86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1BFF-9E7F-4846-BFEF-35ED92A4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1969-F139-4692-AB86-4CE5C1CCC0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099F-B685-4FAE-94A1-B9F8D5F673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Некоторые методические решения задачи профилактики       экстремизма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ормы и методы работы с радикальными молодежными формирова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Метод легализации (формализации).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Не меняя структуру и ведущую деятельность объединения, трансформировать его в клуб, любительское объединение или в другую институциализированную общност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515772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5661000"/>
            <a:ext cx="2376720" cy="936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7640" y="3789360"/>
            <a:ext cx="3024000" cy="1511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5805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формальное объ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076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регистрированная, официальная 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780000" y="5084280"/>
            <a:ext cx="1008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етод ассимиляции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остью реорганизовать объединение и создать институциализированную общность, лишь сохраняя прежнее представительство. При этом от прежнего объединения остается только внешняя атрибутика и слен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м случае необходимо предложить альтернативные ценности и соответствующую деяте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5877000"/>
            <a:ext cx="1511280" cy="981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84360" y="5445000"/>
            <a:ext cx="71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5445000"/>
            <a:ext cx="4316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630864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140000" y="5734080"/>
            <a:ext cx="14436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4720" y="5805360"/>
            <a:ext cx="57456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924360" y="6237360"/>
            <a:ext cx="107928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6165720"/>
            <a:ext cx="93672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24360" y="6524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500720" y="6237360"/>
            <a:ext cx="7128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Метод канализации агрессивной активности в просоциальное русло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ключает замещение целей и/или экстремистских методов достижения целей на также протестные, но уже социально приемлем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4149720"/>
            <a:ext cx="2160720" cy="172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84360" y="5661000"/>
            <a:ext cx="1079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116000" y="551664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258920" y="580536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5013360"/>
            <a:ext cx="19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59640" y="4221000"/>
            <a:ext cx="2016000" cy="187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885080" y="350028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8317080" y="3357720"/>
            <a:ext cx="8269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8532720" y="414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979280" y="4437000"/>
            <a:ext cx="431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1280" y="4437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95640" y="51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77080" y="4797360"/>
            <a:ext cx="79056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740720" y="4797000"/>
            <a:ext cx="7920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48360" y="4724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Метод вытеснения экстремистски настроенного лидер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оциально опасных молодежных группировках весьма велика роль лидера в становлении группы именно в качестве агрессивной и экстремистской. Смена такого лидера на менее агрессивно настроенного обычно приводит к снижению агрессивности всей груп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5229360"/>
            <a:ext cx="1224000" cy="107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5516640"/>
            <a:ext cx="142920" cy="144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5516640"/>
            <a:ext cx="144360" cy="2174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92360" y="530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050920" y="5373720"/>
            <a:ext cx="217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042560" y="5805000"/>
            <a:ext cx="360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580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826560" y="5373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630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835280" y="6453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50920" y="6453360"/>
            <a:ext cx="144720" cy="40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27280" y="5877000"/>
            <a:ext cx="144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771640" y="5877000"/>
            <a:ext cx="71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5877000"/>
            <a:ext cx="288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5229360"/>
            <a:ext cx="2087640" cy="1224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0360" y="5589720"/>
            <a:ext cx="287280" cy="71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04000" y="5589720"/>
            <a:ext cx="360360" cy="71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00720" y="6165720"/>
            <a:ext cx="576360" cy="71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940360" y="5444640"/>
            <a:ext cx="432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77080" y="5445000"/>
            <a:ext cx="3589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56360" y="6093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804000" y="6093000"/>
            <a:ext cx="14436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5516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Несколько вариантов смены лидера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искредитация лидера в глазах груп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еряет харизму и ореол "сосредоточения групповых норм и ценностей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нижение авторитета лиде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и несоответствии лидера какой-либо значимой групповой норме (либо цен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оздание условий для успешной конкуренции втор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или, реже, иного) значимого лица в группе (вариант ползучего переворот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255888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Несколько вариантов смены лидера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Изменение схемы внутригрупповой коммуника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член группы, через которого проходят внутригрупповые коммуникационные каналы, резко повышается в статусе в иерархии групп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Постановка группы в непривычные для нее услов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тарый лидер уже не способен справиться с новыми, более сложными задачами, выдвигается новый лидер (возможно, ситуативны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Привлечение к уголовной ответствен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начимых лиц экстремистских формир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30T02:32:09Z</dcterms:created>
  <dc:creator>Рудаков</dc:creator>
  <dc:description/>
  <dc:language>en-US</dc:language>
  <cp:lastModifiedBy>Рудаков</cp:lastModifiedBy>
  <dcterms:modified xsi:type="dcterms:W3CDTF">2007-11-28T07:08:26Z</dcterms:modified>
  <cp:revision>5</cp:revision>
  <dc:subject/>
  <dc:title>Некоторые методические решения задачи профилактики       экстремизма:</dc:title>
</cp:coreProperties>
</file>