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31.gif" ContentType="image/gif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12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A38F-1CFC-4EFF-A43D-1C572C8AF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4E32-036F-43B5-A38B-43DC1B3F6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960-D748-4B8B-8BE5-8540116E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7C7-78F7-4FC5-B9DE-C8092E54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52832-B59B-491A-9E69-7F62C2A4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91128-546A-4AFF-B756-5A7CF0E7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5C274-F1A6-4DDA-AA01-7AD9F5F0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62E8E-6469-4528-B4E1-56E74C9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09401-4DE3-4B7F-B55C-B51B1F0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AA531-7682-4295-9FD4-947C27E8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95013-DF6E-4076-93F9-7FFC7AE5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FD5D2-4FA6-4FDD-96F6-6C04A7C9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6C9E7-D230-4A70-8797-192A49E1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8268A-8732-4E6D-B4F3-E3728A79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9F4-99E7-4D42-A57F-2138519A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61417-7B1D-489E-866D-F34D60FC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93577-6914-4DD4-B9A9-AD608BB0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E68BB-BB33-4396-BF50-085A0879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EABCB-6CBC-4256-A20B-ACFB4B68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EBC02-ACB9-4095-B1BF-0035D5D5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39ECF-444F-4AFB-B670-B1C2ECF1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198DC-10FD-47DB-9DC2-E9760F9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10D36-CC24-46C8-8D0C-4644FE88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26B81-DA3B-48A2-8774-3AF136A0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32D94-D198-4350-9B8F-61A405A1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F5A-17FD-47C4-B807-932B1C8F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76C0B-9C9C-40D7-8124-711E64B0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B096F-967C-4DAE-B2E8-F773B71A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7A1F4-C544-49AA-9BFB-A1BA52F4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782F3-2361-4A4A-8D1A-A8AF78A1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A5CAD-AB97-4EEB-B6C6-DB23D90C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4359-F61B-4732-8777-824B354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40E35-D696-41BA-9BE5-D9E9F9D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510B2-D63C-4276-BA17-6F1F351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F8E42-BDC9-482F-8B82-E1955453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4EA84-43DF-4DE6-AB67-D7F14D9F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FE63-F78C-4BCC-9BC0-7F492AED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BF525-6ABB-43F2-97A3-B3CD682D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AB8C3-90E6-477B-B99C-4AB2CB9A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3192E-1D98-47C8-9DBA-2A317448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7714B-36EE-44C7-AB28-67C7FE54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40864-48FD-4974-B513-FDEA529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62F71-DD2B-4F9A-889A-99F05148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7E292-B353-4907-A651-AD55427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3FFAF-C1DA-416B-AD0B-3CAE4026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39C70-B092-4929-85C2-47519D71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7B4A1-25EA-496E-9B63-CC22515E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79FE-4D6A-465F-9D45-B0371388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78C79-7B28-47D5-96CE-C2EEB3CE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86036-958C-4D20-9748-9B76FC2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82B5F-9109-4DBC-A526-700E4BFF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3671D-99BC-4A35-BB7F-1ED5F76B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88078-4685-4B35-B643-D8BBB6B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6AE58-01A3-4865-8ADF-FE20CD30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A5B2D-3EDF-47FA-A66B-15AD6F0D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7DDB0-F654-4906-B0BA-6237AAA3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B3062-40DF-4355-97DB-4C2B881B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3A3CB-1B9D-4E4A-9CB1-EC10F2D0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F990-1447-4E64-BDCE-8D6FBF78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6CAD9-1421-46A1-9054-DDF1750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B415F-DE33-4CE0-8FAA-CC69539A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375E2-25B0-4A39-953A-084CCCD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9AF35-74EB-4DFE-AA22-689DDC8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E0515-F844-40CD-9893-C6BD662E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CE884-1981-4E19-8990-D0F8107A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2CAF1-DA90-49EC-A3B1-2308777A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DE37A-A638-404D-B5B8-1A7D939E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A2C89-375E-4A5B-A13C-4C6D85BF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55273-B1BD-489B-AE97-4745997D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D3BB-9064-4ED4-8292-408E4D85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EB507-A9AF-4F16-A08D-5E2A7427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A3953-BDD5-4A66-8D2C-32897AAD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1E8C9-8E1F-4CDC-8682-F4678209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E2529-AF1F-4BAF-AA3E-79E26ACD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598F3-AF53-4CD6-B4F1-FF747D80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B6EDE-2DCA-4839-8FE4-1F5277A8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A00A8-FB77-48AD-92BC-CD62B699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6A426-47B3-447D-8095-8C1C21F8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AB94A-28AE-499B-BF59-A7A7E157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561A-05AF-439B-965A-727F3D0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83D6-0B3E-4CE7-8F3C-1D4964C7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1A98-A92F-4E1E-A1D1-E62E9B21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E6F-509A-4BDC-97E0-8FB5B4C6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48E2-5CE7-4505-B12A-A052879A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24BE-F173-4B10-AB12-C18395C3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6C5D-4173-4EDD-9B60-20D71063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6A49-3FC5-4538-A1AF-F9223EE7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B118-9083-405B-9C2F-06184904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0BBD-0275-4694-824B-19D6F455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28A0-E8B9-4FD5-90CC-728723F6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28FA-21B8-42E6-817B-BA98F8FB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F0333-572B-4048-A5A5-6321C0BD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6AE6-97B3-4AC8-B7C7-CD6F69F4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BD2-AB70-44B3-9741-46AE6258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D36F-6B70-4569-A356-C1768A71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5838-25EF-4944-9DF3-93F2AE4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DDA2-28B2-4721-A4F9-7F0A2D4F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0184-020F-47C5-B710-367C313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115C-AA0C-4E4C-A8C4-D521C9F8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EA6B6-10CC-4C3B-8A63-E0C02F96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5980-CF8C-4BDF-A6C3-9E4D68DF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D9BD9-034A-458F-B99F-70592A7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2621-0071-4A17-9847-CDA8FF73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C7862-FE87-4AB6-8658-C751FF9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1C5-039C-44C1-920A-0FFE963E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2654-D244-45AC-86AE-53DB6969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3476-379D-45C2-A52E-138C0A55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0A31E-17B4-47D4-BA5C-41D7D96E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74F3-D6E1-4FB6-8692-26577EA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687B4-7132-4122-8D81-25FD2181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8329-DBDD-4EB6-84E3-ADF76C53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F6CB-3968-4AEE-B2B7-A9A1FFE7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D985-5BF0-4307-9F69-869ADE6A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1789-8005-46C7-8CF6-D127D37E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1F049-EDD1-427D-8AFA-FEC8C2CD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C2D-3C35-4BA6-9AC6-EE659529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B904D-1142-41F3-8BB0-A0B532B4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9154F-8587-45CC-A36B-51F4F4CC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E9686-F2A5-4021-9423-5056B974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A0118-C808-4A2F-A9E3-3429D863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9F8F-2FDB-40D3-9AA3-2C2C0793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308F3-AC56-4E34-9009-0FDA499D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A23A8-3827-4801-B08C-58EF1C4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2849-7B7E-483F-B5D7-30FD980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DE93-6E1B-4969-96A8-14FDB02B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E00AB-F1D3-46CD-B2D7-8DABE23C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485-B4FB-4BF9-A9E5-FF4F3123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A69F-ECA2-4F12-A4D4-3BE1ED4F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A400-8CD6-4913-B0BA-93D9393A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A7663-5BCB-40A6-8049-6028F08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B2EF-2185-47C3-875F-25F42C8E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F109A-95F9-4644-B470-7FF7C8D6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3AC6D-5D71-476D-AB40-6426ED68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8E812-BE81-41D3-AA2C-D66F8511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86298-99BC-4D65-BA30-B8E148D5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D42C9-59B9-463A-A408-27882642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63CF7-9A90-41D3-9BDC-6F086CE7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751-AAE4-4539-8F9D-8D9A03B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B641-027C-4DAA-AC67-AC146C20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CFAC5-DCAD-436E-A562-9B3E3906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24E0E-C8A7-4043-B3DD-3A8070FA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7803-0742-4E70-986B-50E20DC9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2C43C-3162-4462-A4EF-38ED1829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803BD-E793-4A04-90A5-A8C0F6DD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D60B-D343-4742-8575-D7DE0291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31388-6E64-4C91-AB5C-586A1AE9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7D8DE-EC6A-44A5-B52E-026C7CC6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04B25-CDAC-473A-BC58-E73C1DA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D56-5BB1-4D9B-B85F-8B65C5B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1F5D-A4CC-48D2-8DB2-1C021729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83188-9FAA-4683-AA11-B1F21681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60D8-C5CD-44F9-8278-44B2D03F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88885-1AA3-4644-8AEC-C879BFA6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63D58-CD2F-4735-8BC1-84DF727F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00C6-D2CB-43EA-B4F8-52282A48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010A4-E352-458B-BFC3-A9C5CDC3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86174-D28C-4F7B-8807-04132510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4A654-8ACD-43FC-B8B7-708D898C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3D2F0-C0F5-43BF-BE69-79E047C5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E93-2B3F-4D0D-8FE2-5939631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487C2-7FC5-4B0D-A52B-6A5FF9A7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2ED46-1BB3-4D5F-AD1D-69855236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63E88-6B8B-4944-A359-5F72E76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8B29C-E8A4-43BB-BE6F-F5C330A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98850-F92A-4140-9748-1A1F48B4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80373-2928-41B6-AF58-B3206322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5897-421E-473C-A227-45CE5B62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1602A-256A-4B93-8410-E72DD588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5D551-62A9-4E98-AE39-62379442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88DF2-DA2B-432F-B697-7B704E61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BE71-556E-4E0A-8EFB-076BC587D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EA87-13B6-4005-9F33-9CB7E59DBD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1EC-6938-4B8B-A139-003739CCA9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2455-8102-4170-A108-5373CA110F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1C55-9E61-450E-91ED-6F1C21E26E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5EB4-0B2F-46B7-AE3D-CC3E6FF1A0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F249-A728-43B1-8433-CC53AA17D3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425D-B0B1-48BE-99DB-3B8CF5AEF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92E9-0D62-4390-A79B-9BDC855065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32EE-FD24-480E-AE86-7F4D7CB9BE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0EEB-B9A7-4CF5-B1CE-45735275AC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DA02-F3A7-48CD-AE84-A4B7526AF6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16ED-0EA9-4998-B22F-5DC45ED82D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9970-DC81-431F-925F-CFBBE358EA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Главные и второстепенные члены предложения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3009960" y="2889360"/>
            <a:ext cx="524808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ок русского языка в третье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537160" y="4927680"/>
            <a:ext cx="330192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готовила: учитель начальных классо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Ютанина О.В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752480" y="1395360"/>
            <a:ext cx="7010640" cy="4572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" descr=""/>
          <p:cNvPicPr/>
          <p:nvPr/>
        </p:nvPicPr>
        <p:blipFill>
          <a:blip r:embed="rId2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752480" y="1395360"/>
            <a:ext cx="7010640" cy="4572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"/>
          <p:cNvPicPr/>
          <p:nvPr/>
        </p:nvPicPr>
        <p:blipFill>
          <a:blip r:embed="rId2"/>
          <a:stretch/>
        </p:blipFill>
        <p:spPr>
          <a:xfrm>
            <a:off x="1104840" y="0"/>
            <a:ext cx="80391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1752480" y="1395360"/>
            <a:ext cx="7010640" cy="4572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"/>
          <p:cNvPicPr/>
          <p:nvPr/>
        </p:nvPicPr>
        <p:blipFill>
          <a:blip r:embed="rId2"/>
          <a:stretch/>
        </p:blipFill>
        <p:spPr>
          <a:xfrm>
            <a:off x="107964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752480" y="1395360"/>
            <a:ext cx="7010640" cy="4572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1333440" y="254160"/>
            <a:ext cx="7683480" cy="638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Tahoma"/>
              </a:rPr>
              <a:t>Физминутка</a:t>
            </a:r>
            <a:endParaRPr b="1" lang="en-US" sz="7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33" name="Объект 4" descr="D:\МАМА\2013\Отчёты\отчет по фгос фото Ют. и Кут\Ютанина\физ (1).JPG"/>
          <p:cNvPicPr/>
          <p:nvPr/>
        </p:nvPicPr>
        <p:blipFill>
          <a:blip r:embed="rId1"/>
          <a:stretch/>
        </p:blipFill>
        <p:spPr>
          <a:xfrm>
            <a:off x="1397160" y="1395360"/>
            <a:ext cx="7632720" cy="5335560"/>
          </a:xfrm>
          <a:prstGeom prst="rect">
            <a:avLst/>
          </a:prstGeom>
          <a:ln w="0">
            <a:noFill/>
          </a:ln>
        </p:spPr>
      </p:pic>
      <p:pic>
        <p:nvPicPr>
          <p:cNvPr id="634" name="для глаз.mp3" descr=""/>
          <p:cNvPicPr/>
          <p:nvPr/>
        </p:nvPicPr>
        <p:blipFill>
          <a:blip r:embed="rId2"/>
          <a:stretch/>
        </p:blipFill>
        <p:spPr>
          <a:xfrm>
            <a:off x="4584600" y="6019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752480" y="1395360"/>
            <a:ext cx="7010640" cy="4572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" descr=""/>
          <p:cNvPicPr/>
          <p:nvPr/>
        </p:nvPicPr>
        <p:blipFill>
          <a:blip r:embed="rId2"/>
          <a:stretch/>
        </p:blipFill>
        <p:spPr>
          <a:xfrm>
            <a:off x="1130400" y="0"/>
            <a:ext cx="811512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Для чего нужны второстепенные члены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752480" y="1395360"/>
            <a:ext cx="7010640" cy="4572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" descr=""/>
          <p:cNvPicPr/>
          <p:nvPr/>
        </p:nvPicPr>
        <p:blipFill>
          <a:blip r:embed="rId2"/>
          <a:stretch/>
        </p:blipFill>
        <p:spPr>
          <a:xfrm>
            <a:off x="1270080" y="1168560"/>
            <a:ext cx="7873920" cy="553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752480" y="1395360"/>
            <a:ext cx="7010640" cy="4572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" descr=""/>
          <p:cNvPicPr/>
          <p:nvPr/>
        </p:nvPicPr>
        <p:blipFill>
          <a:blip r:embed="rId2"/>
          <a:stretch/>
        </p:blipFill>
        <p:spPr>
          <a:xfrm>
            <a:off x="876240" y="0"/>
            <a:ext cx="82677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1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Спиши предложения, подчеркни главные и второстепенные члены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726920" y="82404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ступила скучная о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адают на землю жёлтые листоч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асто льют дож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асточки и соловьи улетели на ю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5356080" y="12114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4835520" y="1224000"/>
            <a:ext cx="2222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4"/>
          <p:cNvSpPr/>
          <p:nvPr/>
        </p:nvSpPr>
        <p:spPr>
          <a:xfrm>
            <a:off x="2082960" y="1503360"/>
            <a:ext cx="2282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521640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7134120" y="11606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6730920" y="13892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24"/>
          <p:cNvSpPr/>
          <p:nvPr/>
        </p:nvSpPr>
        <p:spPr>
          <a:xfrm flipV="1">
            <a:off x="2057400" y="1350720"/>
            <a:ext cx="23842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24"/>
          <p:cNvSpPr/>
          <p:nvPr/>
        </p:nvSpPr>
        <p:spPr>
          <a:xfrm flipV="1">
            <a:off x="2197080" y="2798640"/>
            <a:ext cx="2028960" cy="3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184480" y="221472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24"/>
          <p:cNvSpPr/>
          <p:nvPr/>
        </p:nvSpPr>
        <p:spPr>
          <a:xfrm>
            <a:off x="2158920" y="232884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5"/>
          <p:cNvSpPr/>
          <p:nvPr/>
        </p:nvSpPr>
        <p:spPr>
          <a:xfrm>
            <a:off x="6423120" y="2138400"/>
            <a:ext cx="189216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4"/>
          <p:cNvSpPr/>
          <p:nvPr/>
        </p:nvSpPr>
        <p:spPr>
          <a:xfrm>
            <a:off x="4622760" y="2278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4"/>
          <p:cNvSpPr/>
          <p:nvPr/>
        </p:nvSpPr>
        <p:spPr>
          <a:xfrm>
            <a:off x="5003640" y="364968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4"/>
          <p:cNvSpPr/>
          <p:nvPr/>
        </p:nvSpPr>
        <p:spPr>
          <a:xfrm>
            <a:off x="3441600" y="358632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4"/>
          <p:cNvSpPr/>
          <p:nvPr/>
        </p:nvSpPr>
        <p:spPr>
          <a:xfrm>
            <a:off x="3403440" y="368784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4"/>
          <p:cNvSpPr/>
          <p:nvPr/>
        </p:nvSpPr>
        <p:spPr>
          <a:xfrm>
            <a:off x="2082960" y="35733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4"/>
          <p:cNvSpPr/>
          <p:nvPr/>
        </p:nvSpPr>
        <p:spPr>
          <a:xfrm>
            <a:off x="2197080" y="4398840"/>
            <a:ext cx="4467240" cy="5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4"/>
          <p:cNvSpPr/>
          <p:nvPr/>
        </p:nvSpPr>
        <p:spPr>
          <a:xfrm>
            <a:off x="2273400" y="502128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4"/>
          <p:cNvSpPr/>
          <p:nvPr/>
        </p:nvSpPr>
        <p:spPr>
          <a:xfrm>
            <a:off x="2222640" y="513540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4"/>
          <p:cNvSpPr/>
          <p:nvPr/>
        </p:nvSpPr>
        <p:spPr>
          <a:xfrm>
            <a:off x="4076640" y="50212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74640" y="1471680"/>
            <a:ext cx="7569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 деревьев облетают последние лист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олнце светит ред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Умолкают птичьи голо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7" descr="1133-2_3"/>
          <p:cNvPicPr/>
          <p:nvPr/>
        </p:nvPicPr>
        <p:blipFill>
          <a:blip r:embed="rId1"/>
          <a:stretch/>
        </p:blipFill>
        <p:spPr>
          <a:xfrm>
            <a:off x="6502320" y="5283360"/>
            <a:ext cx="1613160" cy="1320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Sun_alley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01064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Вставь пропущенные слова: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346040" y="569520"/>
            <a:ext cx="76456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ришла _____. По небу плывет большая ___________. Часто льет ___________ дождь. Дует  сильный __________. Ребята ждут ___________ снега. Скоро наступит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одсказки: туча, осень, проливной, ветер, пушистого,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4289400" y="48690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461952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3959280" y="1149480"/>
            <a:ext cx="2025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сен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5584680" y="1555920"/>
            <a:ext cx="1629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уч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4581360" y="1949400"/>
            <a:ext cx="2425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проливн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5051520" y="2292480"/>
            <a:ext cx="2079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вете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4937040" y="2776680"/>
            <a:ext cx="2729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ушистого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4"/>
          <p:cNvSpPr/>
          <p:nvPr/>
        </p:nvSpPr>
        <p:spPr>
          <a:xfrm>
            <a:off x="5457960" y="3143160"/>
            <a:ext cx="1160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им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523880" y="646200"/>
            <a:ext cx="70106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) в, Берёзы, уборе, стоят, золо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ерёзы стоят в золотом уб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2) солнце, за, Низкое, скрылось,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Низкое солнце скрылось за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95280" y="140796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о  словом   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жёлты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составить и записать предложение по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огда?)  (с чего?)  (что делают?) (какие?)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ю    с деревьев    опадают     желтые     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5" descr="1133-3_3"/>
          <p:cNvPicPr/>
          <p:nvPr/>
        </p:nvPicPr>
        <p:blipFill>
          <a:blip r:embed="rId1"/>
          <a:stretch/>
        </p:blipFill>
        <p:spPr>
          <a:xfrm>
            <a:off x="1727280" y="392436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" descr="150093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5244840" y="2918880"/>
            <a:ext cx="345420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авь последнюю стр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нится троп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736560" y="202680"/>
            <a:ext cx="3581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ворческ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задание.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87" name="Picture 7" descr="1133-4_3"/>
          <p:cNvPicPr/>
          <p:nvPr/>
        </p:nvPicPr>
        <p:blipFill>
          <a:blip r:embed="rId3"/>
          <a:stretch/>
        </p:blipFill>
        <p:spPr>
          <a:xfrm>
            <a:off x="1854360" y="165096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Продолжи фразу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мне понрав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бы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6" descr="1111-1_1"/>
          <p:cNvPicPr/>
          <p:nvPr/>
        </p:nvPicPr>
        <p:blipFill>
          <a:blip r:embed="rId1"/>
          <a:stretch/>
        </p:blipFill>
        <p:spPr>
          <a:xfrm>
            <a:off x="3835440" y="3314880"/>
            <a:ext cx="2679840" cy="267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WordArt 2"/>
          <p:cNvSpPr txBox="1"/>
          <p:nvPr/>
        </p:nvSpPr>
        <p:spPr>
          <a:xfrm>
            <a:off x="1763640" y="404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сенка знаний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2" name="Line 3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7667640" y="3284640"/>
            <a:ext cx="14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5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5796000" y="3573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1162080" y="2421000"/>
            <a:ext cx="4794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Ничего не понятно  на уроке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1292400" y="3840120"/>
            <a:ext cx="51498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Всё понятно. Трудностей не испытываю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4"/>
          <p:cNvSpPr/>
          <p:nvPr/>
        </p:nvSpPr>
        <p:spPr>
          <a:xfrm>
            <a:off x="1187280" y="5589720"/>
            <a:ext cx="51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Хочу знать больше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5" descr="876е"/>
          <p:cNvPicPr/>
          <p:nvPr/>
        </p:nvPicPr>
        <p:blipFill>
          <a:blip r:embed="rId1"/>
          <a:stretch/>
        </p:blipFill>
        <p:spPr>
          <a:xfrm>
            <a:off x="6443640" y="4365720"/>
            <a:ext cx="2443320" cy="175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4" descr="C:\Documents and Settings\kasutaja\Desktop\Dz.jpg"/>
          <p:cNvPicPr/>
          <p:nvPr/>
        </p:nvPicPr>
        <p:blipFill>
          <a:blip r:embed="rId1"/>
          <a:stretch/>
        </p:blipFill>
        <p:spPr>
          <a:xfrm>
            <a:off x="4071960" y="1928880"/>
            <a:ext cx="4133880" cy="2922480"/>
          </a:xfrm>
          <a:prstGeom prst="rect">
            <a:avLst/>
          </a:prstGeom>
          <a:ln w="0">
            <a:noFill/>
          </a:ln>
        </p:spPr>
      </p:pic>
      <p:sp>
        <p:nvSpPr>
          <p:cNvPr id="706" name="Овальная выноска 2"/>
          <p:cNvSpPr/>
          <p:nvPr/>
        </p:nvSpPr>
        <p:spPr>
          <a:xfrm flipH="1">
            <a:off x="713520" y="857160"/>
            <a:ext cx="3429000" cy="1643040"/>
          </a:xfrm>
          <a:prstGeom prst="wedgeEllipseCallout">
            <a:avLst>
              <a:gd name="adj1" fmla="val -103865"/>
              <a:gd name="adj2" fmla="val 105379"/>
            </a:avLst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Молодец!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Значение слова осень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12680" y="975960"/>
            <a:ext cx="648468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Осень –  время года между летом и  зимо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6" descr="autumnleaves"/>
          <p:cNvPicPr/>
          <p:nvPr/>
        </p:nvPicPr>
        <p:blipFill>
          <a:blip r:embed="rId1"/>
          <a:stretch/>
        </p:blipFill>
        <p:spPr>
          <a:xfrm>
            <a:off x="2593800" y="2776680"/>
            <a:ext cx="5241960" cy="3624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Вставьте пропущенные буквы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558440" y="1126800"/>
            <a:ext cx="779796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..рковь       ..г..род     шел...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ябл..ко        ..с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1211-4_2"/>
          <p:cNvPicPr/>
          <p:nvPr/>
        </p:nvPicPr>
        <p:blipFill>
          <a:blip r:embed="rId1"/>
          <a:stretch/>
        </p:blipFill>
        <p:spPr>
          <a:xfrm>
            <a:off x="1409760" y="271764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1222-9_2"/>
          <p:cNvPicPr/>
          <p:nvPr/>
        </p:nvPicPr>
        <p:blipFill>
          <a:blip r:embed="rId2"/>
          <a:stretch/>
        </p:blipFill>
        <p:spPr>
          <a:xfrm>
            <a:off x="6959520" y="29210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1122-2_1"/>
          <p:cNvPicPr/>
          <p:nvPr/>
        </p:nvPicPr>
        <p:blipFill>
          <a:blip r:embed="rId3"/>
          <a:stretch/>
        </p:blipFill>
        <p:spPr>
          <a:xfrm>
            <a:off x="4991040" y="2705040"/>
            <a:ext cx="1625760" cy="1701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1211-5_2"/>
          <p:cNvPicPr/>
          <p:nvPr/>
        </p:nvPicPr>
        <p:blipFill>
          <a:blip r:embed="rId4"/>
          <a:stretch/>
        </p:blipFill>
        <p:spPr>
          <a:xfrm>
            <a:off x="4216320" y="49784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1222-6_2"/>
          <p:cNvPicPr/>
          <p:nvPr/>
        </p:nvPicPr>
        <p:blipFill>
          <a:blip r:embed="rId5"/>
          <a:stretch/>
        </p:blipFill>
        <p:spPr>
          <a:xfrm>
            <a:off x="6781680" y="49784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1222-7_2"/>
          <p:cNvPicPr/>
          <p:nvPr/>
        </p:nvPicPr>
        <p:blipFill>
          <a:blip r:embed="rId6"/>
          <a:stretch/>
        </p:blipFill>
        <p:spPr>
          <a:xfrm>
            <a:off x="184140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1" descr="2115-0_2"/>
          <p:cNvPicPr/>
          <p:nvPr/>
        </p:nvPicPr>
        <p:blipFill>
          <a:blip r:embed="rId7"/>
          <a:stretch/>
        </p:blipFill>
        <p:spPr>
          <a:xfrm>
            <a:off x="2577960" y="3479760"/>
            <a:ext cx="2616480" cy="130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Словарные слова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387160" y="1420560"/>
            <a:ext cx="603252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рковь     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род     шел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ябл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ко        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с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1776240" y="547560"/>
            <a:ext cx="6232680" cy="48974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600" name="Text Box 5"/>
          <p:cNvSpPr/>
          <p:nvPr/>
        </p:nvSpPr>
        <p:spPr>
          <a:xfrm>
            <a:off x="2057400" y="5835600"/>
            <a:ext cx="657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 Левитан «Золотая осень»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Ноябрь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602" name="Объект 3" descr="Акиндин разжигает овин &quot; МУИА Город - главные новости Благовещенска"/>
          <p:cNvPicPr/>
          <p:nvPr/>
        </p:nvPicPr>
        <p:blipFill>
          <a:blip r:embed="rId1"/>
          <a:stretch/>
        </p:blipFill>
        <p:spPr>
          <a:xfrm>
            <a:off x="1752480" y="1092240"/>
            <a:ext cx="6908760" cy="527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ВСТАВЬ ПРОПУЩЕННЫЕ БУКВЫ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240" y="149688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..яли  ненас?ные ..сенние дни. Тучи плотно з..крыли  со?нце. С раннего утра до поз?него вечера льёт х..лодный до….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2193840" y="157788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5051520" y="1628640"/>
            <a:ext cx="42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6626160" y="1616040"/>
            <a:ext cx="7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6664320" y="22273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2308320" y="286236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л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2612880" y="3484440"/>
            <a:ext cx="797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д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2016000" y="400356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4987800" y="409428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жд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7" descr="post-6773-1163190993"/>
          <p:cNvPicPr/>
          <p:nvPr/>
        </p:nvPicPr>
        <p:blipFill>
          <a:blip r:embed="rId1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614" name="WordArt 4"/>
          <p:cNvSpPr txBox="1"/>
          <p:nvPr/>
        </p:nvSpPr>
        <p:spPr>
          <a:xfrm>
            <a:off x="649440" y="1628640"/>
            <a:ext cx="79912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i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i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615" name="Picture 6" descr="post-6773-1163190993"/>
          <p:cNvPicPr/>
          <p:nvPr/>
        </p:nvPicPr>
        <p:blipFill>
          <a:blip r:embed="rId2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616" name="Line 11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5:57:26Z</dcterms:created>
  <dc:creator>User</dc:creator>
  <dc:description/>
  <dc:language>en-US</dc:language>
  <cp:lastModifiedBy>1</cp:lastModifiedBy>
  <dcterms:modified xsi:type="dcterms:W3CDTF">2015-05-05T14:27:50Z</dcterms:modified>
  <cp:revision>96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