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Windows%20XP%20-%20%D0%BA%D1%80%D0%B8%D1%82%D0%B8%D1%87%D0%B5%D1%81%D0%BA%D0%B0%D1%8F%20%D0%BE%D1%88%D0%B8%D0%B1%D0%BA%D0%B0.wav" ContentType="audio/x-wav"/>
  <Override PartName="/ppt/media/image2.jpeg" ContentType="image/jpeg"/>
  <Override PartName="/ppt/media/image3.jpeg" ContentType="image/jpeg"/>
  <Override PartName="/ppt/media/%D0%92%D1%8B%D1%85%D0%BE%D0%B4%20%D0%B8%D0%B7%20Windows%20XP.wav" ContentType="audio/x-wav"/>
  <Override PartName="/ppt/media/image6.wmf" ContentType="image/x-wmf"/>
  <Override PartName="/ppt/media/image4.jpeg" ContentType="image/jpeg"/>
  <Override PartName="/ppt/media/image8.gif" ContentType="image/gif"/>
  <Override PartName="/ppt/media/image5.jpeg" ContentType="image/jpeg"/>
  <Override PartName="/ppt/media/chimes.wav" ContentType="audio/x-wav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E9E7-803E-404A-9F00-102A48587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BA07-6FA3-47C2-BA24-95569540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60D5-C447-4D54-9703-19B05D144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AA08-3AD4-4421-B9D0-F466D1BF1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A773-0F0F-4BD9-9B68-1096A642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4CBC-83A0-44CC-9A2E-D482C2EB4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86A0-F454-4995-BB6F-26DAADF2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A87E-770E-4660-9049-7791C8F4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C8CF-3F82-4A24-92C3-30E98147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970A-D2E2-46D2-8D16-1F2A0942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F4EA-F841-4FC6-A7D2-671D6859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E0AB-C3AC-40E0-99D2-F292AEA3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D8CE-562E-4337-B989-C6A1B65AA7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indows%20XP%20-%20&#1082;&#1088;&#1080;&#1090;&#1080;&#1095;&#1077;&#1089;&#1082;&#1072;&#1103;%20&#1086;&#1096;&#1080;&#1073;&#1082;&#1072;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audio" Target="../media/Windows%20XP%20-%20&#1082;&#1088;&#1080;&#1090;&#1080;&#1095;&#1077;&#1089;&#1082;&#1072;&#1103;%20&#1086;&#1096;&#1080;&#1073;&#1082;&#1072;.wav"/><Relationship Id="rId7" Type="http://schemas.openxmlformats.org/officeDocument/2006/relationships/audio" Target="../media/Windows%20XP%20-%20&#1082;&#1088;&#1080;&#1090;&#1080;&#1095;&#1077;&#1089;&#1082;&#1072;&#1103;%20&#1086;&#1096;&#1080;&#1073;&#1082;&#1072;.wav"/><Relationship Id="rId8" Type="http://schemas.openxmlformats.org/officeDocument/2006/relationships/audio" Target="../media/&#1042;&#1099;&#1093;&#1086;&#1076;%20&#1080;&#1079;%20Windows%20XP.wav"/><Relationship Id="rId9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audio" Target="../media/Windows%20XP%20-%20&#1082;&#1088;&#1080;&#1090;&#1080;&#1095;&#1077;&#1089;&#1082;&#1072;&#1103;%20&#1086;&#1096;&#1080;&#1073;&#1082;&#1072;.wav"/><Relationship Id="rId5" Type="http://schemas.openxmlformats.org/officeDocument/2006/relationships/audio" Target="../media/Windows%20XP%20-%20&#1082;&#1088;&#1080;&#1090;&#1080;&#1095;&#1077;&#1089;&#1082;&#1072;&#1103;%20&#1086;&#1096;&#1080;&#1073;&#1082;&#1072;.wav"/><Relationship Id="rId6" Type="http://schemas.openxmlformats.org/officeDocument/2006/relationships/audio" Target="../media/&#1042;&#1099;&#1093;&#1086;&#1076;%20&#1080;&#1079;%20Windows%20XP.wav"/><Relationship Id="rId7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image" Target="../media/image5.jpeg"/><Relationship Id="rId20" Type="http://schemas.openxmlformats.org/officeDocument/2006/relationships/image" Target="../media/image5.jpeg"/><Relationship Id="rId21" Type="http://schemas.openxmlformats.org/officeDocument/2006/relationships/image" Target="../media/image5.jpeg"/><Relationship Id="rId22" Type="http://schemas.openxmlformats.org/officeDocument/2006/relationships/image" Target="../media/image5.jpeg"/><Relationship Id="rId23" Type="http://schemas.openxmlformats.org/officeDocument/2006/relationships/image" Target="../media/image5.jpeg"/><Relationship Id="rId24" Type="http://schemas.openxmlformats.org/officeDocument/2006/relationships/image" Target="../media/image5.jpeg"/><Relationship Id="rId25" Type="http://schemas.openxmlformats.org/officeDocument/2006/relationships/image" Target="../media/image5.jpeg"/><Relationship Id="rId26" Type="http://schemas.openxmlformats.org/officeDocument/2006/relationships/image" Target="../media/image5.jpeg"/><Relationship Id="rId27" Type="http://schemas.openxmlformats.org/officeDocument/2006/relationships/image" Target="../media/image5.jpeg"/><Relationship Id="rId28" Type="http://schemas.openxmlformats.org/officeDocument/2006/relationships/image" Target="../media/image5.jpeg"/><Relationship Id="rId29" Type="http://schemas.openxmlformats.org/officeDocument/2006/relationships/image" Target="../media/image5.jpeg"/><Relationship Id="rId30" Type="http://schemas.openxmlformats.org/officeDocument/2006/relationships/image" Target="../media/image5.jpeg"/><Relationship Id="rId31" Type="http://schemas.openxmlformats.org/officeDocument/2006/relationships/image" Target="../media/image5.jpeg"/><Relationship Id="rId32" Type="http://schemas.openxmlformats.org/officeDocument/2006/relationships/image" Target="../media/image5.jpeg"/><Relationship Id="rId33" Type="http://schemas.openxmlformats.org/officeDocument/2006/relationships/image" Target="../media/image5.jpeg"/><Relationship Id="rId34" Type="http://schemas.openxmlformats.org/officeDocument/2006/relationships/image" Target="../media/image5.jpeg"/><Relationship Id="rId35" Type="http://schemas.openxmlformats.org/officeDocument/2006/relationships/image" Target="../media/image5.jpeg"/><Relationship Id="rId36" Type="http://schemas.openxmlformats.org/officeDocument/2006/relationships/image" Target="../media/image5.jpeg"/><Relationship Id="rId37" Type="http://schemas.openxmlformats.org/officeDocument/2006/relationships/image" Target="../media/image5.jpeg"/><Relationship Id="rId38" Type="http://schemas.openxmlformats.org/officeDocument/2006/relationships/image" Target="../media/image5.jpeg"/><Relationship Id="rId39" Type="http://schemas.openxmlformats.org/officeDocument/2006/relationships/audio" Target="../media/Windows%20XP%20-%20&#1082;&#1088;&#1080;&#1090;&#1080;&#1095;&#1077;&#1089;&#1082;&#1072;&#1103;%20&#1086;&#1096;&#1080;&#1073;&#1082;&#1072;.wav"/><Relationship Id="rId40" Type="http://schemas.openxmlformats.org/officeDocument/2006/relationships/audio" Target="../media/Windows%20XP%20-%20&#1082;&#1088;&#1080;&#1090;&#1080;&#1095;&#1077;&#1089;&#1082;&#1072;&#1103;%20&#1086;&#1096;&#1080;&#1073;&#1082;&#1072;.wav"/><Relationship Id="rId41" Type="http://schemas.openxmlformats.org/officeDocument/2006/relationships/audio" Target="../media/&#1042;&#1099;&#1093;&#1086;&#1076;%20&#1080;&#1079;%20Windows%20XP.wav"/><Relationship Id="rId42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6.wmf"/><Relationship Id="rId21" Type="http://schemas.openxmlformats.org/officeDocument/2006/relationships/audio" Target="../media/Windows%20XP%20-%20&#1082;&#1088;&#1080;&#1090;&#1080;&#1095;&#1077;&#1089;&#1082;&#1072;&#1103;%20&#1086;&#1096;&#1080;&#1073;&#1082;&#1072;.wav"/><Relationship Id="rId22" Type="http://schemas.openxmlformats.org/officeDocument/2006/relationships/audio" Target="../media/Windows%20XP%20-%20&#1082;&#1088;&#1080;&#1090;&#1080;&#1095;&#1077;&#1089;&#1082;&#1072;&#1103;%20&#1086;&#1096;&#1080;&#1073;&#1082;&#1072;.wav"/><Relationship Id="rId23" Type="http://schemas.openxmlformats.org/officeDocument/2006/relationships/audio" Target="../media/&#1042;&#1099;&#1093;&#1086;&#1076;%20&#1080;&#1079;%20Windows%20XP.wav"/><Relationship Id="rId24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indows%20XP%20-%20&#1082;&#1088;&#1080;&#1090;&#1080;&#1095;&#1077;&#1089;&#1082;&#1072;&#1103;%20&#1086;&#1096;&#1080;&#1073;&#1082;&#1072;.wav"/><Relationship Id="rId3" Type="http://schemas.openxmlformats.org/officeDocument/2006/relationships/audio" Target="../media/Windows%20XP%20-%20&#1082;&#1088;&#1080;&#1090;&#1080;&#1095;&#1077;&#1089;&#1082;&#1072;&#1103;%20&#1086;&#1096;&#1080;&#1073;&#1082;&#1072;.wav"/><Relationship Id="rId4" Type="http://schemas.openxmlformats.org/officeDocument/2006/relationships/audio" Target="../media/Windows%20XP%20-%20&#1082;&#1088;&#1080;&#1090;&#1080;&#1095;&#1077;&#1089;&#1082;&#1072;&#1103;%20&#1086;&#1096;&#1080;&#1073;&#1082;&#1072;.wav"/><Relationship Id="rId5" Type="http://schemas.openxmlformats.org/officeDocument/2006/relationships/audio" Target="../media/Windows%20XP%20-%20&#1082;&#1088;&#1080;&#1090;&#1080;&#1095;&#1077;&#1089;&#1082;&#1072;&#1103;%20&#1086;&#1096;&#1080;&#1073;&#1082;&#1072;.wav"/><Relationship Id="rId6" Type="http://schemas.openxmlformats.org/officeDocument/2006/relationships/audio" Target="../media/Windows%20XP%20-%20&#1082;&#1088;&#1080;&#1090;&#1080;&#1095;&#1077;&#1089;&#1082;&#1072;&#1103;%20&#1086;&#1096;&#1080;&#1073;&#1082;&#1072;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indows%20XP%20-%20&#1082;&#1088;&#1080;&#1090;&#1080;&#1095;&#1077;&#1089;&#1082;&#1072;&#1103;%20&#1086;&#1096;&#1080;&#1073;&#1082;&#1072;.wav"/><Relationship Id="rId2" Type="http://schemas.openxmlformats.org/officeDocument/2006/relationships/audio" Target="../media/Windows%20XP%20-%20&#1082;&#1088;&#1080;&#1090;&#1080;&#1095;&#1077;&#1089;&#1082;&#1072;&#1103;%20&#1086;&#1096;&#1080;&#1073;&#1082;&#1072;.wav"/><Relationship Id="rId3" Type="http://schemas.openxmlformats.org/officeDocument/2006/relationships/audio" Target="../media/Windows%20XP%20-%20&#1082;&#1088;&#1080;&#1090;&#1080;&#1095;&#1077;&#1089;&#1082;&#1072;&#1103;%20&#1086;&#1096;&#1080;&#1073;&#1082;&#1072;.wav"/><Relationship Id="rId4" Type="http://schemas.openxmlformats.org/officeDocument/2006/relationships/audio" Target="../media/Windows%20XP%20-%20&#1082;&#1088;&#1080;&#1090;&#1080;&#1095;&#1077;&#1089;&#1082;&#1072;&#1103;%20&#1086;&#1096;&#1080;&#1073;&#1082;&#1072;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indows%20XP%20-%20&#1082;&#1088;&#1080;&#1090;&#1080;&#1095;&#1077;&#1089;&#1082;&#1072;&#1103;%20&#1086;&#1096;&#1080;&#1073;&#1082;&#1072;.wav"/><Relationship Id="rId2" Type="http://schemas.openxmlformats.org/officeDocument/2006/relationships/audio" Target="../media/Windows%20XP%20-%20&#1082;&#1088;&#1080;&#1090;&#1080;&#1095;&#1077;&#1089;&#1082;&#1072;&#1103;%20&#1086;&#1096;&#1080;&#1073;&#1082;&#1072;.wav"/><Relationship Id="rId3" Type="http://schemas.openxmlformats.org/officeDocument/2006/relationships/audio" Target="../media/Windows%20XP%20-%20&#1082;&#1088;&#1080;&#1090;&#1080;&#1095;&#1077;&#1089;&#1082;&#1072;&#1103;%20&#1086;&#1096;&#1080;&#1073;&#1082;&#1072;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indows%20XP%20-%20&#1082;&#1088;&#1080;&#1090;&#1080;&#1095;&#1077;&#1089;&#1082;&#1072;&#1103;%20&#1086;&#1096;&#1080;&#1073;&#1082;&#1072;.wav"/><Relationship Id="rId2" Type="http://schemas.openxmlformats.org/officeDocument/2006/relationships/audio" Target="../media/Windows%20XP%20-%20&#1082;&#1088;&#1080;&#1090;&#1080;&#1095;&#1077;&#1089;&#1082;&#1072;&#1103;%20&#1086;&#1096;&#1080;&#1073;&#1082;&#1072;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11280" y="2060640"/>
            <a:ext cx="799128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дачи на умножение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3200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Автор презентации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читель начальных классов МОУ СОШ №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г. Братска Иркут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Красикова Светлана Эдуард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7200" y="549360"/>
            <a:ext cx="47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рагмент урока математики во 2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МК «Школа Росси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ы: Моро М. И., Бантова М. А.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рытое слово (шаг 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484360" y="1557360"/>
          <a:ext cx="658800" cy="4525920"/>
        </p:xfrm>
        <a:graphic>
          <a:graphicData uri="http://schemas.openxmlformats.org/drawingml/2006/table">
            <a:tbl>
              <a:tblPr/>
              <a:tblGrid>
                <a:gridCol w="6588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6689880" y="5373720"/>
            <a:ext cx="167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вад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8000" y="4724280"/>
            <a:ext cx="21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16000" y="1557360"/>
          <a:ext cx="3382920" cy="749160"/>
        </p:xfrm>
        <a:graphic>
          <a:graphicData uri="http://schemas.openxmlformats.org/drawingml/2006/table">
            <a:tbl>
              <a:tblPr/>
              <a:tblGrid>
                <a:gridCol w="676440"/>
                <a:gridCol w="676800"/>
                <a:gridCol w="676440"/>
                <a:gridCol w="676440"/>
                <a:gridCol w="67680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1911600" y="6237360"/>
            <a:ext cx="19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ПРАВИЛЬ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42800" y="2314440"/>
          <a:ext cx="6096240" cy="73656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438120" y="3056040"/>
          <a:ext cx="2697120" cy="771480"/>
        </p:xfrm>
        <a:graphic>
          <a:graphicData uri="http://schemas.openxmlformats.org/drawingml/2006/table">
            <a:tbl>
              <a:tblPr/>
              <a:tblGrid>
                <a:gridCol w="687240"/>
                <a:gridCol w="669960"/>
                <a:gridCol w="669960"/>
                <a:gridCol w="669960"/>
              </a:tblGrid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828800" y="3836880"/>
          <a:ext cx="5275440" cy="736560"/>
        </p:xfrm>
        <a:graphic>
          <a:graphicData uri="http://schemas.openxmlformats.org/drawingml/2006/table">
            <a:tbl>
              <a:tblPr/>
              <a:tblGrid>
                <a:gridCol w="660240"/>
                <a:gridCol w="657360"/>
                <a:gridCol w="660600"/>
                <a:gridCol w="658800"/>
                <a:gridCol w="660240"/>
                <a:gridCol w="657360"/>
                <a:gridCol w="660240"/>
                <a:gridCol w="66060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00040" y="4567320"/>
          <a:ext cx="4630680" cy="747720"/>
        </p:xfrm>
        <a:graphic>
          <a:graphicData uri="http://schemas.openxmlformats.org/drawingml/2006/table">
            <a:tbl>
              <a:tblPr/>
              <a:tblGrid>
                <a:gridCol w="662040"/>
                <a:gridCol w="660240"/>
                <a:gridCol w="662040"/>
                <a:gridCol w="662040"/>
                <a:gridCol w="662040"/>
                <a:gridCol w="660240"/>
                <a:gridCol w="662040"/>
              </a:tblGrid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ows%20XP%20-%20%D0%BA%D1%80%D0%B8%D1%82%D0%B8%D1%87%D0%B5%D1%81%D0%BA%D0%B0%D1%8F%20%D0%BE%D1%88%D0%B8%D0%B1%D0%BA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рытое слово (шаг 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484360" y="1557360"/>
          <a:ext cx="658800" cy="4525920"/>
        </p:xfrm>
        <a:graphic>
          <a:graphicData uri="http://schemas.openxmlformats.org/drawingml/2006/table">
            <a:tbl>
              <a:tblPr/>
              <a:tblGrid>
                <a:gridCol w="6588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6228000" y="4724280"/>
            <a:ext cx="21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116000" y="1557360"/>
          <a:ext cx="3382920" cy="749160"/>
        </p:xfrm>
        <a:graphic>
          <a:graphicData uri="http://schemas.openxmlformats.org/drawingml/2006/table">
            <a:tbl>
              <a:tblPr/>
              <a:tblGrid>
                <a:gridCol w="676440"/>
                <a:gridCol w="676800"/>
                <a:gridCol w="676440"/>
                <a:gridCol w="676440"/>
                <a:gridCol w="67680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442800" y="2314440"/>
          <a:ext cx="6096240" cy="73656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438120" y="3056040"/>
          <a:ext cx="2697120" cy="771480"/>
        </p:xfrm>
        <a:graphic>
          <a:graphicData uri="http://schemas.openxmlformats.org/drawingml/2006/table">
            <a:tbl>
              <a:tblPr/>
              <a:tblGrid>
                <a:gridCol w="687240"/>
                <a:gridCol w="669960"/>
                <a:gridCol w="669960"/>
                <a:gridCol w="669960"/>
              </a:tblGrid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828800" y="3836880"/>
          <a:ext cx="5275440" cy="736560"/>
        </p:xfrm>
        <a:graphic>
          <a:graphicData uri="http://schemas.openxmlformats.org/drawingml/2006/table">
            <a:tbl>
              <a:tblPr/>
              <a:tblGrid>
                <a:gridCol w="660240"/>
                <a:gridCol w="657360"/>
                <a:gridCol w="660600"/>
                <a:gridCol w="658800"/>
                <a:gridCol w="660240"/>
                <a:gridCol w="657360"/>
                <a:gridCol w="660240"/>
                <a:gridCol w="66060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00040" y="4567320"/>
          <a:ext cx="4630680" cy="747720"/>
        </p:xfrm>
        <a:graphic>
          <a:graphicData uri="http://schemas.openxmlformats.org/drawingml/2006/table">
            <a:tbl>
              <a:tblPr/>
              <a:tblGrid>
                <a:gridCol w="662040"/>
                <a:gridCol w="660240"/>
                <a:gridCol w="662040"/>
                <a:gridCol w="662040"/>
                <a:gridCol w="662040"/>
                <a:gridCol w="660240"/>
                <a:gridCol w="662040"/>
              </a:tblGrid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1154160" y="5338800"/>
          <a:ext cx="5943600" cy="750960"/>
        </p:xfrm>
        <a:graphic>
          <a:graphicData uri="http://schemas.openxmlformats.org/drawingml/2006/table">
            <a:tbl>
              <a:tblPr/>
              <a:tblGrid>
                <a:gridCol w="660600"/>
                <a:gridCol w="659520"/>
                <a:gridCol w="660960"/>
                <a:gridCol w="660960"/>
                <a:gridCol w="659160"/>
                <a:gridCol w="660960"/>
                <a:gridCol w="660960"/>
                <a:gridCol w="659520"/>
                <a:gridCol w="660960"/>
              </a:tblGrid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877080" y="1413000"/>
            <a:ext cx="2016000" cy="17888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596360" y="5084640"/>
            <a:ext cx="99684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В букете 5 гвоздик. Сколько гвоздик в 3 таких букетах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59360" y="2421000"/>
            <a:ext cx="14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5 х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848920" y="1557360"/>
            <a:ext cx="143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5 +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59360" y="3284640"/>
            <a:ext cx="14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3 х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6795" t="15529" r="4559" b="32649"/>
          <a:stretch/>
        </p:blipFill>
        <p:spPr>
          <a:xfrm>
            <a:off x="7083360" y="4508640"/>
            <a:ext cx="1760760" cy="1441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0" t="0" r="0" b="31007"/>
          <a:stretch/>
        </p:blipFill>
        <p:spPr>
          <a:xfrm>
            <a:off x="5580000" y="4508640"/>
            <a:ext cx="1492200" cy="1441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643280" y="4076640"/>
            <a:ext cx="431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Щелкни мышкой по правильному реше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68360" y="1989000"/>
            <a:ext cx="1141200" cy="2186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1743120" y="3429000"/>
            <a:ext cx="1141200" cy="218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059280" y="2060640"/>
            <a:ext cx="114120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ows%20XP%20-%20%D0%BA%D1%80%D0%B8%D1%82%D0%B8%D1%87%D0%B5%D1%81%D0%BA%D0%B0%D1%8F%20%D0%BE%D1%88%D0%B8%D0%B1%D0%BA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1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12" dur="1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13" dur="1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ows%20XP%20-%20%D0%BA%D1%80%D0%B8%D1%82%D0%B8%D1%87%D0%B5%D1%81%D0%BA%D0%B0%D1%8F%20%D0%BE%D1%88%D0%B8%D0%B1%D0%BA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1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35" dur="1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36" dur="1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0%92%D1%8B%D1%85%D0%BE%D0%B4%20%D0%B8%D0%B7%20Windows%20X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Глухарь весит 6 кг. Какой вес нужно выдержать сосновой ветке, если на нее сядут 2 одинаковых по весу глухар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87880" y="3429000"/>
            <a:ext cx="157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12 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87880" y="2708280"/>
            <a:ext cx="157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10 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27640" y="191628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6 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7276" t="15529" r="3354" b="32649"/>
          <a:stretch/>
        </p:blipFill>
        <p:spPr>
          <a:xfrm>
            <a:off x="7093080" y="4508640"/>
            <a:ext cx="1774800" cy="1441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0" t="0" r="0" b="27587"/>
          <a:stretch/>
        </p:blipFill>
        <p:spPr>
          <a:xfrm>
            <a:off x="5580000" y="4508640"/>
            <a:ext cx="1492200" cy="1512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824360" y="4187880"/>
            <a:ext cx="43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Щелкни мышкой по правильному отве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84360" y="1773360"/>
            <a:ext cx="2973240" cy="3484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844000" y="256536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88360" y="4437000"/>
            <a:ext cx="6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ows%20XP%20-%20%D0%BA%D1%80%D0%B8%D1%82%D0%B8%D1%87%D0%B5%D1%81%D0%BA%D0%B0%D1%8F%20%D0%BE%D1%88%D0%B8%D0%B1%D0%BA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66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67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ows%20XP%20-%20%D0%BA%D1%80%D0%B8%D1%82%D0%B8%D1%87%D0%B5%D1%81%D0%BA%D0%B0%D1%8F%20%D0%BE%D1%88%D0%B8%D0%B1%D0%BA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89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90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0%92%D1%8B%D1%85%D0%BE%D0%B4%20%D0%B8%D0%B7%20Windows%20X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63300"/>
                </a:solidFill>
                <a:latin typeface="Arial"/>
              </a:rPr>
              <a:t>На клумбу высадили 4 ряда тюльпанов по 9 штук в каждом ряду. 3 цветка вымерзли  Сколько тюльпанов осталось на клумбе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60320" y="2565360"/>
            <a:ext cx="220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9 * 4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79400" y="1773360"/>
            <a:ext cx="220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9 - 3 *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2000" y="3357720"/>
            <a:ext cx="28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4 * 9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6717" t="18150" r="3913" b="32649"/>
          <a:stretch/>
        </p:blipFill>
        <p:spPr>
          <a:xfrm>
            <a:off x="7081920" y="4581360"/>
            <a:ext cx="1774800" cy="1368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0" r="0" b="31007"/>
          <a:stretch/>
        </p:blipFill>
        <p:spPr>
          <a:xfrm>
            <a:off x="5580000" y="4508640"/>
            <a:ext cx="1492200" cy="1441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824360" y="4187880"/>
            <a:ext cx="431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Щелкни мышкой по правильному реше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755640" y="1989000"/>
            <a:ext cx="511200" cy="719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187280" y="1989000"/>
            <a:ext cx="511200" cy="719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1619280" y="1989000"/>
            <a:ext cx="511200" cy="719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2019240" y="2019240"/>
            <a:ext cx="511200" cy="719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2771640" y="1989000"/>
            <a:ext cx="511200" cy="719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2411280" y="1989000"/>
            <a:ext cx="511200" cy="719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3203640" y="1989000"/>
            <a:ext cx="511200" cy="719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3995640" y="1989000"/>
            <a:ext cx="511200" cy="719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1"/>
          <a:stretch/>
        </p:blipFill>
        <p:spPr>
          <a:xfrm>
            <a:off x="3635280" y="1989000"/>
            <a:ext cx="511200" cy="719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2"/>
          <a:stretch/>
        </p:blipFill>
        <p:spPr>
          <a:xfrm>
            <a:off x="787320" y="2822400"/>
            <a:ext cx="511200" cy="719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3"/>
          <a:stretch/>
        </p:blipFill>
        <p:spPr>
          <a:xfrm>
            <a:off x="1219320" y="2822400"/>
            <a:ext cx="511200" cy="7192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4"/>
          <a:stretch/>
        </p:blipFill>
        <p:spPr>
          <a:xfrm>
            <a:off x="1650960" y="2822400"/>
            <a:ext cx="511200" cy="7192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5"/>
          <a:stretch/>
        </p:blipFill>
        <p:spPr>
          <a:xfrm>
            <a:off x="2050920" y="2852640"/>
            <a:ext cx="511200" cy="719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6"/>
          <a:stretch/>
        </p:blipFill>
        <p:spPr>
          <a:xfrm>
            <a:off x="2803680" y="2822400"/>
            <a:ext cx="511200" cy="719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7"/>
          <a:stretch/>
        </p:blipFill>
        <p:spPr>
          <a:xfrm>
            <a:off x="2443320" y="2822400"/>
            <a:ext cx="510840" cy="719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8"/>
          <a:stretch/>
        </p:blipFill>
        <p:spPr>
          <a:xfrm>
            <a:off x="3235320" y="2822400"/>
            <a:ext cx="511200" cy="719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9"/>
          <a:stretch/>
        </p:blipFill>
        <p:spPr>
          <a:xfrm>
            <a:off x="4027320" y="2822400"/>
            <a:ext cx="511200" cy="719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0"/>
          <a:stretch/>
        </p:blipFill>
        <p:spPr>
          <a:xfrm>
            <a:off x="3666960" y="2822400"/>
            <a:ext cx="511200" cy="719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1"/>
          <a:stretch/>
        </p:blipFill>
        <p:spPr>
          <a:xfrm>
            <a:off x="755640" y="3645000"/>
            <a:ext cx="511200" cy="718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2"/>
          <a:stretch/>
        </p:blipFill>
        <p:spPr>
          <a:xfrm>
            <a:off x="1187280" y="3645000"/>
            <a:ext cx="511200" cy="718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3"/>
          <a:stretch/>
        </p:blipFill>
        <p:spPr>
          <a:xfrm>
            <a:off x="1619280" y="3645000"/>
            <a:ext cx="511200" cy="718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4"/>
          <a:stretch/>
        </p:blipFill>
        <p:spPr>
          <a:xfrm>
            <a:off x="2019240" y="3675240"/>
            <a:ext cx="511200" cy="718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5"/>
          <a:stretch/>
        </p:blipFill>
        <p:spPr>
          <a:xfrm>
            <a:off x="2771640" y="3645000"/>
            <a:ext cx="511200" cy="718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6"/>
          <a:stretch/>
        </p:blipFill>
        <p:spPr>
          <a:xfrm>
            <a:off x="2411280" y="3645000"/>
            <a:ext cx="511200" cy="718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7"/>
          <a:stretch/>
        </p:blipFill>
        <p:spPr>
          <a:xfrm>
            <a:off x="3203640" y="3645000"/>
            <a:ext cx="511200" cy="718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8"/>
          <a:stretch/>
        </p:blipFill>
        <p:spPr>
          <a:xfrm>
            <a:off x="3995640" y="3645000"/>
            <a:ext cx="511200" cy="71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9"/>
          <a:stretch/>
        </p:blipFill>
        <p:spPr>
          <a:xfrm>
            <a:off x="3635280" y="3645000"/>
            <a:ext cx="511200" cy="718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0"/>
          <a:stretch/>
        </p:blipFill>
        <p:spPr>
          <a:xfrm>
            <a:off x="755640" y="4581360"/>
            <a:ext cx="511200" cy="719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1"/>
          <a:stretch/>
        </p:blipFill>
        <p:spPr>
          <a:xfrm>
            <a:off x="1187280" y="4581360"/>
            <a:ext cx="511200" cy="719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2"/>
          <a:stretch/>
        </p:blipFill>
        <p:spPr>
          <a:xfrm>
            <a:off x="1619280" y="4581360"/>
            <a:ext cx="511200" cy="719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3"/>
          <a:stretch/>
        </p:blipFill>
        <p:spPr>
          <a:xfrm>
            <a:off x="2019240" y="4611600"/>
            <a:ext cx="511200" cy="719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4"/>
          <a:stretch/>
        </p:blipFill>
        <p:spPr>
          <a:xfrm>
            <a:off x="2771640" y="4581360"/>
            <a:ext cx="511200" cy="719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5"/>
          <a:stretch/>
        </p:blipFill>
        <p:spPr>
          <a:xfrm>
            <a:off x="2411280" y="4581360"/>
            <a:ext cx="511200" cy="719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6"/>
          <a:stretch/>
        </p:blipFill>
        <p:spPr>
          <a:xfrm>
            <a:off x="3276720" y="4581360"/>
            <a:ext cx="511200" cy="719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7"/>
          <a:stretch/>
        </p:blipFill>
        <p:spPr>
          <a:xfrm>
            <a:off x="3708360" y="4581360"/>
            <a:ext cx="511200" cy="719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8"/>
          <a:stretch/>
        </p:blipFill>
        <p:spPr>
          <a:xfrm>
            <a:off x="4140360" y="4581360"/>
            <a:ext cx="510840" cy="719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>
            <a:off x="4140000" y="4508640"/>
            <a:ext cx="502920" cy="86508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708360" y="4508640"/>
            <a:ext cx="503280" cy="86508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276720" y="4508640"/>
            <a:ext cx="503280" cy="86508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Windows%20XP%20-%20%D0%BA%D1%80%D0%B8%D1%82%D0%B8%D1%87%D0%B5%D1%81%D0%BA%D0%B0%D1%8F%20%D0%BE%D1%88%D0%B8%D0%B1%D0%BA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120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121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Windows%20XP%20-%20%D0%BA%D1%80%D0%B8%D1%82%D0%B8%D1%87%D0%B5%D1%81%D0%BA%D0%B0%D1%8F%20%D0%BE%D1%88%D0%B8%D0%B1%D0%BA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143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144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%D0%92%D1%8B%D1%85%D0%BE%D0%B4%20%D0%B8%D0%B7%20Windows%20X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В параде участвовало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одинаковых отряда самолетов. Сколько было самолетов в одном отряде, если всего было 1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8</a:t>
            </a: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 самолет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0680" y="5589720"/>
            <a:ext cx="159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18 :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2280" y="4746600"/>
            <a:ext cx="16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8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393372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1" lang="en-US" sz="4400" spc="-1" strike="noStrike">
                <a:solidFill>
                  <a:srgbClr val="0000ff"/>
                </a:solidFill>
                <a:latin typeface="Tahoma"/>
              </a:rPr>
              <a:t>8 *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7276" t="17182" r="0" b="31052"/>
          <a:stretch/>
        </p:blipFill>
        <p:spPr>
          <a:xfrm>
            <a:off x="7164360" y="5013360"/>
            <a:ext cx="1841400" cy="1440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rcRect l="0" t="0" r="0" b="31080"/>
          <a:stretch/>
        </p:blipFill>
        <p:spPr>
          <a:xfrm>
            <a:off x="5672160" y="5013360"/>
            <a:ext cx="1492200" cy="1440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9280" y="6384960"/>
            <a:ext cx="431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Щелкни мышкой по правильному реше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321160" y="2100240"/>
            <a:ext cx="576360" cy="2890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6072120" y="2448000"/>
            <a:ext cx="576360" cy="288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6854760" y="2786040"/>
            <a:ext cx="576360" cy="2890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6227640" y="1989000"/>
            <a:ext cx="576360" cy="289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6977160" y="2316240"/>
            <a:ext cx="576000" cy="288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7194600" y="1884240"/>
            <a:ext cx="576360" cy="289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>
            <a:off x="1746360" y="2481120"/>
            <a:ext cx="576000" cy="289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0"/>
          <a:stretch/>
        </p:blipFill>
        <p:spPr>
          <a:xfrm>
            <a:off x="2496960" y="2828880"/>
            <a:ext cx="576360" cy="289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1"/>
          <a:stretch/>
        </p:blipFill>
        <p:spPr>
          <a:xfrm>
            <a:off x="3279600" y="3166920"/>
            <a:ext cx="576360" cy="289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2"/>
          <a:stretch/>
        </p:blipFill>
        <p:spPr>
          <a:xfrm>
            <a:off x="2652840" y="2370240"/>
            <a:ext cx="576000" cy="288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3"/>
          <a:stretch/>
        </p:blipFill>
        <p:spPr>
          <a:xfrm>
            <a:off x="3402000" y="2697120"/>
            <a:ext cx="576360" cy="2890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4"/>
          <a:stretch/>
        </p:blipFill>
        <p:spPr>
          <a:xfrm>
            <a:off x="3619440" y="2265480"/>
            <a:ext cx="576360" cy="288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5"/>
          <a:stretch/>
        </p:blipFill>
        <p:spPr>
          <a:xfrm>
            <a:off x="4770360" y="4002120"/>
            <a:ext cx="576360" cy="288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6"/>
          <a:stretch/>
        </p:blipFill>
        <p:spPr>
          <a:xfrm>
            <a:off x="5521320" y="4349880"/>
            <a:ext cx="576360" cy="288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7"/>
          <a:stretch/>
        </p:blipFill>
        <p:spPr>
          <a:xfrm>
            <a:off x="6303960" y="4687920"/>
            <a:ext cx="576360" cy="288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8"/>
          <a:stretch/>
        </p:blipFill>
        <p:spPr>
          <a:xfrm>
            <a:off x="5676840" y="3890880"/>
            <a:ext cx="576360" cy="289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9"/>
          <a:stretch/>
        </p:blipFill>
        <p:spPr>
          <a:xfrm>
            <a:off x="6426360" y="4218120"/>
            <a:ext cx="576000" cy="288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0"/>
          <a:stretch/>
        </p:blipFill>
        <p:spPr>
          <a:xfrm>
            <a:off x="6643800" y="3786120"/>
            <a:ext cx="57600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indows%20XP%20-%20%D0%BA%D1%80%D0%B8%D1%82%D0%B8%D1%87%D0%B5%D1%81%D0%BA%D0%B0%D1%8F%20%D0%BE%D1%88%D0%B8%D0%B1%D0%BA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174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175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indows%20XP%20-%20%D0%BA%D1%80%D0%B8%D1%82%D0%B8%D1%87%D0%B5%D1%81%D0%BA%D0%B0%D1%8F%20%D0%BE%D1%88%D0%B8%D0%B1%D0%BA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197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198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%D0%92%D1%8B%D1%85%D0%BE%D0%B4%20%D0%B8%D0%B7%20Windows%20X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рытое слово (шаг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484360" y="1557360"/>
          <a:ext cx="658800" cy="4525920"/>
        </p:xfrm>
        <a:graphic>
          <a:graphicData uri="http://schemas.openxmlformats.org/drawingml/2006/table">
            <a:tbl>
              <a:tblPr/>
              <a:tblGrid>
                <a:gridCol w="6588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7093080" y="54450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уп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43280" y="1628640"/>
            <a:ext cx="22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мн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09800" y="3141720"/>
            <a:ext cx="11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м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4360" y="3933720"/>
            <a:ext cx="19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име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948720" y="2349360"/>
            <a:ext cx="167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вад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28000" y="4724280"/>
            <a:ext cx="21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116000" y="1557360"/>
          <a:ext cx="3382920" cy="749160"/>
        </p:xfrm>
        <a:graphic>
          <a:graphicData uri="http://schemas.openxmlformats.org/drawingml/2006/table">
            <a:tbl>
              <a:tblPr/>
              <a:tblGrid>
                <a:gridCol w="676440"/>
                <a:gridCol w="676800"/>
                <a:gridCol w="676440"/>
                <a:gridCol w="676440"/>
                <a:gridCol w="67680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1911600" y="6237360"/>
            <a:ext cx="19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ПРАВИЛЬ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ows%20XP%20-%20%D0%BA%D1%80%D0%B8%D1%82%D0%B8%D1%87%D0%B5%D1%81%D0%BA%D0%B0%D1%8F%20%D0%BE%D1%88%D0%B8%D0%B1%D0%BA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36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ows%20XP%20-%20%D0%BA%D1%80%D0%B8%D1%82%D0%B8%D1%87%D0%B5%D1%81%D0%BA%D0%B0%D1%8F%20%D0%BE%D1%88%D0%B8%D0%B1%D0%BA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ows%20XP%20-%20%D0%BA%D1%80%D0%B8%D1%82%D0%B8%D1%87%D0%B5%D1%81%D0%BA%D0%B0%D1%8F%20%D0%BE%D1%88%D0%B8%D0%B1%D0%BA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ows%20XP%20-%20%D0%BA%D1%80%D0%B8%D1%82%D0%B8%D1%87%D0%B5%D1%81%D0%BA%D0%B0%D1%8F%20%D0%BE%D1%88%D0%B8%D0%B1%D0%BA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ows%20XP%20-%20%D0%BA%D1%80%D0%B8%D1%82%D0%B8%D1%87%D0%B5%D1%81%D0%BA%D0%B0%D1%8F%20%D0%BE%D1%88%D0%B8%D0%B1%D0%BA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рытое слово (шаг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484360" y="1557360"/>
          <a:ext cx="658800" cy="4525920"/>
        </p:xfrm>
        <a:graphic>
          <a:graphicData uri="http://schemas.openxmlformats.org/drawingml/2006/table">
            <a:tbl>
              <a:tblPr/>
              <a:tblGrid>
                <a:gridCol w="6588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6443280" y="1628640"/>
            <a:ext cx="22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мн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452720" y="2349360"/>
            <a:ext cx="11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м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44360" y="3933720"/>
            <a:ext cx="19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име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04360" y="3213000"/>
            <a:ext cx="167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вад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28000" y="4724280"/>
            <a:ext cx="21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16000" y="1557360"/>
          <a:ext cx="3382920" cy="749160"/>
        </p:xfrm>
        <a:graphic>
          <a:graphicData uri="http://schemas.openxmlformats.org/drawingml/2006/table">
            <a:tbl>
              <a:tblPr/>
              <a:tblGrid>
                <a:gridCol w="676440"/>
                <a:gridCol w="676800"/>
                <a:gridCol w="676440"/>
                <a:gridCol w="676440"/>
                <a:gridCol w="67680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1911600" y="6237360"/>
            <a:ext cx="19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ПРАВИЛЬ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42800" y="2314440"/>
          <a:ext cx="6096240" cy="73656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ows%20XP%20-%20%D0%BA%D1%80%D0%B8%D1%82%D0%B8%D1%87%D0%B5%D1%81%D0%BA%D0%B0%D1%8F%20%D0%BE%D1%88%D0%B8%D0%B1%D0%BA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ows%20XP%20-%20%D0%BA%D1%80%D0%B8%D1%82%D0%B8%D1%87%D0%B5%D1%81%D0%BA%D0%B0%D1%8F%20%D0%BE%D1%88%D0%B8%D0%B1%D0%BA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91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ows%20XP%20-%20%D0%BA%D1%80%D0%B8%D1%82%D0%B8%D1%87%D0%B5%D1%81%D0%BA%D0%B0%D1%8F%20%D0%BE%D1%88%D0%B8%D0%B1%D0%BA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9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ows%20XP%20-%20%D0%BA%D1%80%D0%B8%D1%82%D0%B8%D1%87%D0%B5%D1%81%D0%BA%D0%B0%D1%8F%20%D0%BE%D1%88%D0%B8%D0%B1%D0%BA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рытое слово (шаг 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484360" y="1557360"/>
          <a:ext cx="658800" cy="4525920"/>
        </p:xfrm>
        <a:graphic>
          <a:graphicData uri="http://schemas.openxmlformats.org/drawingml/2006/table">
            <a:tbl>
              <a:tblPr/>
              <a:tblGrid>
                <a:gridCol w="6588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7452720" y="2349360"/>
            <a:ext cx="11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м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4360" y="3933720"/>
            <a:ext cx="19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име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04360" y="3213000"/>
            <a:ext cx="167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вад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28000" y="4724280"/>
            <a:ext cx="21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116000" y="1557360"/>
          <a:ext cx="3382920" cy="749160"/>
        </p:xfrm>
        <a:graphic>
          <a:graphicData uri="http://schemas.openxmlformats.org/drawingml/2006/table">
            <a:tbl>
              <a:tblPr/>
              <a:tblGrid>
                <a:gridCol w="676440"/>
                <a:gridCol w="676800"/>
                <a:gridCol w="676440"/>
                <a:gridCol w="676440"/>
                <a:gridCol w="67680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1911600" y="6237360"/>
            <a:ext cx="19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ПРАВИЛЬ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42800" y="2314440"/>
          <a:ext cx="6096240" cy="73656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438120" y="3056040"/>
          <a:ext cx="2697120" cy="771480"/>
        </p:xfrm>
        <a:graphic>
          <a:graphicData uri="http://schemas.openxmlformats.org/drawingml/2006/table">
            <a:tbl>
              <a:tblPr/>
              <a:tblGrid>
                <a:gridCol w="687240"/>
                <a:gridCol w="669960"/>
                <a:gridCol w="669960"/>
                <a:gridCol w="669960"/>
              </a:tblGrid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ows%20XP%20-%20%D0%BA%D1%80%D0%B8%D1%82%D0%B8%D1%87%D0%B5%D1%81%D0%BA%D0%B0%D1%8F%20%D0%BE%D1%88%D0%B8%D0%B1%D0%BA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ows%20XP%20-%20%D0%BA%D1%80%D0%B8%D1%82%D0%B8%D1%87%D0%B5%D1%81%D0%BA%D0%B0%D1%8F%20%D0%BE%D1%88%D0%B8%D0%B1%D0%BA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ows%20XP%20-%20%D0%BA%D1%80%D0%B8%D1%82%D0%B8%D1%87%D0%B5%D1%81%D0%BA%D0%B0%D1%8F%20%D0%BE%D1%88%D0%B8%D0%B1%D0%BA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рытое слово (шаг 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484360" y="1557360"/>
          <a:ext cx="658800" cy="4525920"/>
        </p:xfrm>
        <a:graphic>
          <a:graphicData uri="http://schemas.openxmlformats.org/drawingml/2006/table">
            <a:tbl>
              <a:tblPr/>
              <a:tblGrid>
                <a:gridCol w="6588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6444360" y="3933720"/>
            <a:ext cx="199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име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04360" y="3213000"/>
            <a:ext cx="167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вад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228000" y="4724280"/>
            <a:ext cx="21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рав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116000" y="1557360"/>
          <a:ext cx="3382920" cy="749160"/>
        </p:xfrm>
        <a:graphic>
          <a:graphicData uri="http://schemas.openxmlformats.org/drawingml/2006/table">
            <a:tbl>
              <a:tblPr/>
              <a:tblGrid>
                <a:gridCol w="676440"/>
                <a:gridCol w="676800"/>
                <a:gridCol w="676440"/>
                <a:gridCol w="676440"/>
                <a:gridCol w="67680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1911600" y="6237360"/>
            <a:ext cx="19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ПРАВИЛЬ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42800" y="2314440"/>
          <a:ext cx="6096240" cy="73656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38120" y="3056040"/>
          <a:ext cx="2697120" cy="771480"/>
        </p:xfrm>
        <a:graphic>
          <a:graphicData uri="http://schemas.openxmlformats.org/drawingml/2006/table">
            <a:tbl>
              <a:tblPr/>
              <a:tblGrid>
                <a:gridCol w="687240"/>
                <a:gridCol w="669960"/>
                <a:gridCol w="669960"/>
                <a:gridCol w="669960"/>
              </a:tblGrid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1828800" y="3836880"/>
          <a:ext cx="5275440" cy="736560"/>
        </p:xfrm>
        <a:graphic>
          <a:graphicData uri="http://schemas.openxmlformats.org/drawingml/2006/table">
            <a:tbl>
              <a:tblPr/>
              <a:tblGrid>
                <a:gridCol w="660240"/>
                <a:gridCol w="657360"/>
                <a:gridCol w="660600"/>
                <a:gridCol w="658800"/>
                <a:gridCol w="660240"/>
                <a:gridCol w="657360"/>
                <a:gridCol w="660240"/>
                <a:gridCol w="66060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ows%20XP%20-%20%D0%BA%D1%80%D0%B8%D1%82%D0%B8%D1%87%D0%B5%D1%81%D0%BA%D0%B0%D1%8F%20%D0%BE%D1%88%D0%B8%D0%B1%D0%BA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ows%20XP%20-%20%D0%BA%D1%80%D0%B8%D1%82%D0%B8%D1%87%D0%B5%D1%81%D0%BA%D0%B0%D1%8F%20%D0%BE%D1%88%D0%B8%D0%B1%D0%BA%D0%B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3:31:08Z</dcterms:created>
  <dc:creator>Красикова Светлана Эдурдовна</dc:creator>
  <dc:description/>
  <dc:language>en-US</dc:language>
  <cp:lastModifiedBy>Красикова</cp:lastModifiedBy>
  <dcterms:modified xsi:type="dcterms:W3CDTF">2010-10-07T13:48:33Z</dcterms:modified>
  <cp:revision>30</cp:revision>
  <dc:subject>Фрагмент урока математики во 2 классе</dc:subject>
  <dc:title>Задачи на умножение</dc:title>
</cp:coreProperties>
</file>