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chimes.wav" ContentType="audio/x-wav"/>
  <Override PartName="/ppt/media/image8.png" ContentType="image/png"/>
  <Override PartName="/ppt/media/pluck.wav" ContentType="audio/x-wav"/>
  <Override PartName="/ppt/media/image14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4E9-D439-4722-B863-609DAD5C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158-46A8-4CD6-946E-E055A567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C4B-AE8B-45F9-8A84-4EC5A24F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1A8-5F60-4033-B0A9-2FF310EC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0A1-FE88-414E-9822-3699459E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97A-FCB7-4B94-9CE8-9DCDC8D2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C1F-594F-4CF1-94D8-426F1F62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B27-A215-4E9F-AC4C-0F1F7ACC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3F1-CCDD-4D1E-B0E1-5D83AFDA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5C6-D044-49AB-B979-7782A6C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CDA-AE4D-42FB-9FB6-ED667C06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D16-D10D-47FF-B538-2342B87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4241-83CB-49D4-8496-81636ADD1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audio" Target="../media/pluck.wav"/><Relationship Id="rId4" Type="http://schemas.openxmlformats.org/officeDocument/2006/relationships/audio" Target="../media/pluck.wav"/><Relationship Id="rId5" Type="http://schemas.openxmlformats.org/officeDocument/2006/relationships/audio" Target="../media/pluck.wav"/><Relationship Id="rId6" Type="http://schemas.openxmlformats.org/officeDocument/2006/relationships/audio" Target="../media/chimes.wav"/><Relationship Id="rId7" Type="http://schemas.openxmlformats.org/officeDocument/2006/relationships/audio" Target="../media/pluck.wav"/><Relationship Id="rId8" Type="http://schemas.openxmlformats.org/officeDocument/2006/relationships/audio" Target="../media/pluck.wav"/><Relationship Id="rId9" Type="http://schemas.openxmlformats.org/officeDocument/2006/relationships/audio" Target="../media/pluck.wav"/><Relationship Id="rId10" Type="http://schemas.openxmlformats.org/officeDocument/2006/relationships/audio" Target="../media/pluck.wav"/><Relationship Id="rId11" Type="http://schemas.openxmlformats.org/officeDocument/2006/relationships/audio" Target="../media/chimes.wav"/><Relationship Id="rId12" Type="http://schemas.openxmlformats.org/officeDocument/2006/relationships/audio" Target="../media/pluck.wav"/><Relationship Id="rId13" Type="http://schemas.openxmlformats.org/officeDocument/2006/relationships/audio" Target="../media/pluck.wav"/><Relationship Id="rId14" Type="http://schemas.openxmlformats.org/officeDocument/2006/relationships/audio" Target="../media/pluck.wav"/><Relationship Id="rId15" Type="http://schemas.openxmlformats.org/officeDocument/2006/relationships/audio" Target="../media/pluck.wav"/><Relationship Id="rId16" Type="http://schemas.openxmlformats.org/officeDocument/2006/relationships/audio" Target="../media/pluck.wav"/><Relationship Id="rId17" Type="http://schemas.openxmlformats.org/officeDocument/2006/relationships/audio" Target="../media/pluck.wav"/><Relationship Id="rId18" Type="http://schemas.openxmlformats.org/officeDocument/2006/relationships/audio" Target="../media/pluck.wav"/><Relationship Id="rId19" Type="http://schemas.openxmlformats.org/officeDocument/2006/relationships/audio" Target="../media/pluck.wav"/><Relationship Id="rId20" Type="http://schemas.openxmlformats.org/officeDocument/2006/relationships/audio" Target="../media/pluck.wav"/><Relationship Id="rId21" Type="http://schemas.openxmlformats.org/officeDocument/2006/relationships/audio" Target="../media/pluck.wav"/><Relationship Id="rId22" Type="http://schemas.openxmlformats.org/officeDocument/2006/relationships/audio" Target="../media/pluck.wav"/><Relationship Id="rId23" Type="http://schemas.openxmlformats.org/officeDocument/2006/relationships/audio" Target="../media/pluck.wav"/><Relationship Id="rId24" Type="http://schemas.openxmlformats.org/officeDocument/2006/relationships/audio" Target="../media/pluck.wav"/><Relationship Id="rId25" Type="http://schemas.openxmlformats.org/officeDocument/2006/relationships/audio" Target="../media/chimes.wav"/><Relationship Id="rId26" Type="http://schemas.openxmlformats.org/officeDocument/2006/relationships/audio" Target="../media/pluck.wav"/><Relationship Id="rId27" Type="http://schemas.openxmlformats.org/officeDocument/2006/relationships/audio" Target="../media/pluck.wav"/><Relationship Id="rId28" Type="http://schemas.openxmlformats.org/officeDocument/2006/relationships/audio" Target="../media/pluck.wav"/><Relationship Id="rId29" Type="http://schemas.openxmlformats.org/officeDocument/2006/relationships/audio" Target="../media/pluck.wav"/><Relationship Id="rId30" Type="http://schemas.openxmlformats.org/officeDocument/2006/relationships/audio" Target="../media/pluck.wav"/><Relationship Id="rId31" Type="http://schemas.openxmlformats.org/officeDocument/2006/relationships/audio" Target="../media/pluck.wav"/><Relationship Id="rId32" Type="http://schemas.openxmlformats.org/officeDocument/2006/relationships/audio" Target="../media/pluck.wav"/><Relationship Id="rId33" Type="http://schemas.openxmlformats.org/officeDocument/2006/relationships/audio" Target="../media/pluck.wav"/><Relationship Id="rId34" Type="http://schemas.openxmlformats.org/officeDocument/2006/relationships/audio" Target="../media/pluck.wav"/><Relationship Id="rId35" Type="http://schemas.openxmlformats.org/officeDocument/2006/relationships/audio" Target="../media/pluck.wav"/><Relationship Id="rId36" Type="http://schemas.openxmlformats.org/officeDocument/2006/relationships/audio" Target="../media/pluck.wav"/><Relationship Id="rId37" Type="http://schemas.openxmlformats.org/officeDocument/2006/relationships/audio" Target="../media/pluck.wav"/><Relationship Id="rId38" Type="http://schemas.openxmlformats.org/officeDocument/2006/relationships/audio" Target="../media/pluck.wav"/><Relationship Id="rId39" Type="http://schemas.openxmlformats.org/officeDocument/2006/relationships/audio" Target="../media/chimes.wav"/><Relationship Id="rId40" Type="http://schemas.openxmlformats.org/officeDocument/2006/relationships/audio" Target="../media/pluck.wav"/><Relationship Id="rId41" Type="http://schemas.openxmlformats.org/officeDocument/2006/relationships/audio" Target="../media/pluck.wav"/><Relationship Id="rId42" Type="http://schemas.openxmlformats.org/officeDocument/2006/relationships/audio" Target="../media/pluck.wav"/><Relationship Id="rId43" Type="http://schemas.openxmlformats.org/officeDocument/2006/relationships/audio" Target="../media/pluck.wav"/><Relationship Id="rId44" Type="http://schemas.openxmlformats.org/officeDocument/2006/relationships/audio" Target="../media/chimes.wav"/><Relationship Id="rId45" Type="http://schemas.openxmlformats.org/officeDocument/2006/relationships/audio" Target="../media/pluck.wav"/><Relationship Id="rId46" Type="http://schemas.openxmlformats.org/officeDocument/2006/relationships/audio" Target="../media/pluck.wav"/><Relationship Id="rId47" Type="http://schemas.openxmlformats.org/officeDocument/2006/relationships/audio" Target="../media/pluck.wav"/><Relationship Id="rId48" Type="http://schemas.openxmlformats.org/officeDocument/2006/relationships/audio" Target="../media/pluck.wav"/><Relationship Id="rId49" Type="http://schemas.openxmlformats.org/officeDocument/2006/relationships/audio" Target="../media/pluck.wav"/><Relationship Id="rId50" Type="http://schemas.openxmlformats.org/officeDocument/2006/relationships/audio" Target="../media/pluck.wav"/><Relationship Id="rId51" Type="http://schemas.openxmlformats.org/officeDocument/2006/relationships/audio" Target="../media/pluck.wav"/><Relationship Id="rId52" Type="http://schemas.openxmlformats.org/officeDocument/2006/relationships/audio" Target="../media/pluck.wav"/><Relationship Id="rId53" Type="http://schemas.openxmlformats.org/officeDocument/2006/relationships/audio" Target="../media/pluck.wav"/><Relationship Id="rId54" Type="http://schemas.openxmlformats.org/officeDocument/2006/relationships/audio" Target="../media/pluck.wav"/><Relationship Id="rId55" Type="http://schemas.openxmlformats.org/officeDocument/2006/relationships/audio" Target="../media/chimes.wav"/><Relationship Id="rId5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53.radikal.ru/0806/e4/708fb8d049edt.j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4"/>
          <p:cNvSpPr/>
          <p:nvPr/>
        </p:nvSpPr>
        <p:spPr>
          <a:xfrm flipV="1">
            <a:off x="0" y="0"/>
            <a:ext cx="8001000" cy="6858000"/>
          </a:xfrm>
          <a:prstGeom prst="rtTriangle">
            <a:avLst/>
          </a:prstGeom>
          <a:blipFill rotWithShape="0">
            <a:blip r:embed="rId2">
              <a:alphaModFix amt="94000"/>
            </a:blip>
            <a:srcRect/>
            <a:tile tx="0" ty="0" sx="100000" sy="100000" algn="ctr"/>
          </a:blip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 rot="20983800">
            <a:off x="318240" y="60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"/>
          <p:cNvSpPr/>
          <p:nvPr/>
        </p:nvSpPr>
        <p:spPr>
          <a:xfrm rot="21443400">
            <a:off x="938880" y="4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2"/>
          <p:cNvSpPr/>
          <p:nvPr/>
        </p:nvSpPr>
        <p:spPr>
          <a:xfrm rot="20736000">
            <a:off x="1400760" y="46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 rot="20803200">
            <a:off x="2039400" y="682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 rot="21083400">
            <a:off x="3170520" y="52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 rot="21292200">
            <a:off x="2587320" y="50796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3578400" y="2080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20314200">
            <a:off x="6097680" y="91440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20288400">
            <a:off x="3735720" y="320004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 rot="19908600">
            <a:off x="5564880" y="1599840"/>
            <a:ext cx="1294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7086600" y="228600"/>
            <a:ext cx="14367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0983800">
            <a:off x="455400" y="461124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 rot="21443400">
            <a:off x="1372320" y="419112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 rot="19812000">
            <a:off x="4573800" y="2133720"/>
            <a:ext cx="1447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10960" y="457200"/>
            <a:ext cx="8077320" cy="5565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 rot="20736000">
            <a:off x="2511360" y="3733560"/>
            <a:ext cx="1447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066680"/>
            <a:ext cx="5334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лгожданный дан зв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чинается у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лагаю подруж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всем вместе потрудитьс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5334120"/>
            <a:ext cx="4952880" cy="1523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57880" y="5638680"/>
            <a:ext cx="4686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вятнадцатое января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ная работа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2308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72360" y="5680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380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56768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72000" y="5680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4707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5640" y="4707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707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00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1200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6272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7236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2308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200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26360" y="2008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7564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2636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0360" y="2008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728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75280" y="2008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4364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1164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5680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20920" y="5680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20920" y="5680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020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3856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020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2092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5128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928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164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2236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2092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7164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5680080"/>
            <a:ext cx="45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2000" y="1989000"/>
            <a:ext cx="36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2039760"/>
            <a:ext cx="45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1640" y="1989000"/>
            <a:ext cx="45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1640" y="2116080"/>
            <a:ext cx="449280" cy="32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114640"/>
            <a:ext cx="451080" cy="323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2000" y="2116080"/>
            <a:ext cx="360360" cy="32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2236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71640" y="29782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2236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71640" y="297828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0920" y="29782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164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387972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200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3879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20920" y="47800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0200" y="47800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20920" y="47800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70200" y="47800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2092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2092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7020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092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20920" y="576900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5280" y="2097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26000" y="2097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75280" y="209700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26360" y="2097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5640" y="2097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26360" y="2097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75640" y="2097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26360" y="209700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72000" y="297828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2308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72360" y="29782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2308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72360" y="29782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23080" y="29782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60920" y="387972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61280" y="387972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200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61280" y="3879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780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5640" y="4780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0872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2000" y="576900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2308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2308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7236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22720" y="2978280"/>
            <a:ext cx="45072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62360" y="16286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2092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23080" y="243828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20920" y="5769000"/>
            <a:ext cx="45108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61280" y="3879720"/>
            <a:ext cx="450720" cy="358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23080" y="2978280"/>
            <a:ext cx="44928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62720" y="333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2360" y="2114640"/>
            <a:ext cx="387360" cy="32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62360" y="2077920"/>
            <a:ext cx="44928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20920" y="2438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23080" y="576900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23080" y="5769000"/>
            <a:ext cx="451080" cy="358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2308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6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йдите ошибки в написании парной согласной. Запиши эти слова, подобрав провероч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733920" y="1371600"/>
            <a:ext cx="13334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250" autoRev="1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1" dur="25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читайте цепочки слов. В каждой найдите лишнее. Ответ обоснуйте. Вставьте пропущенные букв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ло...ка,  игру...ка,  кату...ка,  клю...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доро...ка,  кры...ка,  варе...ка,  но...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лоша...ка,  лю...ской,  лопа...ка;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мину...ка, гря...ка,  конфе...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слово является лишним во всем упражнен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резовая рабо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Прочитай слова. Подчеркни звонкие соглас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за, бабочка, стул, красивый, сиренев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читай слова. Подчеркни глухие соглас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орвать, папа, барабан, рисунок, чемод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Дополни спис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арные звонкие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л, н, 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арные глухие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, ч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черкни слова, не имеющих в своём составе глухих согласны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Мама, 2) лошадь   3) сон, 4) вера, 5) рябина, 6) мыш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писке согласных подчеркни одной чертой непарные звонкие, а двумя чертами — непарные глух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, ш, н, д, ф, щ, л, р, й, х, м, ц, ч, 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Вставь пропущенные согласные, напиши проверочные сл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анды..(ш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ж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ро.. (с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а..(г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и..(к, г)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ар..(ф, в)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а..(ж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щ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. 20, упр. №279 (2 группа словар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224316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Картинка 270 из 17727">
            <a:hlinkClick r:id="rId2"/>
          </p:cNvPr>
          <p:cNvPicPr/>
          <p:nvPr/>
        </p:nvPicPr>
        <p:blipFill>
          <a:blip r:embed="rId3"/>
          <a:srcRect l="0" t="12913" r="0" b="0"/>
          <a:stretch/>
        </p:blipFill>
        <p:spPr>
          <a:xfrm>
            <a:off x="533520" y="615960"/>
            <a:ext cx="8076960" cy="648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5280" y="1219320"/>
            <a:ext cx="670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Минутка чистописани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120" y="2057400"/>
            <a:ext cx="5791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Слон, лев, шакал и бегем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С утра отправились в пох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26668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352680"/>
            <a:ext cx="304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3526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42900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йте полную характеристику данным букв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23078" r="0" b="0"/>
          <a:stretch/>
        </p:blipFill>
        <p:spPr>
          <a:xfrm>
            <a:off x="0" y="1371600"/>
            <a:ext cx="4448160" cy="5257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19720" y="1600200"/>
            <a:ext cx="4471920" cy="384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rcRect l="42080" t="0" r="9352" b="76253"/>
          <a:stretch/>
        </p:blipFill>
        <p:spPr>
          <a:xfrm>
            <a:off x="0" y="228600"/>
            <a:ext cx="2160720" cy="1628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43400" y="55627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еще парные согла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81960" cy="684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38080" y="99072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авописание слов с парными соглас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alibri"/>
              </a:rPr>
              <a:t>Определите тему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общить знания о  различных способ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роверки парных звонких и глухих соглас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4191120"/>
            <a:ext cx="1676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:</a:t>
            </a:r>
            <a:endParaRPr b="0" i="1" lang="en-US" sz="18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6156360" y="0"/>
            <a:ext cx="2808360" cy="6713640"/>
            <a:chOff x="6156360" y="0"/>
            <a:chExt cx="2808360" cy="67136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6156360" y="0"/>
              <a:ext cx="2808360" cy="522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6156360" y="5084640"/>
              <a:ext cx="2808360" cy="16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948360" y="5805360"/>
              <a:ext cx="28764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85080" y="5805360"/>
              <a:ext cx="28728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слышишь парный зву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дь внимательным, мой д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вук согласный проверя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ядом гласный подставля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проверить парный согласн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219320" y="304920"/>
            <a:ext cx="69339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7d200"/>
                    </a:gs>
                    <a:gs pos="100000">
                      <a:srgbClr val="e60000"/>
                    </a:gs>
                  </a:gsLst>
                  <a:lin ang="5400000"/>
                </a:gradFill>
                <a:latin typeface="Times New Roman"/>
              </a:rPr>
              <a:t>Спишите, исправьте ошиб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7d200"/>
                  </a:gs>
                  <a:gs pos="100000">
                    <a:srgbClr val="e6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773360"/>
            <a:ext cx="6697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нясь у синя моря х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 синя моря глас не св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ять -  поверх текучих в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беть белая плы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59280" y="1844640"/>
            <a:ext cx="288720" cy="504720"/>
          </a:xfrm>
          <a:prstGeom prst="line">
            <a:avLst/>
          </a:prstGeom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131640" y="3357720"/>
            <a:ext cx="289080" cy="504720"/>
          </a:xfrm>
          <a:prstGeom prst="line">
            <a:avLst/>
          </a:prstGeom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8101080" y="3357720"/>
            <a:ext cx="288720" cy="504720"/>
          </a:xfrm>
          <a:prstGeom prst="line">
            <a:avLst/>
          </a:prstGeom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79640" y="2637000"/>
            <a:ext cx="289080" cy="504720"/>
          </a:xfrm>
          <a:prstGeom prst="line">
            <a:avLst/>
          </a:prstGeom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47640" y="4076640"/>
            <a:ext cx="289080" cy="504720"/>
          </a:xfrm>
          <a:prstGeom prst="line">
            <a:avLst/>
          </a:prstGeom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907920"/>
            <a:ext cx="7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b0d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1800" y="2205000"/>
            <a:ext cx="4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b0d"/>
                </a:solidFill>
                <a:latin typeface="Arial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85080" y="29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b0d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0160" y="364500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b0d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1080" y="292428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b0d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3048120" cy="209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6"/>
          <p:cNvSpPr txBox="1"/>
          <p:nvPr/>
        </p:nvSpPr>
        <p:spPr>
          <a:xfrm>
            <a:off x="457200" y="609480"/>
            <a:ext cx="81360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кие способы проверки применял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77840" y="3733920"/>
            <a:ext cx="896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Подобрали однокоренное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в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177840" y="2133720"/>
            <a:ext cx="896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яли форму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ня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ь- кня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ю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 глухим шипящим круг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 мячик, со звонким – как ого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оряч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шар – жа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Когда я с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меня сорвут, когда я с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на мне плыв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плод – пло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С глухим – заразная болезнь, со звонким ты ко мне в корзинку лез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грипп - гри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97760" y="990720"/>
            <a:ext cx="20462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600200" y="304920"/>
            <a:ext cx="533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гадки-шутки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ем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. 22, упр. №28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224316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6T14:57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