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9.png" ContentType="image/png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6EE678-9118-49FB-B629-0DAB69773D1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5E1449-3B10-4E74-B80E-64F20173117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1D4420-5C70-4EA3-9616-DB0BC1D8646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28D4-B77F-44F5-A9DD-6DC325E0C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640A-55EF-4F96-BC38-450029EF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3341-BA59-4872-BDE1-7CFB16ADB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78BF-9272-4F15-B340-D736B626D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C1C4-B4F8-475C-864B-8E61DB73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7EDF-04FC-4903-8603-8B9B8DC0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2DB6-3406-4791-8BF9-CFF06C03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BBDD-BB01-4EBE-9A6C-6EBE1602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E6CE-CB5F-4B0C-BAD7-D8B442C5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3B30-A89C-42ED-9557-6D9D5EA0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0612-55B4-40A3-96F6-F9D0E415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A285-1E90-4FA8-A355-91870AD5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59AC7-BD05-4676-AE4C-572C4AB17E0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image" Target="../media/image8.gi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440" y="3240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0.03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ная рабо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3"/>
          <p:cNvSpPr/>
          <p:nvPr/>
        </p:nvSpPr>
        <p:spPr>
          <a:xfrm>
            <a:off x="2600280" y="309600"/>
            <a:ext cx="44557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верочная рабо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Box 4"/>
          <p:cNvSpPr/>
          <p:nvPr/>
        </p:nvSpPr>
        <p:spPr>
          <a:xfrm>
            <a:off x="351000" y="900000"/>
            <a:ext cx="93693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унктов  А и В  одновременно в одно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и  выехали две легковые машины. Скорость одной равна 82 км/ч, а скорость второй 110 км/ч, которая ехала вдогонку первой машины. Встреча произошла через 4 часа после выезда. На каком расстоянии друг от друга находятся пункты А и В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Box 3"/>
          <p:cNvSpPr/>
          <p:nvPr/>
        </p:nvSpPr>
        <p:spPr>
          <a:xfrm>
            <a:off x="770040" y="378000"/>
            <a:ext cx="323316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ТОГ УРО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184"/>
          <p:cNvSpPr/>
          <p:nvPr/>
        </p:nvSpPr>
        <p:spPr>
          <a:xfrm>
            <a:off x="3029040" y="4140360"/>
            <a:ext cx="4689360" cy="14040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 = S – (V</a:t>
            </a:r>
            <a:r>
              <a:rPr b="1" lang="ru-RU" sz="40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б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– V</a:t>
            </a:r>
            <a:r>
              <a:rPr b="1" lang="ru-RU" sz="40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м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 ∙ 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Box 3"/>
          <p:cNvSpPr/>
          <p:nvPr/>
        </p:nvSpPr>
        <p:spPr>
          <a:xfrm>
            <a:off x="761040" y="1079640"/>
            <a:ext cx="84348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Какой тип задач разобрали на урок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Box 3"/>
          <p:cNvSpPr/>
          <p:nvPr/>
        </p:nvSpPr>
        <p:spPr>
          <a:xfrm>
            <a:off x="786240" y="2195640"/>
            <a:ext cx="8920800" cy="16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По какой формуле можно установить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висимость между двумя объектами пр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вижении вдогонку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6"/>
          <p:cNvGrpSpPr/>
          <p:nvPr/>
        </p:nvGrpSpPr>
        <p:grpSpPr>
          <a:xfrm>
            <a:off x="4325760" y="1001880"/>
            <a:ext cx="5397840" cy="790920"/>
            <a:chOff x="4325760" y="1001880"/>
            <a:chExt cx="5397840" cy="790920"/>
          </a:xfrm>
        </p:grpSpPr>
        <p:grpSp>
          <p:nvGrpSpPr>
            <p:cNvPr id="51" name="Group 13"/>
            <p:cNvGrpSpPr/>
            <p:nvPr/>
          </p:nvGrpSpPr>
          <p:grpSpPr>
            <a:xfrm>
              <a:off x="4325760" y="1001880"/>
              <a:ext cx="5397840" cy="790920"/>
              <a:chOff x="4325760" y="1001880"/>
              <a:chExt cx="5397840" cy="790920"/>
            </a:xfrm>
          </p:grpSpPr>
          <p:grpSp>
            <p:nvGrpSpPr>
              <p:cNvPr id="52" name="Group 11"/>
              <p:cNvGrpSpPr/>
              <p:nvPr/>
            </p:nvGrpSpPr>
            <p:grpSpPr>
              <a:xfrm>
                <a:off x="4484880" y="1476720"/>
                <a:ext cx="5001120" cy="316080"/>
                <a:chOff x="4484880" y="1476720"/>
                <a:chExt cx="5001120" cy="316080"/>
              </a:xfrm>
            </p:grpSpPr>
            <p:sp>
              <p:nvSpPr>
                <p:cNvPr id="53" name="Line 5"/>
                <p:cNvSpPr/>
                <p:nvPr/>
              </p:nvSpPr>
              <p:spPr>
                <a:xfrm flipV="1">
                  <a:off x="4484880" y="1476720"/>
                  <a:ext cx="0" cy="316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" name="Line 6"/>
                <p:cNvSpPr/>
                <p:nvPr/>
              </p:nvSpPr>
              <p:spPr>
                <a:xfrm flipV="1">
                  <a:off x="9486000" y="1476720"/>
                  <a:ext cx="0" cy="316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Group 12"/>
              <p:cNvGrpSpPr/>
              <p:nvPr/>
            </p:nvGrpSpPr>
            <p:grpSpPr>
              <a:xfrm>
                <a:off x="4325760" y="1001880"/>
                <a:ext cx="5397840" cy="790200"/>
                <a:chOff x="4325760" y="1001880"/>
                <a:chExt cx="5397840" cy="790200"/>
              </a:xfrm>
            </p:grpSpPr>
            <p:grpSp>
              <p:nvGrpSpPr>
                <p:cNvPr id="56" name="Group 10"/>
                <p:cNvGrpSpPr/>
                <p:nvPr/>
              </p:nvGrpSpPr>
              <p:grpSpPr>
                <a:xfrm>
                  <a:off x="4325760" y="1476360"/>
                  <a:ext cx="5397840" cy="315720"/>
                  <a:chOff x="4325760" y="1476360"/>
                  <a:chExt cx="5397840" cy="315720"/>
                </a:xfrm>
              </p:grpSpPr>
              <p:sp>
                <p:nvSpPr>
                  <p:cNvPr id="57" name="Line 4"/>
                  <p:cNvSpPr/>
                  <p:nvPr/>
                </p:nvSpPr>
                <p:spPr>
                  <a:xfrm>
                    <a:off x="4325760" y="1792080"/>
                    <a:ext cx="53978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Line 7"/>
                  <p:cNvSpPr/>
                  <p:nvPr/>
                </p:nvSpPr>
                <p:spPr>
                  <a:xfrm>
                    <a:off x="4484520" y="1476360"/>
                    <a:ext cx="7941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Line 8"/>
                  <p:cNvSpPr/>
                  <p:nvPr/>
                </p:nvSpPr>
                <p:spPr>
                  <a:xfrm flipH="1">
                    <a:off x="8691120" y="1476360"/>
                    <a:ext cx="7927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0" name="Picture 9" descr="AG00344_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025760" y="1001880"/>
                  <a:ext cx="554760" cy="778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1" name="Text Box 14"/>
            <p:cNvSpPr/>
            <p:nvPr/>
          </p:nvSpPr>
          <p:spPr>
            <a:xfrm>
              <a:off x="4483080" y="1080720"/>
              <a:ext cx="56520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26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Text Box 15"/>
            <p:cNvSpPr/>
            <p:nvPr/>
          </p:nvSpPr>
          <p:spPr>
            <a:xfrm>
              <a:off x="8849880" y="1080720"/>
              <a:ext cx="56520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26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Text Box 17"/>
          <p:cNvSpPr/>
          <p:nvPr/>
        </p:nvSpPr>
        <p:spPr>
          <a:xfrm>
            <a:off x="5130000" y="343080"/>
            <a:ext cx="400176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Встречное движ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" name="Group 27"/>
          <p:cNvGrpSpPr/>
          <p:nvPr/>
        </p:nvGrpSpPr>
        <p:grpSpPr>
          <a:xfrm>
            <a:off x="287280" y="3084480"/>
            <a:ext cx="5317560" cy="794520"/>
            <a:chOff x="287280" y="3084480"/>
            <a:chExt cx="5317560" cy="794520"/>
          </a:xfrm>
        </p:grpSpPr>
        <p:grpSp>
          <p:nvGrpSpPr>
            <p:cNvPr id="65" name="Group 24"/>
            <p:cNvGrpSpPr/>
            <p:nvPr/>
          </p:nvGrpSpPr>
          <p:grpSpPr>
            <a:xfrm>
              <a:off x="287280" y="3481920"/>
              <a:ext cx="5317560" cy="397080"/>
              <a:chOff x="287280" y="3481920"/>
              <a:chExt cx="5317560" cy="397080"/>
            </a:xfrm>
          </p:grpSpPr>
          <p:sp>
            <p:nvSpPr>
              <p:cNvPr id="66" name="Line 19"/>
              <p:cNvSpPr/>
              <p:nvPr/>
            </p:nvSpPr>
            <p:spPr>
              <a:xfrm>
                <a:off x="287280" y="3879000"/>
                <a:ext cx="5317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Line 20"/>
              <p:cNvSpPr/>
              <p:nvPr/>
            </p:nvSpPr>
            <p:spPr>
              <a:xfrm>
                <a:off x="2271600" y="3481920"/>
                <a:ext cx="0" cy="397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Line 21"/>
              <p:cNvSpPr/>
              <p:nvPr/>
            </p:nvSpPr>
            <p:spPr>
              <a:xfrm>
                <a:off x="3699360" y="3481920"/>
                <a:ext cx="0" cy="397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Line 22"/>
              <p:cNvSpPr/>
              <p:nvPr/>
            </p:nvSpPr>
            <p:spPr>
              <a:xfrm flipH="1">
                <a:off x="1557360" y="3481920"/>
                <a:ext cx="713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Line 23"/>
              <p:cNvSpPr/>
              <p:nvPr/>
            </p:nvSpPr>
            <p:spPr>
              <a:xfrm>
                <a:off x="3699360" y="3481920"/>
                <a:ext cx="794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" name="Text Box 25"/>
            <p:cNvSpPr/>
            <p:nvPr/>
          </p:nvSpPr>
          <p:spPr>
            <a:xfrm>
              <a:off x="1634760" y="3084480"/>
              <a:ext cx="56520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26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Text Box 26"/>
            <p:cNvSpPr/>
            <p:nvPr/>
          </p:nvSpPr>
          <p:spPr>
            <a:xfrm>
              <a:off x="3776400" y="3084480"/>
              <a:ext cx="56520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26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Text Box 28"/>
          <p:cNvSpPr/>
          <p:nvPr/>
        </p:nvSpPr>
        <p:spPr>
          <a:xfrm>
            <a:off x="73440" y="2050920"/>
            <a:ext cx="603612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Движение в противоположны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направления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" name="Группа 5"/>
          <p:cNvGrpSpPr/>
          <p:nvPr/>
        </p:nvGrpSpPr>
        <p:grpSpPr>
          <a:xfrm>
            <a:off x="4549680" y="4427640"/>
            <a:ext cx="5317560" cy="1043640"/>
            <a:chOff x="4549680" y="4427640"/>
            <a:chExt cx="5317560" cy="1043640"/>
          </a:xfrm>
        </p:grpSpPr>
        <p:grpSp>
          <p:nvGrpSpPr>
            <p:cNvPr id="75" name="Group 37"/>
            <p:cNvGrpSpPr/>
            <p:nvPr/>
          </p:nvGrpSpPr>
          <p:grpSpPr>
            <a:xfrm>
              <a:off x="4549680" y="4680360"/>
              <a:ext cx="5317560" cy="790920"/>
              <a:chOff x="4549680" y="4680360"/>
              <a:chExt cx="5317560" cy="790920"/>
            </a:xfrm>
          </p:grpSpPr>
          <p:grpSp>
            <p:nvGrpSpPr>
              <p:cNvPr id="76" name="Group 36"/>
              <p:cNvGrpSpPr/>
              <p:nvPr/>
            </p:nvGrpSpPr>
            <p:grpSpPr>
              <a:xfrm>
                <a:off x="4549680" y="4966560"/>
                <a:ext cx="5317560" cy="504720"/>
                <a:chOff x="4549680" y="4966560"/>
                <a:chExt cx="5317560" cy="504720"/>
              </a:xfrm>
            </p:grpSpPr>
            <p:sp>
              <p:nvSpPr>
                <p:cNvPr id="77" name="Line 30"/>
                <p:cNvSpPr/>
                <p:nvPr/>
              </p:nvSpPr>
              <p:spPr>
                <a:xfrm>
                  <a:off x="4549680" y="5471280"/>
                  <a:ext cx="5317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Line 31"/>
                <p:cNvSpPr/>
                <p:nvPr/>
              </p:nvSpPr>
              <p:spPr>
                <a:xfrm>
                  <a:off x="6056280" y="4996080"/>
                  <a:ext cx="0" cy="475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Line 32"/>
                <p:cNvSpPr/>
                <p:nvPr/>
              </p:nvSpPr>
              <p:spPr>
                <a:xfrm>
                  <a:off x="7576920" y="4966560"/>
                  <a:ext cx="0" cy="475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" name="Line 33"/>
                <p:cNvSpPr/>
                <p:nvPr/>
              </p:nvSpPr>
              <p:spPr>
                <a:xfrm>
                  <a:off x="6056280" y="4996080"/>
                  <a:ext cx="983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" name="Line 34"/>
                <p:cNvSpPr/>
                <p:nvPr/>
              </p:nvSpPr>
              <p:spPr>
                <a:xfrm>
                  <a:off x="7561080" y="4996080"/>
                  <a:ext cx="521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82" name="Picture 35" descr="AG00344_"/>
              <p:cNvPicPr/>
              <p:nvPr/>
            </p:nvPicPr>
            <p:blipFill>
              <a:blip r:embed="rId3"/>
              <a:stretch/>
            </p:blipFill>
            <p:spPr>
              <a:xfrm>
                <a:off x="8676000" y="4680360"/>
                <a:ext cx="556200" cy="761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3" name="Text Box 38"/>
            <p:cNvSpPr/>
            <p:nvPr/>
          </p:nvSpPr>
          <p:spPr>
            <a:xfrm>
              <a:off x="5976000" y="4427640"/>
              <a:ext cx="56520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26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Text Box 39"/>
            <p:cNvSpPr/>
            <p:nvPr/>
          </p:nvSpPr>
          <p:spPr>
            <a:xfrm>
              <a:off x="7200000" y="4427640"/>
              <a:ext cx="56520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26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Text Box 41"/>
          <p:cNvSpPr/>
          <p:nvPr/>
        </p:nvSpPr>
        <p:spPr>
          <a:xfrm>
            <a:off x="5832720" y="3859200"/>
            <a:ext cx="385848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Движение вдогон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Group 51"/>
          <p:cNvGrpSpPr/>
          <p:nvPr/>
        </p:nvGrpSpPr>
        <p:grpSpPr>
          <a:xfrm>
            <a:off x="436680" y="6161040"/>
            <a:ext cx="5236200" cy="794520"/>
            <a:chOff x="436680" y="6161040"/>
            <a:chExt cx="5236200" cy="794520"/>
          </a:xfrm>
        </p:grpSpPr>
        <p:grpSp>
          <p:nvGrpSpPr>
            <p:cNvPr id="87" name="Group 48"/>
            <p:cNvGrpSpPr/>
            <p:nvPr/>
          </p:nvGrpSpPr>
          <p:grpSpPr>
            <a:xfrm>
              <a:off x="436680" y="6558120"/>
              <a:ext cx="5236200" cy="397440"/>
              <a:chOff x="436680" y="6558120"/>
              <a:chExt cx="5236200" cy="397440"/>
            </a:xfrm>
          </p:grpSpPr>
          <p:sp>
            <p:nvSpPr>
              <p:cNvPr id="88" name="Line 43"/>
              <p:cNvSpPr/>
              <p:nvPr/>
            </p:nvSpPr>
            <p:spPr>
              <a:xfrm>
                <a:off x="436680" y="6955560"/>
                <a:ext cx="5236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Line 44"/>
              <p:cNvSpPr/>
              <p:nvPr/>
            </p:nvSpPr>
            <p:spPr>
              <a:xfrm flipV="1">
                <a:off x="1627920" y="6558120"/>
                <a:ext cx="0" cy="397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Line 45"/>
              <p:cNvSpPr/>
              <p:nvPr/>
            </p:nvSpPr>
            <p:spPr>
              <a:xfrm flipV="1">
                <a:off x="3215160" y="6558120"/>
                <a:ext cx="0" cy="397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Line 46"/>
              <p:cNvSpPr/>
              <p:nvPr/>
            </p:nvSpPr>
            <p:spPr>
              <a:xfrm>
                <a:off x="1627920" y="6558480"/>
                <a:ext cx="792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Line 47"/>
              <p:cNvSpPr/>
              <p:nvPr/>
            </p:nvSpPr>
            <p:spPr>
              <a:xfrm>
                <a:off x="3215160" y="6558480"/>
                <a:ext cx="1320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" name="Text Box 49"/>
            <p:cNvSpPr/>
            <p:nvPr/>
          </p:nvSpPr>
          <p:spPr>
            <a:xfrm>
              <a:off x="3291840" y="6161040"/>
              <a:ext cx="56520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26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Text Box 50"/>
            <p:cNvSpPr/>
            <p:nvPr/>
          </p:nvSpPr>
          <p:spPr>
            <a:xfrm>
              <a:off x="1704960" y="6161040"/>
              <a:ext cx="56520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26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" name="Text Box 52"/>
          <p:cNvSpPr/>
          <p:nvPr/>
        </p:nvSpPr>
        <p:spPr>
          <a:xfrm>
            <a:off x="614160" y="5684760"/>
            <a:ext cx="47912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Движение с отставани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7"/>
          <p:cNvSpPr/>
          <p:nvPr/>
        </p:nvSpPr>
        <p:spPr>
          <a:xfrm>
            <a:off x="528840" y="1023840"/>
            <a:ext cx="317016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бл.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=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1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+ V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6174000" y="2862360"/>
            <a:ext cx="318564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удл.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=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1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+ V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1302120" y="4597560"/>
            <a:ext cx="306180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бл.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=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1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-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V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7"/>
          <p:cNvSpPr/>
          <p:nvPr/>
        </p:nvSpPr>
        <p:spPr>
          <a:xfrm>
            <a:off x="5851080" y="6122880"/>
            <a:ext cx="306180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бл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. =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1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-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V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420840" y="58680"/>
            <a:ext cx="871200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Определите  вид  движ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4360" y="301680"/>
            <a:ext cx="8712360" cy="87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Придумайте  задачу по рисунку и решите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20m4"/>
          <p:cNvPicPr/>
          <p:nvPr/>
        </p:nvPicPr>
        <p:blipFill>
          <a:blip r:embed="rId2"/>
          <a:stretch/>
        </p:blipFill>
        <p:spPr>
          <a:xfrm>
            <a:off x="7704000" y="3348000"/>
            <a:ext cx="854280" cy="1417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20m4"/>
          <p:cNvPicPr/>
          <p:nvPr/>
        </p:nvPicPr>
        <p:blipFill>
          <a:blip r:embed="rId3"/>
          <a:stretch/>
        </p:blipFill>
        <p:spPr>
          <a:xfrm flipH="1">
            <a:off x="1547280" y="2978280"/>
            <a:ext cx="1000440" cy="1757160"/>
          </a:xfrm>
          <a:prstGeom prst="rect">
            <a:avLst/>
          </a:prstGeom>
          <a:ln w="0">
            <a:noFill/>
          </a:ln>
        </p:spPr>
      </p:pic>
      <p:sp>
        <p:nvSpPr>
          <p:cNvPr id="104" name="Freeform 7"/>
          <p:cNvSpPr/>
          <p:nvPr/>
        </p:nvSpPr>
        <p:spPr>
          <a:xfrm>
            <a:off x="1387440" y="4336920"/>
            <a:ext cx="8016840" cy="1086120"/>
          </a:xfrm>
          <a:custGeom>
            <a:avLst/>
            <a:gdLst/>
            <a:ahLst/>
            <a:rect l="l" t="t" r="r" b="b"/>
            <a:pathLst>
              <a:path w="4036" h="408">
                <a:moveTo>
                  <a:pt x="0" y="325"/>
                </a:moveTo>
                <a:cubicBezTo>
                  <a:pt x="302" y="162"/>
                  <a:pt x="604" y="0"/>
                  <a:pt x="861" y="7"/>
                </a:cubicBezTo>
                <a:cubicBezTo>
                  <a:pt x="1118" y="14"/>
                  <a:pt x="1315" y="332"/>
                  <a:pt x="1542" y="370"/>
                </a:cubicBezTo>
                <a:cubicBezTo>
                  <a:pt x="1769" y="408"/>
                  <a:pt x="2041" y="272"/>
                  <a:pt x="2222" y="234"/>
                </a:cubicBezTo>
                <a:cubicBezTo>
                  <a:pt x="2403" y="196"/>
                  <a:pt x="2486" y="151"/>
                  <a:pt x="2630" y="144"/>
                </a:cubicBezTo>
                <a:cubicBezTo>
                  <a:pt x="2774" y="137"/>
                  <a:pt x="2872" y="151"/>
                  <a:pt x="3084" y="189"/>
                </a:cubicBezTo>
                <a:cubicBezTo>
                  <a:pt x="3296" y="227"/>
                  <a:pt x="3764" y="377"/>
                  <a:pt x="3900" y="370"/>
                </a:cubicBezTo>
                <a:cubicBezTo>
                  <a:pt x="4036" y="363"/>
                  <a:pt x="3900" y="182"/>
                  <a:pt x="3900" y="144"/>
                </a:cubicBezTo>
              </a:path>
            </a:pathLst>
          </a:custGeom>
          <a:noFill/>
          <a:ln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8"/>
          <p:cNvSpPr/>
          <p:nvPr/>
        </p:nvSpPr>
        <p:spPr>
          <a:xfrm>
            <a:off x="992160" y="2906640"/>
            <a:ext cx="166680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 flipH="1">
            <a:off x="7659360" y="2906640"/>
            <a:ext cx="1190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1008000" y="2411280"/>
            <a:ext cx="14288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км/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7551720" y="2271600"/>
            <a:ext cx="17366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км/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4896000" y="4859280"/>
            <a:ext cx="0" cy="50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 flipV="1">
            <a:off x="754200" y="5455080"/>
            <a:ext cx="873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 rot="10800000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16"/>
          <p:cNvSpPr/>
          <p:nvPr/>
        </p:nvSpPr>
        <p:spPr>
          <a:xfrm>
            <a:off x="1468440" y="5364000"/>
            <a:ext cx="7302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4032360" y="5580000"/>
            <a:ext cx="17478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к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4368960" y="2082960"/>
            <a:ext cx="97452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36080" y="900000"/>
            <a:ext cx="9649080" cy="1905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2000"/>
          </a:bodyPr>
          <a:p>
            <a:pPr marL="31536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орла вылетели одновременно из гнезда и полетели в противоположных направлениях. Один летел со скоростью 20 км/ч, а другой со скоростью 25 км/ч. На каком расстоянии они буду через 4 часа?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27m4"/>
          <p:cNvPicPr/>
          <p:nvPr/>
        </p:nvPicPr>
        <p:blipFill>
          <a:blip r:embed="rId2"/>
          <a:stretch/>
        </p:blipFill>
        <p:spPr>
          <a:xfrm>
            <a:off x="3214800" y="4414680"/>
            <a:ext cx="1454040" cy="1187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27m4"/>
          <p:cNvPicPr/>
          <p:nvPr/>
        </p:nvPicPr>
        <p:blipFill>
          <a:blip r:embed="rId3"/>
          <a:stretch/>
        </p:blipFill>
        <p:spPr>
          <a:xfrm flipH="1">
            <a:off x="4960440" y="4414680"/>
            <a:ext cx="1297080" cy="118764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>
            <a:off x="4824360" y="3995640"/>
            <a:ext cx="187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H="1">
            <a:off x="3095640" y="3995640"/>
            <a:ext cx="1706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4896000" y="3419640"/>
            <a:ext cx="142848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км/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10"/>
          <p:cNvSpPr/>
          <p:nvPr/>
        </p:nvSpPr>
        <p:spPr>
          <a:xfrm flipV="1">
            <a:off x="4802040" y="3858840"/>
            <a:ext cx="0" cy="237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3267000" y="3395520"/>
            <a:ext cx="141300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км/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12"/>
          <p:cNvSpPr/>
          <p:nvPr/>
        </p:nvSpPr>
        <p:spPr>
          <a:xfrm>
            <a:off x="1224000" y="5435640"/>
            <a:ext cx="8254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4103640" y="5651640"/>
            <a:ext cx="16509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к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833400" y="3541680"/>
            <a:ext cx="158760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576360" y="108000"/>
            <a:ext cx="871200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Решите самостоятельн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52000" y="252360"/>
            <a:ext cx="9541080" cy="223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86000"/>
          </a:bodyPr>
          <a:p>
            <a:pPr marL="2948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тушок и собака двигаются навстречу друг другу. Расстояние между  ними 30 км. Скорость петушка 2 км/ч, а скорость собаки 5 км/ч. На каком расстоянии друг от друга они будут через 2 час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25m2"/>
          <p:cNvPicPr/>
          <p:nvPr/>
        </p:nvPicPr>
        <p:blipFill>
          <a:blip r:embed="rId2"/>
          <a:stretch/>
        </p:blipFill>
        <p:spPr>
          <a:xfrm flipH="1">
            <a:off x="6776640" y="4890960"/>
            <a:ext cx="2708280" cy="1357560"/>
          </a:xfrm>
          <a:prstGeom prst="rect">
            <a:avLst/>
          </a:prstGeom>
          <a:ln w="0">
            <a:noFill/>
          </a:ln>
        </p:spPr>
      </p:pic>
      <p:sp>
        <p:nvSpPr>
          <p:cNvPr id="128" name="Line 8"/>
          <p:cNvSpPr/>
          <p:nvPr/>
        </p:nvSpPr>
        <p:spPr>
          <a:xfrm flipV="1">
            <a:off x="936720" y="4572000"/>
            <a:ext cx="792000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9"/>
          <p:cNvSpPr/>
          <p:nvPr/>
        </p:nvSpPr>
        <p:spPr>
          <a:xfrm>
            <a:off x="936720" y="3773520"/>
            <a:ext cx="954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0"/>
          <p:cNvSpPr/>
          <p:nvPr/>
        </p:nvSpPr>
        <p:spPr>
          <a:xfrm flipH="1">
            <a:off x="6984720" y="3851280"/>
            <a:ext cx="1825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15" descr="32m4"/>
          <p:cNvPicPr/>
          <p:nvPr/>
        </p:nvPicPr>
        <p:blipFill>
          <a:blip r:embed="rId3"/>
          <a:stretch/>
        </p:blipFill>
        <p:spPr>
          <a:xfrm flipH="1">
            <a:off x="797040" y="4775040"/>
            <a:ext cx="1541520" cy="14734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8"/>
          <p:cNvSpPr/>
          <p:nvPr/>
        </p:nvSpPr>
        <p:spPr>
          <a:xfrm>
            <a:off x="863640" y="3203640"/>
            <a:ext cx="151272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км/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20"/>
          <p:cNvSpPr/>
          <p:nvPr/>
        </p:nvSpPr>
        <p:spPr>
          <a:xfrm>
            <a:off x="7416720" y="3203640"/>
            <a:ext cx="167184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км/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3"/>
          <p:cNvSpPr/>
          <p:nvPr/>
        </p:nvSpPr>
        <p:spPr>
          <a:xfrm>
            <a:off x="4176720" y="4775040"/>
            <a:ext cx="180972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к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24"/>
          <p:cNvSpPr/>
          <p:nvPr/>
        </p:nvSpPr>
        <p:spPr>
          <a:xfrm>
            <a:off x="3944880" y="2906640"/>
            <a:ext cx="190512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"/>
          <p:cNvSpPr/>
          <p:nvPr/>
        </p:nvSpPr>
        <p:spPr>
          <a:xfrm>
            <a:off x="3102120" y="162000"/>
            <a:ext cx="364464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заимопровер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606600" y="755640"/>
            <a:ext cx="9042120" cy="26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ение первой зада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 + 25 ∙ 4 =180 (км) – будет расстояние между орлами через  4 час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: 180 километ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719280" y="3468600"/>
            <a:ext cx="9042120" cy="26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ение второй зада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0 – (2 + 5) ∙ 2 = 16 (км) – расстояние будет  между животными через  2 час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: 16 километ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122120" y="539640"/>
            <a:ext cx="7934040" cy="719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ь по рисунку задач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20m4"/>
          <p:cNvPicPr/>
          <p:nvPr/>
        </p:nvPicPr>
        <p:blipFill>
          <a:blip r:embed="rId2"/>
          <a:stretch/>
        </p:blipFill>
        <p:spPr>
          <a:xfrm flipH="1">
            <a:off x="6638760" y="3754440"/>
            <a:ext cx="555840" cy="777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22m1"/>
          <p:cNvPicPr/>
          <p:nvPr/>
        </p:nvPicPr>
        <p:blipFill>
          <a:blip r:embed="rId3"/>
          <a:stretch/>
        </p:blipFill>
        <p:spPr>
          <a:xfrm flipH="1">
            <a:off x="1415520" y="3641760"/>
            <a:ext cx="1032120" cy="1001520"/>
          </a:xfrm>
          <a:prstGeom prst="rect">
            <a:avLst/>
          </a:prstGeom>
          <a:ln w="0">
            <a:noFill/>
          </a:ln>
        </p:spPr>
      </p:pic>
      <p:sp>
        <p:nvSpPr>
          <p:cNvPr id="142" name="Line 6"/>
          <p:cNvSpPr/>
          <p:nvPr/>
        </p:nvSpPr>
        <p:spPr>
          <a:xfrm flipH="1">
            <a:off x="1440000" y="4643280"/>
            <a:ext cx="648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7"/>
          <p:cNvSpPr/>
          <p:nvPr/>
        </p:nvSpPr>
        <p:spPr>
          <a:xfrm>
            <a:off x="1469880" y="3564000"/>
            <a:ext cx="1268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8"/>
          <p:cNvSpPr/>
          <p:nvPr/>
        </p:nvSpPr>
        <p:spPr>
          <a:xfrm>
            <a:off x="6480000" y="3564000"/>
            <a:ext cx="873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484280" y="3032280"/>
            <a:ext cx="7779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6335640" y="2843280"/>
            <a:ext cx="194796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км/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1500120" y="2819520"/>
            <a:ext cx="153036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км/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Группа 1"/>
          <p:cNvGrpSpPr/>
          <p:nvPr/>
        </p:nvGrpSpPr>
        <p:grpSpPr>
          <a:xfrm>
            <a:off x="922320" y="395280"/>
            <a:ext cx="7934400" cy="1492200"/>
            <a:chOff x="922320" y="395280"/>
            <a:chExt cx="7934400" cy="1492200"/>
          </a:xfrm>
        </p:grpSpPr>
        <p:sp>
          <p:nvSpPr>
            <p:cNvPr id="149" name="Rectangle 3"/>
            <p:cNvSpPr/>
            <p:nvPr/>
          </p:nvSpPr>
          <p:spPr>
            <a:xfrm>
              <a:off x="922320" y="611280"/>
              <a:ext cx="7934400" cy="72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noAutofit/>
            </a:bodyPr>
            <a:p>
              <a:pPr marL="343080" indent="-343080">
                <a:lnSpc>
                  <a:spcPct val="93000"/>
                </a:lnSpc>
                <a:spcAft>
                  <a:spcPts val="142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48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Тема урока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0" name="Picture 13" descr="H:\Все рисунки\школьники рисунки\twitter_question_mark.png"/>
            <p:cNvPicPr/>
            <p:nvPr/>
          </p:nvPicPr>
          <p:blipFill>
            <a:blip r:embed="rId4"/>
            <a:stretch/>
          </p:blipFill>
          <p:spPr>
            <a:xfrm>
              <a:off x="4060080" y="395280"/>
              <a:ext cx="1081080" cy="14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Text Box 41"/>
          <p:cNvSpPr/>
          <p:nvPr/>
        </p:nvSpPr>
        <p:spPr>
          <a:xfrm>
            <a:off x="2699640" y="552600"/>
            <a:ext cx="521928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Движение вдогонк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3755880" y="4819680"/>
            <a:ext cx="168912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Line 4"/>
          <p:cNvSpPr/>
          <p:nvPr/>
        </p:nvSpPr>
        <p:spPr>
          <a:xfrm>
            <a:off x="703440" y="1521000"/>
            <a:ext cx="937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9"/>
          <p:cNvSpPr/>
          <p:nvPr/>
        </p:nvSpPr>
        <p:spPr>
          <a:xfrm flipH="1">
            <a:off x="1044720" y="1422360"/>
            <a:ext cx="7920" cy="16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19"/>
          <p:cNvSpPr/>
          <p:nvPr/>
        </p:nvSpPr>
        <p:spPr>
          <a:xfrm flipH="1">
            <a:off x="1400040" y="1432080"/>
            <a:ext cx="6480" cy="16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20"/>
          <p:cNvSpPr/>
          <p:nvPr/>
        </p:nvSpPr>
        <p:spPr>
          <a:xfrm flipH="1">
            <a:off x="1920960" y="1433520"/>
            <a:ext cx="7920" cy="16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21"/>
          <p:cNvSpPr/>
          <p:nvPr/>
        </p:nvSpPr>
        <p:spPr>
          <a:xfrm flipH="1">
            <a:off x="2259000" y="1427040"/>
            <a:ext cx="7920" cy="168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22"/>
          <p:cNvSpPr/>
          <p:nvPr/>
        </p:nvSpPr>
        <p:spPr>
          <a:xfrm flipH="1">
            <a:off x="2635200" y="1436760"/>
            <a:ext cx="7920" cy="16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23"/>
          <p:cNvSpPr/>
          <p:nvPr/>
        </p:nvSpPr>
        <p:spPr>
          <a:xfrm flipH="1">
            <a:off x="2987640" y="1432080"/>
            <a:ext cx="6480" cy="16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24"/>
          <p:cNvSpPr/>
          <p:nvPr/>
        </p:nvSpPr>
        <p:spPr>
          <a:xfrm>
            <a:off x="999720" y="246240"/>
            <a:ext cx="135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60 км/ч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25"/>
          <p:cNvSpPr/>
          <p:nvPr/>
        </p:nvSpPr>
        <p:spPr>
          <a:xfrm>
            <a:off x="262800" y="996840"/>
            <a:ext cx="48564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000066"/>
                </a:solidFill>
                <a:latin typeface="Arial"/>
              </a:rPr>
              <a:t>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26"/>
          <p:cNvSpPr/>
          <p:nvPr/>
        </p:nvSpPr>
        <p:spPr>
          <a:xfrm flipH="1">
            <a:off x="3244680" y="1446120"/>
            <a:ext cx="6480" cy="1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27"/>
          <p:cNvSpPr/>
          <p:nvPr/>
        </p:nvSpPr>
        <p:spPr>
          <a:xfrm flipH="1">
            <a:off x="3600360" y="1454040"/>
            <a:ext cx="6480" cy="168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28"/>
          <p:cNvSpPr/>
          <p:nvPr/>
        </p:nvSpPr>
        <p:spPr>
          <a:xfrm flipH="1">
            <a:off x="4121280" y="1455840"/>
            <a:ext cx="7920" cy="16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29"/>
          <p:cNvSpPr/>
          <p:nvPr/>
        </p:nvSpPr>
        <p:spPr>
          <a:xfrm flipH="1">
            <a:off x="4459320" y="1450800"/>
            <a:ext cx="6480" cy="168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30"/>
          <p:cNvSpPr/>
          <p:nvPr/>
        </p:nvSpPr>
        <p:spPr>
          <a:xfrm flipH="1">
            <a:off x="4835520" y="1459080"/>
            <a:ext cx="6480" cy="16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31"/>
          <p:cNvSpPr/>
          <p:nvPr/>
        </p:nvSpPr>
        <p:spPr>
          <a:xfrm flipH="1">
            <a:off x="5187960" y="1454040"/>
            <a:ext cx="6480" cy="168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32"/>
          <p:cNvSpPr/>
          <p:nvPr/>
        </p:nvSpPr>
        <p:spPr>
          <a:xfrm flipH="1">
            <a:off x="5608800" y="1460520"/>
            <a:ext cx="7920" cy="16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33"/>
          <p:cNvSpPr/>
          <p:nvPr/>
        </p:nvSpPr>
        <p:spPr>
          <a:xfrm flipH="1">
            <a:off x="5964120" y="1469880"/>
            <a:ext cx="6480" cy="168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34"/>
          <p:cNvSpPr/>
          <p:nvPr/>
        </p:nvSpPr>
        <p:spPr>
          <a:xfrm flipH="1">
            <a:off x="6486480" y="1471680"/>
            <a:ext cx="6480" cy="16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35"/>
          <p:cNvSpPr/>
          <p:nvPr/>
        </p:nvSpPr>
        <p:spPr>
          <a:xfrm flipH="1">
            <a:off x="6823080" y="1467000"/>
            <a:ext cx="7920" cy="16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36"/>
          <p:cNvSpPr/>
          <p:nvPr/>
        </p:nvSpPr>
        <p:spPr>
          <a:xfrm flipH="1">
            <a:off x="7199280" y="1474920"/>
            <a:ext cx="7920" cy="16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37"/>
          <p:cNvSpPr/>
          <p:nvPr/>
        </p:nvSpPr>
        <p:spPr>
          <a:xfrm flipH="1">
            <a:off x="7551720" y="1469880"/>
            <a:ext cx="6480" cy="168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38"/>
          <p:cNvSpPr/>
          <p:nvPr/>
        </p:nvSpPr>
        <p:spPr>
          <a:xfrm>
            <a:off x="1169640" y="1471680"/>
            <a:ext cx="51336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39"/>
          <p:cNvSpPr/>
          <p:nvPr/>
        </p:nvSpPr>
        <p:spPr>
          <a:xfrm>
            <a:off x="2030760" y="1471680"/>
            <a:ext cx="51336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40"/>
          <p:cNvSpPr/>
          <p:nvPr/>
        </p:nvSpPr>
        <p:spPr>
          <a:xfrm>
            <a:off x="2778480" y="1473120"/>
            <a:ext cx="51336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41"/>
          <p:cNvSpPr/>
          <p:nvPr/>
        </p:nvSpPr>
        <p:spPr>
          <a:xfrm>
            <a:off x="3376800" y="1503360"/>
            <a:ext cx="51336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42"/>
          <p:cNvSpPr/>
          <p:nvPr/>
        </p:nvSpPr>
        <p:spPr>
          <a:xfrm>
            <a:off x="4180680" y="1486080"/>
            <a:ext cx="6685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43"/>
          <p:cNvSpPr/>
          <p:nvPr/>
        </p:nvSpPr>
        <p:spPr>
          <a:xfrm>
            <a:off x="4895640" y="1486080"/>
            <a:ext cx="6685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44"/>
          <p:cNvSpPr/>
          <p:nvPr/>
        </p:nvSpPr>
        <p:spPr>
          <a:xfrm>
            <a:off x="5669640" y="1487520"/>
            <a:ext cx="6685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45"/>
          <p:cNvSpPr/>
          <p:nvPr/>
        </p:nvSpPr>
        <p:spPr>
          <a:xfrm>
            <a:off x="6474600" y="1517760"/>
            <a:ext cx="6685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46"/>
          <p:cNvSpPr/>
          <p:nvPr/>
        </p:nvSpPr>
        <p:spPr>
          <a:xfrm>
            <a:off x="7261920" y="1517760"/>
            <a:ext cx="6685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47"/>
          <p:cNvSpPr/>
          <p:nvPr/>
        </p:nvSpPr>
        <p:spPr>
          <a:xfrm>
            <a:off x="7934040" y="1503360"/>
            <a:ext cx="6685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50"/>
          <p:cNvSpPr/>
          <p:nvPr/>
        </p:nvSpPr>
        <p:spPr>
          <a:xfrm flipH="1">
            <a:off x="7861320" y="1459080"/>
            <a:ext cx="7920" cy="16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51"/>
          <p:cNvSpPr/>
          <p:nvPr/>
        </p:nvSpPr>
        <p:spPr>
          <a:xfrm flipH="1">
            <a:off x="8216640" y="1468440"/>
            <a:ext cx="6120" cy="16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52"/>
          <p:cNvSpPr/>
          <p:nvPr/>
        </p:nvSpPr>
        <p:spPr>
          <a:xfrm flipH="1">
            <a:off x="8680320" y="1469880"/>
            <a:ext cx="6480" cy="16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54"/>
          <p:cNvSpPr/>
          <p:nvPr/>
        </p:nvSpPr>
        <p:spPr>
          <a:xfrm flipH="1">
            <a:off x="9055080" y="1425600"/>
            <a:ext cx="648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55"/>
          <p:cNvSpPr/>
          <p:nvPr/>
        </p:nvSpPr>
        <p:spPr>
          <a:xfrm flipH="1">
            <a:off x="9502920" y="1441440"/>
            <a:ext cx="9360" cy="16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" name="Group 64"/>
          <p:cNvGrpSpPr/>
          <p:nvPr/>
        </p:nvGrpSpPr>
        <p:grpSpPr>
          <a:xfrm>
            <a:off x="703440" y="736560"/>
            <a:ext cx="8055720" cy="783720"/>
            <a:chOff x="703440" y="736560"/>
            <a:chExt cx="8055720" cy="783720"/>
          </a:xfrm>
        </p:grpSpPr>
        <p:sp>
          <p:nvSpPr>
            <p:cNvPr id="190" name="Line 5"/>
            <p:cNvSpPr/>
            <p:nvPr/>
          </p:nvSpPr>
          <p:spPr>
            <a:xfrm flipV="1">
              <a:off x="703440" y="759240"/>
              <a:ext cx="15120" cy="761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717120" y="759240"/>
              <a:ext cx="227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56"/>
            <p:cNvSpPr/>
            <p:nvPr/>
          </p:nvSpPr>
          <p:spPr>
            <a:xfrm flipV="1">
              <a:off x="8192520" y="736560"/>
              <a:ext cx="1584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57"/>
            <p:cNvSpPr/>
            <p:nvPr/>
          </p:nvSpPr>
          <p:spPr>
            <a:xfrm>
              <a:off x="8206200" y="736560"/>
              <a:ext cx="552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Text Box 58"/>
          <p:cNvSpPr/>
          <p:nvPr/>
        </p:nvSpPr>
        <p:spPr>
          <a:xfrm>
            <a:off x="8737560" y="1501920"/>
            <a:ext cx="6685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59"/>
          <p:cNvSpPr/>
          <p:nvPr/>
        </p:nvSpPr>
        <p:spPr>
          <a:xfrm>
            <a:off x="7733520" y="896760"/>
            <a:ext cx="52380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500" spc="-1" strike="noStrike">
                <a:solidFill>
                  <a:srgbClr val="000066"/>
                </a:solidFill>
                <a:latin typeface="Arial"/>
              </a:rPr>
              <a:t>В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60"/>
          <p:cNvSpPr/>
          <p:nvPr/>
        </p:nvSpPr>
        <p:spPr>
          <a:xfrm>
            <a:off x="554400" y="1501920"/>
            <a:ext cx="35784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61"/>
          <p:cNvSpPr/>
          <p:nvPr/>
        </p:nvSpPr>
        <p:spPr>
          <a:xfrm>
            <a:off x="701640" y="1504800"/>
            <a:ext cx="14400" cy="7606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62"/>
          <p:cNvSpPr/>
          <p:nvPr/>
        </p:nvSpPr>
        <p:spPr>
          <a:xfrm>
            <a:off x="8182080" y="1592280"/>
            <a:ext cx="14040" cy="6588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65"/>
          <p:cNvSpPr/>
          <p:nvPr/>
        </p:nvSpPr>
        <p:spPr>
          <a:xfrm>
            <a:off x="2994120" y="1693800"/>
            <a:ext cx="0" cy="13161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66"/>
          <p:cNvSpPr/>
          <p:nvPr/>
        </p:nvSpPr>
        <p:spPr>
          <a:xfrm>
            <a:off x="8678880" y="1781280"/>
            <a:ext cx="0" cy="12430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Group 75"/>
          <p:cNvGrpSpPr/>
          <p:nvPr/>
        </p:nvGrpSpPr>
        <p:grpSpPr>
          <a:xfrm>
            <a:off x="678960" y="2200320"/>
            <a:ext cx="7500960" cy="3240"/>
            <a:chOff x="678960" y="2200320"/>
            <a:chExt cx="7500960" cy="3240"/>
          </a:xfrm>
        </p:grpSpPr>
        <p:sp>
          <p:nvSpPr>
            <p:cNvPr id="202" name="Line 70"/>
            <p:cNvSpPr/>
            <p:nvPr/>
          </p:nvSpPr>
          <p:spPr>
            <a:xfrm>
              <a:off x="3624840" y="2203560"/>
              <a:ext cx="455508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71"/>
            <p:cNvSpPr/>
            <p:nvPr/>
          </p:nvSpPr>
          <p:spPr>
            <a:xfrm flipH="1">
              <a:off x="678960" y="2200320"/>
              <a:ext cx="314316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Group 86"/>
          <p:cNvGrpSpPr/>
          <p:nvPr/>
        </p:nvGrpSpPr>
        <p:grpSpPr>
          <a:xfrm>
            <a:off x="2933640" y="2722680"/>
            <a:ext cx="5732280" cy="10800"/>
            <a:chOff x="2933640" y="2722680"/>
            <a:chExt cx="5732280" cy="10800"/>
          </a:xfrm>
        </p:grpSpPr>
        <p:sp>
          <p:nvSpPr>
            <p:cNvPr id="205" name="Line 83"/>
            <p:cNvSpPr/>
            <p:nvPr/>
          </p:nvSpPr>
          <p:spPr>
            <a:xfrm>
              <a:off x="5042160" y="2722680"/>
              <a:ext cx="3623760" cy="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84"/>
            <p:cNvSpPr/>
            <p:nvPr/>
          </p:nvSpPr>
          <p:spPr>
            <a:xfrm flipH="1">
              <a:off x="2933640" y="2733480"/>
              <a:ext cx="2500560" cy="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Line 87"/>
          <p:cNvSpPr/>
          <p:nvPr/>
        </p:nvSpPr>
        <p:spPr>
          <a:xfrm>
            <a:off x="5186520" y="1665360"/>
            <a:ext cx="0" cy="17380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89"/>
          <p:cNvSpPr/>
          <p:nvPr/>
        </p:nvSpPr>
        <p:spPr>
          <a:xfrm>
            <a:off x="9058320" y="1751040"/>
            <a:ext cx="0" cy="15796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Group 93"/>
          <p:cNvGrpSpPr/>
          <p:nvPr/>
        </p:nvGrpSpPr>
        <p:grpSpPr>
          <a:xfrm>
            <a:off x="5178600" y="3220920"/>
            <a:ext cx="3818880" cy="4680"/>
            <a:chOff x="5178600" y="3220920"/>
            <a:chExt cx="3818880" cy="4680"/>
          </a:xfrm>
        </p:grpSpPr>
        <p:sp>
          <p:nvSpPr>
            <p:cNvPr id="210" name="Line 91"/>
            <p:cNvSpPr/>
            <p:nvPr/>
          </p:nvSpPr>
          <p:spPr>
            <a:xfrm>
              <a:off x="6556320" y="3225600"/>
              <a:ext cx="244116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Line 92"/>
            <p:cNvSpPr/>
            <p:nvPr/>
          </p:nvSpPr>
          <p:spPr>
            <a:xfrm flipH="1">
              <a:off x="5178600" y="3220920"/>
              <a:ext cx="168552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2" name="Text Box 94"/>
          <p:cNvSpPr/>
          <p:nvPr/>
        </p:nvSpPr>
        <p:spPr>
          <a:xfrm>
            <a:off x="7883280" y="209520"/>
            <a:ext cx="135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10 км/ч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95"/>
          <p:cNvSpPr/>
          <p:nvPr/>
        </p:nvSpPr>
        <p:spPr>
          <a:xfrm>
            <a:off x="3756600" y="1657440"/>
            <a:ext cx="743400" cy="6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100" spc="-1" strike="noStrike">
                <a:solidFill>
                  <a:srgbClr val="000066"/>
                </a:solidFill>
                <a:latin typeface="Arial"/>
              </a:rPr>
              <a:t>d</a:t>
            </a:r>
            <a:r>
              <a:rPr b="1" lang="en-US" sz="3100" spc="-1" strike="noStrike" baseline="-25000">
                <a:solidFill>
                  <a:srgbClr val="000066"/>
                </a:solidFill>
                <a:latin typeface="Arial"/>
              </a:rPr>
              <a:t>0 </a:t>
            </a:r>
            <a:r>
              <a:rPr b="1" lang="en-US" sz="31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96"/>
          <p:cNvSpPr/>
          <p:nvPr/>
        </p:nvSpPr>
        <p:spPr>
          <a:xfrm>
            <a:off x="6139800" y="2190600"/>
            <a:ext cx="679320" cy="6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1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1" lang="en-US" sz="31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r>
              <a:rPr b="1" lang="en-US" sz="31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97"/>
          <p:cNvSpPr/>
          <p:nvPr/>
        </p:nvSpPr>
        <p:spPr>
          <a:xfrm>
            <a:off x="6840000" y="2595600"/>
            <a:ext cx="743400" cy="6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d</a:t>
            </a:r>
            <a:r>
              <a:rPr b="1" lang="en-US" sz="3100" spc="-1" strike="noStrike" baseline="-25000">
                <a:solidFill>
                  <a:srgbClr val="006600"/>
                </a:solidFill>
                <a:latin typeface="Arial"/>
              </a:rPr>
              <a:t>2 </a:t>
            </a: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93680" y="3932280"/>
          <a:ext cx="6264360" cy="3105000"/>
        </p:xfrm>
        <a:graphic>
          <a:graphicData uri="http://schemas.openxmlformats.org/drawingml/2006/table">
            <a:tbl>
              <a:tblPr/>
              <a:tblGrid>
                <a:gridCol w="1682640"/>
                <a:gridCol w="4581720"/>
              </a:tblGrid>
              <a:tr h="49788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t</a:t>
                      </a: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18720">
                      <a:solidFill>
                        <a:srgbClr val="800080"/>
                      </a:solidFill>
                    </a:lnT>
                    <a:lnB w="1872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d </a:t>
                      </a: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к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18720">
                      <a:solidFill>
                        <a:srgbClr val="800080"/>
                      </a:solidFill>
                    </a:lnT>
                    <a:lnB w="1872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18720">
                      <a:solidFill>
                        <a:srgbClr val="800080"/>
                      </a:solidFill>
                    </a:lnT>
                    <a:lnB w="1872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18720">
                      <a:solidFill>
                        <a:srgbClr val="800080"/>
                      </a:solidFill>
                    </a:lnT>
                    <a:lnB w="1872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18720">
                      <a:solidFill>
                        <a:srgbClr val="800080"/>
                      </a:solidFill>
                    </a:lnT>
                    <a:lnB w="1872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18720">
                      <a:solidFill>
                        <a:srgbClr val="800080"/>
                      </a:solidFill>
                    </a:lnT>
                    <a:lnB w="1872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18720">
                      <a:solidFill>
                        <a:srgbClr val="800080"/>
                      </a:solidFill>
                    </a:lnT>
                    <a:lnB w="1872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18720">
                      <a:solidFill>
                        <a:srgbClr val="800080"/>
                      </a:solidFill>
                    </a:lnT>
                    <a:lnB w="1872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18720">
                      <a:solidFill>
                        <a:srgbClr val="800080"/>
                      </a:solidFill>
                    </a:lnT>
                    <a:lnB w="1872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18720">
                      <a:solidFill>
                        <a:srgbClr val="800080"/>
                      </a:solidFill>
                    </a:lnT>
                    <a:lnB w="1872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18720">
                      <a:solidFill>
                        <a:srgbClr val="800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18720">
                      <a:solidFill>
                        <a:srgbClr val="800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Text Box 149"/>
          <p:cNvSpPr/>
          <p:nvPr/>
        </p:nvSpPr>
        <p:spPr>
          <a:xfrm>
            <a:off x="6613920" y="4575240"/>
            <a:ext cx="12294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5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V</a:t>
            </a:r>
            <a:r>
              <a:rPr b="1" lang="ru-RU" sz="3500" spc="-1" strike="noStrike" baseline="-25000">
                <a:solidFill>
                  <a:srgbClr val="006600"/>
                </a:solidFill>
                <a:latin typeface="Times New Roman"/>
                <a:ea typeface="Times New Roman"/>
              </a:rPr>
              <a:t>сбл.</a:t>
            </a:r>
            <a:r>
              <a:rPr b="1" lang="ru-RU" sz="35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=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150"/>
          <p:cNvSpPr/>
          <p:nvPr/>
        </p:nvSpPr>
        <p:spPr>
          <a:xfrm>
            <a:off x="6485040" y="5477040"/>
            <a:ext cx="87768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5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d 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51"/>
          <p:cNvSpPr/>
          <p:nvPr/>
        </p:nvSpPr>
        <p:spPr>
          <a:xfrm>
            <a:off x="793800" y="4427640"/>
            <a:ext cx="42480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0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152"/>
          <p:cNvSpPr/>
          <p:nvPr/>
        </p:nvSpPr>
        <p:spPr>
          <a:xfrm>
            <a:off x="3643200" y="4479840"/>
            <a:ext cx="86976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00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156"/>
          <p:cNvSpPr/>
          <p:nvPr/>
        </p:nvSpPr>
        <p:spPr>
          <a:xfrm rot="5400000">
            <a:off x="1663920" y="248040"/>
            <a:ext cx="365400" cy="2249640"/>
          </a:xfrm>
          <a:custGeom>
            <a:avLst/>
            <a:gdLst>
              <a:gd name="textAreaLeft" fmla="*/ 107280 w 365400"/>
              <a:gd name="textAreaRight" fmla="*/ 365760 w 365400"/>
              <a:gd name="textAreaTop" fmla="*/ 93600 h 2249640"/>
              <a:gd name="textAreaBottom" fmla="*/ 2156040 h 224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157"/>
          <p:cNvSpPr/>
          <p:nvPr/>
        </p:nvSpPr>
        <p:spPr>
          <a:xfrm rot="5400000">
            <a:off x="8296560" y="1168920"/>
            <a:ext cx="293760" cy="466920"/>
          </a:xfrm>
          <a:custGeom>
            <a:avLst/>
            <a:gdLst>
              <a:gd name="textAreaLeft" fmla="*/ 86400 w 293760"/>
              <a:gd name="textAreaRight" fmla="*/ 294120 w 293760"/>
              <a:gd name="textAreaTop" fmla="*/ 19440 h 466920"/>
              <a:gd name="textAreaBottom" fmla="*/ 447480 h 4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58"/>
          <p:cNvSpPr/>
          <p:nvPr/>
        </p:nvSpPr>
        <p:spPr>
          <a:xfrm>
            <a:off x="792360" y="4932360"/>
            <a:ext cx="42480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59"/>
          <p:cNvSpPr/>
          <p:nvPr/>
        </p:nvSpPr>
        <p:spPr>
          <a:xfrm>
            <a:off x="1860120" y="4932360"/>
            <a:ext cx="4135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00 – (60 – 10) </a:t>
            </a:r>
            <a:r>
              <a:rPr b="1" lang="en-US" sz="31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∙</a:t>
            </a:r>
            <a:r>
              <a:rPr b="1" lang="ru-RU" sz="31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1 = 150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62"/>
          <p:cNvSpPr/>
          <p:nvPr/>
        </p:nvSpPr>
        <p:spPr>
          <a:xfrm>
            <a:off x="793080" y="5435640"/>
            <a:ext cx="42480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163"/>
          <p:cNvSpPr/>
          <p:nvPr/>
        </p:nvSpPr>
        <p:spPr>
          <a:xfrm rot="5400000">
            <a:off x="3930480" y="234720"/>
            <a:ext cx="320760" cy="2247840"/>
          </a:xfrm>
          <a:custGeom>
            <a:avLst/>
            <a:gdLst>
              <a:gd name="textAreaLeft" fmla="*/ 94320 w 320760"/>
              <a:gd name="textAreaRight" fmla="*/ 321120 w 320760"/>
              <a:gd name="textAreaTop" fmla="*/ 93600 h 2247840"/>
              <a:gd name="textAreaBottom" fmla="*/ 2154240 h 2247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164"/>
          <p:cNvSpPr/>
          <p:nvPr/>
        </p:nvSpPr>
        <p:spPr>
          <a:xfrm rot="5400000">
            <a:off x="8800560" y="1131840"/>
            <a:ext cx="204840" cy="468360"/>
          </a:xfrm>
          <a:custGeom>
            <a:avLst/>
            <a:gdLst>
              <a:gd name="textAreaLeft" fmla="*/ 60120 w 204840"/>
              <a:gd name="textAreaRight" fmla="*/ 205200 w 204840"/>
              <a:gd name="textAreaTop" fmla="*/ 19440 h 468360"/>
              <a:gd name="textAreaBottom" fmla="*/ 448920 h 4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165"/>
          <p:cNvSpPr/>
          <p:nvPr/>
        </p:nvSpPr>
        <p:spPr>
          <a:xfrm>
            <a:off x="1861920" y="5508720"/>
            <a:ext cx="4135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00 – (60 – 10) </a:t>
            </a:r>
            <a:r>
              <a:rPr b="1" lang="en-US" sz="31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∙</a:t>
            </a:r>
            <a:r>
              <a:rPr b="1" lang="ru-RU" sz="31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2 = 100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66"/>
          <p:cNvSpPr/>
          <p:nvPr/>
        </p:nvSpPr>
        <p:spPr>
          <a:xfrm>
            <a:off x="793080" y="5948280"/>
            <a:ext cx="42480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67"/>
          <p:cNvSpPr/>
          <p:nvPr/>
        </p:nvSpPr>
        <p:spPr>
          <a:xfrm rot="5400000">
            <a:off x="6224760" y="161640"/>
            <a:ext cx="318960" cy="2379600"/>
          </a:xfrm>
          <a:custGeom>
            <a:avLst/>
            <a:gdLst>
              <a:gd name="textAreaLeft" fmla="*/ 93600 w 318960"/>
              <a:gd name="textAreaRight" fmla="*/ 319320 w 318960"/>
              <a:gd name="textAreaTop" fmla="*/ 99000 h 2379600"/>
              <a:gd name="textAreaBottom" fmla="*/ 2280600 h 237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168"/>
          <p:cNvSpPr/>
          <p:nvPr/>
        </p:nvSpPr>
        <p:spPr>
          <a:xfrm flipH="1">
            <a:off x="9847440" y="1465200"/>
            <a:ext cx="9360" cy="166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169"/>
          <p:cNvSpPr/>
          <p:nvPr/>
        </p:nvSpPr>
        <p:spPr>
          <a:xfrm rot="5400000">
            <a:off x="9164880" y="1235520"/>
            <a:ext cx="295200" cy="366840"/>
          </a:xfrm>
          <a:custGeom>
            <a:avLst/>
            <a:gdLst>
              <a:gd name="textAreaLeft" fmla="*/ 86760 w 295200"/>
              <a:gd name="textAreaRight" fmla="*/ 295200 w 295200"/>
              <a:gd name="textAreaTop" fmla="*/ 15120 h 366840"/>
              <a:gd name="textAreaBottom" fmla="*/ 351720 h 366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170"/>
          <p:cNvSpPr/>
          <p:nvPr/>
        </p:nvSpPr>
        <p:spPr>
          <a:xfrm>
            <a:off x="7567560" y="1884240"/>
            <a:ext cx="15840" cy="1928880"/>
          </a:xfrm>
          <a:prstGeom prst="line">
            <a:avLst/>
          </a:prstGeom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171"/>
          <p:cNvSpPr/>
          <p:nvPr/>
        </p:nvSpPr>
        <p:spPr>
          <a:xfrm>
            <a:off x="9482040" y="1739880"/>
            <a:ext cx="0" cy="2028960"/>
          </a:xfrm>
          <a:prstGeom prst="line">
            <a:avLst/>
          </a:prstGeom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Group 175"/>
          <p:cNvGrpSpPr/>
          <p:nvPr/>
        </p:nvGrpSpPr>
        <p:grpSpPr>
          <a:xfrm>
            <a:off x="7566120" y="3757680"/>
            <a:ext cx="1964880" cy="1440"/>
            <a:chOff x="7566120" y="3757680"/>
            <a:chExt cx="1964880" cy="1440"/>
          </a:xfrm>
        </p:grpSpPr>
        <p:sp>
          <p:nvSpPr>
            <p:cNvPr id="236" name="Line 173"/>
            <p:cNvSpPr/>
            <p:nvPr/>
          </p:nvSpPr>
          <p:spPr>
            <a:xfrm>
              <a:off x="8295840" y="3759120"/>
              <a:ext cx="1235160" cy="0"/>
            </a:xfrm>
            <a:prstGeom prst="line">
              <a:avLst/>
            </a:prstGeom>
            <a:ln w="57240">
              <a:solidFill>
                <a:srgbClr val="66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174"/>
            <p:cNvSpPr/>
            <p:nvPr/>
          </p:nvSpPr>
          <p:spPr>
            <a:xfrm flipH="1">
              <a:off x="7566120" y="3757680"/>
              <a:ext cx="853920" cy="0"/>
            </a:xfrm>
            <a:prstGeom prst="line">
              <a:avLst/>
            </a:prstGeom>
            <a:ln w="57240">
              <a:solidFill>
                <a:srgbClr val="66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8" name="Text Box 176"/>
          <p:cNvSpPr/>
          <p:nvPr/>
        </p:nvSpPr>
        <p:spPr>
          <a:xfrm>
            <a:off x="8135640" y="3187800"/>
            <a:ext cx="743400" cy="6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100" spc="-1" strike="noStrike">
                <a:solidFill>
                  <a:srgbClr val="660033"/>
                </a:solidFill>
                <a:latin typeface="Arial"/>
              </a:rPr>
              <a:t>d</a:t>
            </a:r>
            <a:r>
              <a:rPr b="1" lang="ru-RU" sz="31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1" lang="en-US" sz="3100" spc="-1" strike="noStrike" baseline="-25000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77"/>
          <p:cNvSpPr/>
          <p:nvPr/>
        </p:nvSpPr>
        <p:spPr>
          <a:xfrm>
            <a:off x="1902240" y="6012000"/>
            <a:ext cx="393912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00 – (60 – 10) </a:t>
            </a:r>
            <a:r>
              <a:rPr b="1" lang="en-US" sz="31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∙</a:t>
            </a:r>
            <a:r>
              <a:rPr b="1" lang="ru-RU" sz="31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3 = 50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78"/>
          <p:cNvSpPr/>
          <p:nvPr/>
        </p:nvSpPr>
        <p:spPr>
          <a:xfrm>
            <a:off x="806760" y="6443640"/>
            <a:ext cx="42480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179"/>
          <p:cNvSpPr/>
          <p:nvPr/>
        </p:nvSpPr>
        <p:spPr>
          <a:xfrm rot="5400000">
            <a:off x="8554680" y="155160"/>
            <a:ext cx="320760" cy="2381400"/>
          </a:xfrm>
          <a:custGeom>
            <a:avLst/>
            <a:gdLst>
              <a:gd name="textAreaLeft" fmla="*/ 94320 w 320760"/>
              <a:gd name="textAreaRight" fmla="*/ 321120 w 320760"/>
              <a:gd name="textAreaTop" fmla="*/ 99000 h 2381400"/>
              <a:gd name="textAreaBottom" fmla="*/ 2282400 h 238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180"/>
          <p:cNvSpPr/>
          <p:nvPr/>
        </p:nvSpPr>
        <p:spPr>
          <a:xfrm rot="5400000">
            <a:off x="9568800" y="1231200"/>
            <a:ext cx="234720" cy="366480"/>
          </a:xfrm>
          <a:custGeom>
            <a:avLst/>
            <a:gdLst>
              <a:gd name="textAreaLeft" fmla="*/ 68760 w 234720"/>
              <a:gd name="textAreaRight" fmla="*/ 235080 w 234720"/>
              <a:gd name="textAreaTop" fmla="*/ 15120 h 366480"/>
              <a:gd name="textAreaBottom" fmla="*/ 351360 h 36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181" descr="AG00345_"/>
          <p:cNvPicPr/>
          <p:nvPr/>
        </p:nvPicPr>
        <p:blipFill>
          <a:blip r:embed="rId2"/>
          <a:stretch/>
        </p:blipFill>
        <p:spPr>
          <a:xfrm rot="976800">
            <a:off x="9726480" y="900000"/>
            <a:ext cx="708120" cy="65592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182"/>
          <p:cNvSpPr/>
          <p:nvPr/>
        </p:nvSpPr>
        <p:spPr>
          <a:xfrm>
            <a:off x="1905120" y="6516720"/>
            <a:ext cx="374256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00 – (60 – 10) </a:t>
            </a:r>
            <a:r>
              <a:rPr b="1" lang="en-US" sz="31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∙</a:t>
            </a:r>
            <a:r>
              <a:rPr b="1" lang="ru-RU" sz="31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4 = 0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183"/>
          <p:cNvSpPr/>
          <p:nvPr/>
        </p:nvSpPr>
        <p:spPr>
          <a:xfrm>
            <a:off x="7899480" y="4581360"/>
            <a:ext cx="15206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5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V</a:t>
            </a:r>
            <a:r>
              <a:rPr b="1" lang="ru-RU" sz="3500" spc="-1" strike="noStrike" baseline="-25000">
                <a:solidFill>
                  <a:srgbClr val="006600"/>
                </a:solidFill>
                <a:latin typeface="Times New Roman"/>
                <a:ea typeface="Times New Roman"/>
              </a:rPr>
              <a:t>б</a:t>
            </a:r>
            <a:r>
              <a:rPr b="1" lang="en-US" sz="35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- V</a:t>
            </a:r>
            <a:r>
              <a:rPr b="1" lang="ru-RU" sz="3500" spc="-1" strike="noStrike" baseline="-25000">
                <a:solidFill>
                  <a:srgbClr val="006600"/>
                </a:solidFill>
                <a:latin typeface="Times New Roman"/>
                <a:ea typeface="Times New Roman"/>
              </a:rPr>
              <a:t>м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184"/>
          <p:cNvSpPr/>
          <p:nvPr/>
        </p:nvSpPr>
        <p:spPr>
          <a:xfrm>
            <a:off x="7231680" y="5460840"/>
            <a:ext cx="2737080" cy="11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S – (V</a:t>
            </a:r>
            <a:r>
              <a:rPr b="1" lang="ru-RU" sz="3100" spc="-1" strike="noStrike" baseline="-25000">
                <a:solidFill>
                  <a:srgbClr val="006600"/>
                </a:solidFill>
                <a:latin typeface="Times New Roman"/>
                <a:ea typeface="Times New Roman"/>
              </a:rPr>
              <a:t>б</a:t>
            </a:r>
            <a:r>
              <a:rPr b="1" lang="en-US" sz="31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– V</a:t>
            </a:r>
            <a:r>
              <a:rPr b="1" lang="ru-RU" sz="3100" spc="-1" strike="noStrike" baseline="-25000">
                <a:solidFill>
                  <a:srgbClr val="006600"/>
                </a:solidFill>
                <a:latin typeface="Times New Roman"/>
                <a:ea typeface="Times New Roman"/>
              </a:rPr>
              <a:t>м</a:t>
            </a:r>
            <a:r>
              <a:rPr b="1" lang="en-US" sz="31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∙ 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176040" y="3087720"/>
            <a:ext cx="9136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изменится расстояние между ними через 1 час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216000" y="3139920"/>
            <a:ext cx="9136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му оно будет равно через 2 ч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463680" y="3019320"/>
            <a:ext cx="609264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гда произойдёт встреч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216000" y="3325680"/>
            <a:ext cx="93567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означьте место встречи флажк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363600" y="3262320"/>
            <a:ext cx="56404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ведите формулу 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запишите.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3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3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3"/>
          <p:cNvSpPr/>
          <p:nvPr/>
        </p:nvSpPr>
        <p:spPr>
          <a:xfrm>
            <a:off x="588600" y="465120"/>
            <a:ext cx="221364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. 98,  №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Прямая соединительная линия 5"/>
          <p:cNvSpPr/>
          <p:nvPr/>
        </p:nvSpPr>
        <p:spPr>
          <a:xfrm>
            <a:off x="719280" y="3059280"/>
            <a:ext cx="712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Правая круглая скобка 6"/>
          <p:cNvSpPr/>
          <p:nvPr/>
        </p:nvSpPr>
        <p:spPr>
          <a:xfrm rot="5400000">
            <a:off x="2050560" y="1727280"/>
            <a:ext cx="720720" cy="3384360"/>
          </a:xfrm>
          <a:custGeom>
            <a:avLst/>
            <a:gdLst>
              <a:gd name="textAreaLeft" fmla="*/ 0 w 720720"/>
              <a:gd name="textAreaRight" fmla="*/ 505440 w 720720"/>
              <a:gd name="textAreaTop" fmla="*/ 29880 h 3384360"/>
              <a:gd name="textAreaBottom" fmla="*/ 3354480 h 33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92"/>
                  <a:pt x="21600" y="383"/>
                </a:cubicBezTo>
                <a:lnTo>
                  <a:pt x="21600" y="21217"/>
                </a:lnTo>
                <a:cubicBezTo>
                  <a:pt x="21600" y="21409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Группа 13"/>
          <p:cNvGrpSpPr/>
          <p:nvPr/>
        </p:nvGrpSpPr>
        <p:grpSpPr>
          <a:xfrm>
            <a:off x="4103280" y="2339640"/>
            <a:ext cx="684720" cy="719640"/>
            <a:chOff x="4103280" y="2339640"/>
            <a:chExt cx="684720" cy="719640"/>
          </a:xfrm>
        </p:grpSpPr>
        <p:cxnSp>
          <p:nvCxnSpPr>
            <p:cNvPr id="256" name="Прямая со стрелкой 8"/>
            <p:cNvCxnSpPr/>
            <p:nvPr/>
          </p:nvCxnSpPr>
          <p:spPr>
            <a:xfrm>
              <a:off x="4103280" y="2339640"/>
              <a:ext cx="68508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57" name="Прямая соединительная линия 12"/>
            <p:cNvSpPr/>
            <p:nvPr/>
          </p:nvSpPr>
          <p:spPr>
            <a:xfrm>
              <a:off x="4103640" y="2340000"/>
              <a:ext cx="0" cy="71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Группа 14"/>
          <p:cNvGrpSpPr/>
          <p:nvPr/>
        </p:nvGrpSpPr>
        <p:grpSpPr>
          <a:xfrm>
            <a:off x="718920" y="2312640"/>
            <a:ext cx="1368720" cy="721080"/>
            <a:chOff x="718920" y="2312640"/>
            <a:chExt cx="1368720" cy="721080"/>
          </a:xfrm>
        </p:grpSpPr>
        <p:cxnSp>
          <p:nvCxnSpPr>
            <p:cNvPr id="259" name="Прямая со стрелкой 15"/>
            <p:cNvCxnSpPr/>
            <p:nvPr/>
          </p:nvCxnSpPr>
          <p:spPr>
            <a:xfrm>
              <a:off x="718920" y="2312640"/>
              <a:ext cx="136908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60" name="Прямая соединительная линия 16"/>
            <p:cNvSpPr/>
            <p:nvPr/>
          </p:nvSpPr>
          <p:spPr>
            <a:xfrm>
              <a:off x="719280" y="2313000"/>
              <a:ext cx="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" name="Text Box 13"/>
          <p:cNvSpPr/>
          <p:nvPr/>
        </p:nvSpPr>
        <p:spPr>
          <a:xfrm>
            <a:off x="735120" y="1547640"/>
            <a:ext cx="30812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 м/м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3"/>
          <p:cNvSpPr/>
          <p:nvPr/>
        </p:nvSpPr>
        <p:spPr>
          <a:xfrm>
            <a:off x="4095720" y="1700280"/>
            <a:ext cx="30812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 м/м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3"/>
          <p:cNvSpPr/>
          <p:nvPr/>
        </p:nvSpPr>
        <p:spPr>
          <a:xfrm>
            <a:off x="1695600" y="3995640"/>
            <a:ext cx="30794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4767120" y="3995640"/>
            <a:ext cx="30816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р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184"/>
          <p:cNvSpPr/>
          <p:nvPr/>
        </p:nvSpPr>
        <p:spPr>
          <a:xfrm>
            <a:off x="3930480" y="276120"/>
            <a:ext cx="5257800" cy="14040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d = S – (V</a:t>
            </a:r>
            <a:r>
              <a:rPr b="1" lang="ru-RU" sz="4000" spc="-1" strike="noStrike" baseline="-25000">
                <a:solidFill>
                  <a:srgbClr val="006600"/>
                </a:solidFill>
                <a:latin typeface="Times New Roman"/>
                <a:ea typeface="Times New Roman"/>
              </a:rPr>
              <a:t>б</a:t>
            </a:r>
            <a:r>
              <a:rPr b="1" lang="en-US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– V</a:t>
            </a:r>
            <a:r>
              <a:rPr b="1" lang="ru-RU" sz="4000" spc="-1" strike="noStrike" baseline="-25000">
                <a:solidFill>
                  <a:srgbClr val="006600"/>
                </a:solidFill>
                <a:latin typeface="Times New Roman"/>
                <a:ea typeface="Times New Roman"/>
              </a:rPr>
              <a:t>м</a:t>
            </a:r>
            <a:r>
              <a:rPr b="1" lang="en-US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∙ 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Box 23"/>
          <p:cNvSpPr/>
          <p:nvPr/>
        </p:nvSpPr>
        <p:spPr>
          <a:xfrm>
            <a:off x="1728000" y="5796000"/>
            <a:ext cx="692748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машнее задание: стр. 98, № 3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. 100, № 12 (а, б, в, г, д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Овал 24"/>
          <p:cNvSpPr/>
          <p:nvPr/>
        </p:nvSpPr>
        <p:spPr>
          <a:xfrm>
            <a:off x="6056280" y="3897360"/>
            <a:ext cx="503280" cy="79200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06:44:04Z</dcterms:created>
  <dc:creator>Денис</dc:creator>
  <dc:description/>
  <dc:language>en-US</dc:language>
  <cp:lastModifiedBy>Евгения</cp:lastModifiedBy>
  <dcterms:modified xsi:type="dcterms:W3CDTF">2015-04-16T09:56:00Z</dcterms:modified>
  <cp:revision>17</cp:revision>
  <dc:subject/>
  <dc:title>16 февраля. Классная работа.</dc:title>
</cp:coreProperties>
</file>