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C32-826A-420F-86C5-C3272D87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F7D-C4EA-406C-B3A6-9E330A72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795-F2B7-490E-B8EB-E682428D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571-4E6C-4793-9579-1C336628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D77-5DDD-47E7-AA9E-4F9372CF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8AA-3B62-49BE-8A4B-4AFCE3FB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155-83B6-4085-8650-190D92BA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DE4-0E01-4B69-8502-96B79609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BE4-D353-4F32-B086-5E78844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D11-79E2-45C2-80E3-6A6BA498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FFE-0104-4C47-AEFB-85757A4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818-57FF-467F-BEDB-E461261D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3B6F-D8E1-4DC2-B6E1-32FED4F334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10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Окружающий мир- это мир, который нас объединяет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040" y="1219320"/>
            <a:ext cx="5334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2"/>
                </a:solidFill>
                <a:latin typeface="Arial"/>
              </a:rPr>
              <a:t>И твердит природы голос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52"/>
                </a:solidFill>
                <a:latin typeface="Arial"/>
              </a:rPr>
              <a:t>в вашей вла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52"/>
                </a:solidFill>
                <a:latin typeface="Arial"/>
              </a:rPr>
              <a:t>в вашей вла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52"/>
                </a:solidFill>
                <a:latin typeface="Arial"/>
              </a:rPr>
              <a:t>чтобы все не раскололо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2"/>
                </a:solidFill>
                <a:latin typeface="Arial"/>
              </a:rPr>
              <a:t>на бессмысленные ч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10-11-09_0649"/>
          <p:cNvPicPr/>
          <p:nvPr/>
        </p:nvPicPr>
        <p:blipFill>
          <a:blip r:embed="rId2"/>
          <a:stretch/>
        </p:blipFill>
        <p:spPr>
          <a:xfrm>
            <a:off x="23760" y="1066680"/>
            <a:ext cx="210996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01"/>
          <p:cNvPicPr/>
          <p:nvPr/>
        </p:nvPicPr>
        <p:blipFill>
          <a:blip r:embed="rId3"/>
          <a:stretch/>
        </p:blipFill>
        <p:spPr>
          <a:xfrm>
            <a:off x="5334120" y="42670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-15228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Методы рабо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2"/>
                </a:solidFill>
                <a:latin typeface="Arial"/>
              </a:rPr>
              <a:t>Оценивание процесса выпол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2"/>
                </a:solidFill>
                <a:latin typeface="Arial"/>
              </a:rPr>
              <a:t>Самоанал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2"/>
                </a:solidFill>
                <a:latin typeface="Arial"/>
              </a:rPr>
              <a:t>Создание портфолио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2"/>
                </a:solidFill>
                <a:latin typeface="Arial"/>
              </a:rPr>
              <a:t>Наблю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2"/>
                </a:solidFill>
                <a:latin typeface="Arial"/>
              </a:rPr>
              <a:t>Открытый 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2"/>
                </a:solidFill>
                <a:latin typeface="Arial"/>
              </a:rPr>
              <a:t>Выбор от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2"/>
                </a:solidFill>
                <a:latin typeface="Arial"/>
              </a:rPr>
              <a:t>Краткий 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3809880" y="25146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Система подготовки урока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9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Цели и задачи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Планируемые результ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Оборуд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Предваритель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Ход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Учет особ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регионального компонента учебного пл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Физкультмину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2"/>
                </a:solidFill>
                <a:latin typeface="Arial"/>
              </a:rPr>
              <a:t>Рекомендуемая для занятий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Arial"/>
              </a:rPr>
              <a:t>Принципы работы.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4267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Практико-ориентированный характер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Перенос акцента с традиционно-доминирующей , сугубо практической значимости окружающей природы на её эстетическую, познавательную, нравственную це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28600" y="5181480"/>
            <a:ext cx="9220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2"/>
                </a:solidFill>
                <a:latin typeface="Arial"/>
              </a:rPr>
              <a:t>Принцип культурного многообразия и поликонфессиональности явлений, характерных для природы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Итоги работы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Успеваемость по предмету «Окружающий мир»-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Качество знаний-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Участие в городском конкурсе « Я- исследовател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Участие в экологическом рейде «Чистый горо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Посещение музея природы в с. Черн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Organization Chart 18"/>
          <p:cNvGrpSpPr/>
          <p:nvPr/>
        </p:nvGrpSpPr>
        <p:grpSpPr>
          <a:xfrm>
            <a:off x="3505320" y="3048120"/>
            <a:ext cx="5257440" cy="3278520"/>
            <a:chOff x="3505320" y="3048120"/>
            <a:chExt cx="5257440" cy="3278520"/>
          </a:xfrm>
        </p:grpSpPr>
        <p:cxnSp>
          <p:nvCxnSpPr>
            <p:cNvPr id="83" name="_s1028"/>
            <p:cNvCxnSpPr>
              <a:stCxn id="84" idx="0"/>
              <a:endCxn id="85" idx="2"/>
            </p:cNvCxnSpPr>
            <p:nvPr/>
          </p:nvCxnSpPr>
          <p:spPr>
            <a:xfrm flipV="1" rot="16200000">
              <a:off x="6725520" y="3766680"/>
              <a:ext cx="656280" cy="1840680"/>
            </a:xfrm>
            <a:prstGeom prst="bentConnector3">
              <a:avLst>
                <a:gd name="adj1" fmla="val 208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" name="_s1029"/>
            <p:cNvCxnSpPr>
              <a:stCxn id="87" idx="0"/>
              <a:endCxn id="85" idx="2"/>
            </p:cNvCxnSpPr>
            <p:nvPr/>
          </p:nvCxnSpPr>
          <p:spPr>
            <a:xfrm flipV="1">
              <a:off x="6134040" y="4358880"/>
              <a:ext cx="2160" cy="656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" name="_s1030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4886640" y="3767400"/>
              <a:ext cx="656280" cy="1839240"/>
            </a:xfrm>
            <a:prstGeom prst="bentConnector3">
              <a:avLst>
                <a:gd name="adj1" fmla="val 208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5" name="_s1031"/>
            <p:cNvSpPr/>
            <p:nvPr/>
          </p:nvSpPr>
          <p:spPr>
            <a:xfrm>
              <a:off x="5345280" y="3048120"/>
              <a:ext cx="1577160" cy="131148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99"/>
                  </a:solidFill>
                  <a:latin typeface="Arial"/>
                </a:rPr>
                <a:t>Систем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cc0099"/>
                  </a:solidFill>
                  <a:latin typeface="Arial"/>
                </a:rPr>
                <a:t>работы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_s1032"/>
            <p:cNvSpPr/>
            <p:nvPr/>
          </p:nvSpPr>
          <p:spPr>
            <a:xfrm>
              <a:off x="3505320" y="5015160"/>
              <a:ext cx="1577160" cy="131148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99"/>
                  </a:solidFill>
                  <a:latin typeface="Arial"/>
                </a:rPr>
                <a:t>Качеств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99"/>
                  </a:solidFill>
                  <a:latin typeface="Arial"/>
                </a:rPr>
                <a:t>знан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1033"/>
            <p:cNvSpPr/>
            <p:nvPr/>
          </p:nvSpPr>
          <p:spPr>
            <a:xfrm>
              <a:off x="5345280" y="5015160"/>
              <a:ext cx="1577160" cy="131148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0099"/>
                  </a:solidFill>
                  <a:latin typeface="Arial"/>
                </a:rPr>
                <a:t>Победы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0099"/>
                  </a:solidFill>
                  <a:latin typeface="Arial"/>
                </a:rPr>
                <a:t>в городски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0099"/>
                  </a:solidFill>
                  <a:latin typeface="Arial"/>
                </a:rPr>
                <a:t>и областны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cc0099"/>
                  </a:solidFill>
                  <a:latin typeface="Arial"/>
                </a:rPr>
                <a:t>конкурса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1034"/>
            <p:cNvSpPr/>
            <p:nvPr/>
          </p:nvSpPr>
          <p:spPr>
            <a:xfrm>
              <a:off x="7185600" y="5015160"/>
              <a:ext cx="1577160" cy="131148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c0099"/>
                  </a:solidFill>
                  <a:latin typeface="Arial"/>
                </a:rPr>
                <a:t>Развит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c0099"/>
                  </a:solidFill>
                  <a:latin typeface="Arial"/>
                </a:rPr>
                <a:t>исследовательской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c0099"/>
                  </a:solidFill>
                  <a:latin typeface="Arial"/>
                </a:rPr>
                <a:t>инициативы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Arial"/>
              </a:rPr>
              <a:t>Задачи образования </a:t>
            </a:r>
            <a:br>
              <a:rPr sz="4800"/>
            </a:br>
            <a:r>
              <a:rPr b="0" lang="en-US" sz="4800" spc="-1" strike="noStrike">
                <a:solidFill>
                  <a:srgbClr val="cc0099"/>
                </a:solidFill>
                <a:latin typeface="Arial"/>
              </a:rPr>
              <a:t>в начальной школе: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105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Формирование предметных и универсальных способов действий, обеспечивающих возможности продолжения образования в основной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Развитие способностей и самоорганизации с целью решения учебных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304920" y="464832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Создание психолого-педагогических условий для индивидуального прогресса в основных сферах личностного развития с опорой на систему  культурных ценностей Российского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Значение курса «Окружающий мир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4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2"/>
                </a:solidFill>
                <a:latin typeface="Arial"/>
              </a:rPr>
              <a:t>В ходе изучения курса «Окружающий мир» школьники овладевают основами практико-ориентированных знаний о человеке, природе, обществе, истории, осмысливать причинно-следственные связи в окружающем мире, в том числе на многообразном материале природы и культуры родного кр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храм"/>
          <p:cNvPicPr/>
          <p:nvPr/>
        </p:nvPicPr>
        <p:blipFill>
          <a:blip r:embed="rId2"/>
          <a:stretch/>
        </p:blipFill>
        <p:spPr>
          <a:xfrm>
            <a:off x="7543800" y="47242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MG_3693"/>
          <p:cNvPicPr/>
          <p:nvPr/>
        </p:nvPicPr>
        <p:blipFill>
          <a:blip r:embed="rId3"/>
          <a:stretch/>
        </p:blipFill>
        <p:spPr>
          <a:xfrm>
            <a:off x="3429000" y="4662360"/>
            <a:ext cx="2925720" cy="219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Изображение 087"/>
          <p:cNvPicPr/>
          <p:nvPr/>
        </p:nvPicPr>
        <p:blipFill>
          <a:blip r:embed="rId4"/>
          <a:srcRect l="0" t="0" r="0" b="16410"/>
          <a:stretch/>
        </p:blipFill>
        <p:spPr>
          <a:xfrm>
            <a:off x="228600" y="4648320"/>
            <a:ext cx="198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Цель изучения курса</a:t>
            </a:r>
            <a:br>
              <a:rPr sz="4400"/>
            </a:b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«Окружающий мир»</a:t>
            </a:r>
            <a:br>
              <a:rPr sz="4400"/>
            </a:b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в начальной школ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38098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Формирование целостной картины мира и осознание места в нем человека на основе единства рационально-научного познания и эмоционально-ценностного осмысления ребенком личного опыта общения с людьми, обществом и приро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739067"/>
          <p:cNvPicPr/>
          <p:nvPr/>
        </p:nvPicPr>
        <p:blipFill>
          <a:blip r:embed="rId2"/>
          <a:stretch/>
        </p:blipFill>
        <p:spPr>
          <a:xfrm>
            <a:off x="3809880" y="213372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Задачи изучения курса</a:t>
            </a:r>
            <a:br>
              <a:rPr sz="4400"/>
            </a:b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«Окружающий мир»</a:t>
            </a:r>
            <a:br>
              <a:rPr sz="4400"/>
            </a:b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в начальной школе</a:t>
            </a: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52280" y="2209680"/>
            <a:ext cx="48765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2"/>
                </a:solidFill>
                <a:latin typeface="Arial"/>
              </a:rPr>
              <a:t>Рационально развивать логическое и эмоционально-образное мышление, интегрируя интеллектуальные и эмоциональные способы познания мира, собственнонаучные знания о н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2"/>
                </a:solidFill>
                <a:latin typeface="Arial"/>
              </a:rPr>
              <a:t>Создавать условия для самостоятельного получения новых знаний, новых способов взаимодействия с учебным материа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13"/>
          <p:cNvPicPr/>
          <p:nvPr/>
        </p:nvPicPr>
        <p:blipFill>
          <a:blip r:embed="rId2"/>
          <a:stretch/>
        </p:blipFill>
        <p:spPr>
          <a:xfrm>
            <a:off x="4800600" y="18288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a00076"/>
          <p:cNvPicPr/>
          <p:nvPr/>
        </p:nvPicPr>
        <p:blipFill>
          <a:blip r:embed="rId3"/>
          <a:stretch/>
        </p:blipFill>
        <p:spPr>
          <a:xfrm>
            <a:off x="4800600" y="4952880"/>
            <a:ext cx="4343400" cy="190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Задачи изучения курса</a:t>
            </a:r>
            <a:br>
              <a:rPr sz="4400"/>
            </a:b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«Окружающий мир»</a:t>
            </a:r>
            <a:br>
              <a:rPr sz="4400"/>
            </a:b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в начальной школ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Выделять опорные моменты в процессе познания , которые будут  выполнять подводящую, раскрывающую, дополняющую, углубляющую знания фун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2"/>
                </a:solidFill>
                <a:latin typeface="Arial"/>
              </a:rPr>
              <a:t>Побуждать учащихся к творческому поиску вариантов решения учебных задач и способов действия, к высказыванию умозаключений, выдвижению предположений и их провер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паропаоапо"/>
          <p:cNvPicPr/>
          <p:nvPr/>
        </p:nvPicPr>
        <p:blipFill>
          <a:blip r:embed="rId2"/>
          <a:srcRect l="0" t="0" r="0" b="48456"/>
          <a:stretch/>
        </p:blipFill>
        <p:spPr>
          <a:xfrm>
            <a:off x="5334120" y="4724280"/>
            <a:ext cx="35812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Актуальность рассмотрения данного раздела программы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00240" y="1676520"/>
            <a:ext cx="404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2"/>
                </a:solidFill>
                <a:latin typeface="Arial"/>
              </a:rPr>
              <a:t>За период работы в начальной школе создана библиотека и медиатека электронных средств об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2"/>
                </a:solidFill>
                <a:latin typeface="Arial"/>
              </a:rPr>
              <a:t>На уроки данной темы приглашаются специалисты комитета  экологии и природополь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2"/>
                </a:solidFill>
                <a:latin typeface="Arial"/>
              </a:rPr>
              <a:t>Проводится сравнительный анализ средств художественной выразительности при  чтении научно-популярного и художественного текс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IMG_0827"/>
          <p:cNvPicPr/>
          <p:nvPr/>
        </p:nvPicPr>
        <p:blipFill>
          <a:blip r:embed="rId2"/>
          <a:stretch/>
        </p:blipFill>
        <p:spPr>
          <a:xfrm>
            <a:off x="685800" y="1523880"/>
            <a:ext cx="37386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Этапы работ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2"/>
                </a:solidFill>
                <a:latin typeface="Arial"/>
              </a:rPr>
              <a:t>Чтение заголовка, осмысление цели дальнейшего чтения, элементарное прогнозирование содерж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2"/>
                </a:solidFill>
                <a:latin typeface="Arial"/>
              </a:rPr>
              <a:t>Структурированный сбор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2"/>
                </a:solidFill>
                <a:latin typeface="Arial"/>
              </a:rPr>
              <a:t>Трансформирование текстовой информации в другие виды: схемы, таблицы, алгоритмы, рисунки, графики, диаграммы, синквейны, кластеры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-30492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Диагностический инструментарий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8798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2"/>
                </a:solidFill>
                <a:latin typeface="Arial"/>
              </a:rPr>
              <a:t>Анкет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2"/>
                </a:solidFill>
                <a:latin typeface="Arial"/>
              </a:rPr>
              <a:t>Мониторинг отдельных знаниевых компонентов с последующей аналитической  обработ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2"/>
                </a:solidFill>
                <a:latin typeface="Arial"/>
              </a:rPr>
              <a:t>Контрольные сре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2"/>
                </a:solidFill>
                <a:latin typeface="Arial"/>
              </a:rPr>
              <a:t>Тематическое и итоговое 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2"/>
                </a:solidFill>
                <a:latin typeface="Arial"/>
              </a:rPr>
              <a:t>Реставрация текстов</a:t>
            </a:r>
            <a:r>
              <a:rPr b="0" lang="ru-RU" sz="2800" spc="-1" strike="noStrike">
                <a:solidFill>
                  <a:srgbClr val="00005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306_8</cp:lastModifiedBy>
  <dcterms:modified xsi:type="dcterms:W3CDTF">2015-04-16T07:04:57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