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4.jpeg" ContentType="image/jpeg"/>
  <Override PartName="/ppt/media/image2.png" ContentType="image/png"/>
  <Override PartName="/ppt/media/image8.gif" ContentType="image/gif"/>
  <Override PartName="/ppt/media/image5.gif" ContentType="image/gif"/>
  <Override PartName="/ppt/media/image30.gif" ContentType="image/gif"/>
  <Override PartName="/ppt/media/image15.png" ContentType="image/png"/>
  <Override PartName="/ppt/media/image6.gif" ContentType="image/gif"/>
  <Override PartName="/ppt/media/image7.gif" ContentType="image/gif"/>
  <Override PartName="/ppt/media/image9.jpeg" ContentType="image/jpeg"/>
  <Override PartName="/ppt/media/image11.jpeg" ContentType="image/jpeg"/>
  <Override PartName="/ppt/media/image23.wmf" ContentType="image/x-wmf"/>
  <Override PartName="/ppt/media/image12.png" ContentType="image/png"/>
  <Override PartName="/ppt/media/image13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gif" ContentType="image/gif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FA0-F024-4F26-A247-62951F3F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B2D-CB19-4175-8772-2163831E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404-EA51-4741-BC1A-80B3A655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D22-4C32-4E90-9133-9385A0F6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5837-B689-4831-A4CC-D220C93F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496F-B44D-4346-8E5A-8F6394B8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81E1-EDD0-477E-A281-33D726A0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A18-36EE-4D12-810B-F557BF66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5431-3D64-4036-896B-238025D6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DAC3-2408-4E33-923C-A48F7B54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DBEA-DE6D-4B6C-92CF-1BB93E96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63E-D0EB-45C8-8057-FF592B3C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D153-F6D9-4578-AEF5-53285FF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991C-6C4A-472E-BF74-83594014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EC60-A05F-4390-9CF2-5A514F69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4827-157C-444F-BF14-E32AED5A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D76A-54E5-46B1-B6C0-D4D95611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8356-30B5-46C6-923B-ECFABCEB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EBE1-3C6E-4810-812F-B412ACB0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5D8D-CE04-4220-AFC6-355236B8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811E-5F06-4133-8900-359C7C1E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5A55-220F-4FBA-92FF-530C11C3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7FC-D242-4186-B3E8-39460500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2821-575F-461C-986C-297ABAD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DC00-5D13-4ADB-82EC-B6ED8E8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2872-F102-4153-86B3-0805287E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D8E0-A427-4772-9F3B-90C4D363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32FF-3E71-4FC4-9849-C86748CF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C906-68A8-4A93-A213-127CF7C2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DAC8-BE86-48AB-AA85-40664E3F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50E-B615-491F-9D87-7845771B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2FC-B753-465F-A484-E4D42BD5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3E7-0049-4138-ACBB-0611991B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D7C-780E-4D0D-A11E-11135036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6E2-C184-4A5C-8023-517DE382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409-8031-41AA-867D-28EFBA9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FE7F-C9B8-4EBB-9559-9DFB22ED7F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80AE-126B-425F-A407-5CFA2C9E8A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028D-0987-42A0-BE90-6BB0896665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supercoolpics.com/wp-content/uploads/2013/07/supercoolpics_01_24072013104644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\\Anatolyvideo\фотобанк\clipart\ОБЩАЯ\книга на столе.jpg"/>
          <p:cNvPicPr/>
          <p:nvPr/>
        </p:nvPicPr>
        <p:blipFill>
          <a:blip r:embed="rId2"/>
          <a:stretch/>
        </p:blipFill>
        <p:spPr>
          <a:xfrm>
            <a:off x="1692360" y="1557360"/>
            <a:ext cx="5400720" cy="355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Россия. Старое Аракчино, Казань. Храм всех религий. (Yulia Baturina)">
            <a:hlinkClick r:id="rId3"/>
          </p:cNvPr>
          <p:cNvPicPr/>
          <p:nvPr/>
        </p:nvPicPr>
        <p:blipFill>
          <a:blip r:embed="rId4"/>
          <a:srcRect l="16599" t="3489" r="17644" b="16281"/>
          <a:stretch/>
        </p:blipFill>
        <p:spPr>
          <a:xfrm>
            <a:off x="900000" y="1463760"/>
            <a:ext cx="7201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5cb1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69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дин опыт я ставлю выше, чем тысячу мнений, рожденных только воображением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.В.Ломонос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4" descr="i?id=0157f7a2eedd487f5e2c8739ac3c743f-110-144&amp;n=21"/>
          <p:cNvPicPr/>
          <p:nvPr/>
        </p:nvPicPr>
        <p:blipFill>
          <a:blip r:embed="rId2"/>
          <a:stretch/>
        </p:blipFill>
        <p:spPr>
          <a:xfrm>
            <a:off x="324000" y="765000"/>
            <a:ext cx="39607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груп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Исследование работы силы тяги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груп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Исследование работы силы трения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груп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Исследование работы силы тяжести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груп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Исследование работы силы давления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995640" y="12682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79280" y="3716280"/>
            <a:ext cx="280836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↑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&gt;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276720" y="2924280"/>
            <a:ext cx="287964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↑↓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&lt;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227640" y="3789360"/>
            <a:ext cx="259236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┴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=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Line 11"/>
          <p:cNvSpPr/>
          <p:nvPr/>
        </p:nvSpPr>
        <p:spPr>
          <a:xfrm flipH="1">
            <a:off x="1547640" y="1773360"/>
            <a:ext cx="2664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4572000" y="191628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4932360" y="1844640"/>
            <a:ext cx="251928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14" descr=""/>
          <p:cNvPicPr/>
          <p:nvPr/>
        </p:nvPicPr>
        <p:blipFill>
          <a:blip r:embed="rId2"/>
          <a:srcRect l="32004" t="57087" r="43902" b="29035"/>
          <a:stretch/>
        </p:blipFill>
        <p:spPr>
          <a:xfrm>
            <a:off x="179280" y="4653000"/>
            <a:ext cx="2808360" cy="107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"/>
          <p:cNvPicPr/>
          <p:nvPr/>
        </p:nvPicPr>
        <p:blipFill>
          <a:blip r:embed="rId3"/>
          <a:srcRect l="31542" t="55615" r="47593" b="29035"/>
          <a:stretch/>
        </p:blipFill>
        <p:spPr>
          <a:xfrm>
            <a:off x="3348000" y="3813120"/>
            <a:ext cx="2736720" cy="1147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"/>
          <p:cNvPicPr/>
          <p:nvPr/>
        </p:nvPicPr>
        <p:blipFill>
          <a:blip r:embed="rId4"/>
          <a:srcRect l="33479" t="57087" r="49530" b="28543"/>
          <a:stretch/>
        </p:blipFill>
        <p:spPr>
          <a:xfrm>
            <a:off x="6227640" y="4791240"/>
            <a:ext cx="25923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стные случа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=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≠0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=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≠0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=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rcRect l="34309" t="41344" r="34862" b="23622"/>
          <a:stretch/>
        </p:blipFill>
        <p:spPr>
          <a:xfrm>
            <a:off x="4859280" y="2565360"/>
            <a:ext cx="40338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rcRect l="36246" t="46752" r="36246" b="19193"/>
          <a:stretch/>
        </p:blipFill>
        <p:spPr>
          <a:xfrm>
            <a:off x="468360" y="2565360"/>
            <a:ext cx="3816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Физическая пауз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Picture 7" descr="смайл танцует"/>
          <p:cNvPicPr/>
          <p:nvPr/>
        </p:nvPicPr>
        <p:blipFill>
          <a:blip r:embed="rId2"/>
          <a:stretch/>
        </p:blipFill>
        <p:spPr>
          <a:xfrm>
            <a:off x="3564000" y="2979720"/>
            <a:ext cx="27795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верь свои знания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Механическая работа совершается, когд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00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тело действует сила и оно движет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гд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ло движет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ействует сил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Механическая работа обозначается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805040"/>
            <a:ext cx="3989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Единицей работы является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00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/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Механическая работа определяется по формул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=s/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=F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=F/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=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baby18"/>
          <p:cNvPicPr/>
          <p:nvPr/>
        </p:nvPicPr>
        <p:blipFill>
          <a:blip r:embed="rId2"/>
          <a:stretch/>
        </p:blipFill>
        <p:spPr>
          <a:xfrm>
            <a:off x="3564000" y="2205000"/>
            <a:ext cx="2095560" cy="3046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51280" y="76500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ереведите  0,5кДж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 Д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00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0Д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00 Д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 Д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000 Д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Механическая работа будет положительной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сила перпендикулярна направлению движ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 всех случа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направления движения и силы совпадаю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направления движения и силы противополож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абота силы равна нулю, когда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00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правления движения и силы противополож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правления движения и силы совпадаю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 всех случа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ила перпендикулярна направлению движ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 каком случае совершается рабо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00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столе стоит гир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да давит на стенку сосуд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да падает с плоти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человек пытается поднять тяжелый гру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9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акая сила совершает работу в случае подъема воздушного шара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ила тяже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ила тяг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имедова си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ила тр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0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какое расстояние переместилось тело, если была совершена работа 48 Дж и тело перемещалось под действием силы 12Н?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7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0,25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м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,5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0,4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ченик, масса которого 35кг поднялся на 3 этаж, высота которого 7м. Какую механическую работу выполнил ученик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тог урока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то нового узнали на уроке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акой ученик в начале урока не совершал механической работы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53, упр.28 (1,3,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ределить работу, совершенную при подъеме с первого до своего этажа дом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8" name="Picture 4" descr="смайл"/>
          <p:cNvPicPr/>
          <p:nvPr/>
        </p:nvPicPr>
        <p:blipFill>
          <a:blip r:embed="rId2"/>
          <a:stretch/>
        </p:blipFill>
        <p:spPr>
          <a:xfrm>
            <a:off x="3995640" y="2852640"/>
            <a:ext cx="155124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Calibri"/>
              </a:rPr>
              <a:t>Из словаря В.Дал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Работа - труд, занятие, дело, упражнение, т.е. всякое полезное действие человека или устройства. Все, что требует усилий, старанья, напряжения телесных или умственных си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4" descr="27gif"/>
          <p:cNvPicPr/>
          <p:nvPr/>
        </p:nvPicPr>
        <p:blipFill>
          <a:blip r:embed="rId2"/>
          <a:stretch/>
        </p:blipFill>
        <p:spPr>
          <a:xfrm>
            <a:off x="6804000" y="4076640"/>
            <a:ext cx="1400040" cy="2543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444"/>
          <p:cNvPicPr/>
          <p:nvPr/>
        </p:nvPicPr>
        <p:blipFill>
          <a:blip r:embed="rId3"/>
          <a:stretch/>
        </p:blipFill>
        <p:spPr>
          <a:xfrm>
            <a:off x="7740720" y="1125360"/>
            <a:ext cx="1141200" cy="187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11"/>
          <p:cNvPicPr/>
          <p:nvPr/>
        </p:nvPicPr>
        <p:blipFill>
          <a:blip r:embed="rId4"/>
          <a:stretch/>
        </p:blipFill>
        <p:spPr>
          <a:xfrm>
            <a:off x="2484360" y="4365720"/>
            <a:ext cx="2095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еханическая работ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зучить понятие механической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становить зависимость механической работы от величи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7" descr="poncelet_1_s"/>
          <p:cNvPicPr/>
          <p:nvPr/>
        </p:nvPicPr>
        <p:blipFill>
          <a:blip r:embed="rId2"/>
          <a:stretch/>
        </p:blipFill>
        <p:spPr>
          <a:xfrm>
            <a:off x="5940360" y="145584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6084720" y="4437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Жан Виктор Понселе 1788 г. - 1867г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24000" y="1407240"/>
            <a:ext cx="56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рмин «механическая работа» был введен в физику в 1826 г. французским ученым        Ж. Понселе: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Механическая работа —   это постоянное преодоление сопротивлений силой, действующей вдоль пути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 – механическая рабо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050920" y="1484280"/>
            <a:ext cx="17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~ F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0" y="14842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~ 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9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F 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rcRect l="26599" t="0" r="49474" b="0"/>
          <a:stretch/>
        </p:blipFill>
        <p:spPr>
          <a:xfrm>
            <a:off x="4932360" y="2606760"/>
            <a:ext cx="3816360" cy="3543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rcRect l="50526" t="0" r="28476" b="0"/>
          <a:stretch/>
        </p:blipFill>
        <p:spPr>
          <a:xfrm>
            <a:off x="684360" y="1773360"/>
            <a:ext cx="3816360" cy="3508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еханическая работ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совершается только тогда, когда на тело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ействует сил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л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емещает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под действием этой сил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Единицы измер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4" descr="Джеймс Прескотт Джоуль (1818–1889)"/>
          <p:cNvPicPr/>
          <p:nvPr/>
        </p:nvPicPr>
        <p:blipFill>
          <a:blip r:embed="rId2"/>
          <a:stretch/>
        </p:blipFill>
        <p:spPr>
          <a:xfrm>
            <a:off x="6156360" y="1484280"/>
            <a:ext cx="2392200" cy="3240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084720" y="494172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жеймс Прескотт Джоуль (1818–188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3">
            <a:lum bright="50000"/>
          </a:blip>
          <a:stretch/>
        </p:blipFill>
        <p:spPr>
          <a:xfrm>
            <a:off x="1116000" y="1700280"/>
            <a:ext cx="4105440" cy="100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1258920" y="3574080"/>
            <a:ext cx="41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кДж=1000Дж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МДж=1000000Дж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мДж=0,001Дж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0:20:57Z</dcterms:created>
  <dc:creator>User</dc:creator>
  <dc:description/>
  <dc:language>en-US</dc:language>
  <cp:lastModifiedBy>Liliya</cp:lastModifiedBy>
  <dcterms:modified xsi:type="dcterms:W3CDTF">2015-04-13T18:07:05Z</dcterms:modified>
  <cp:revision>37</cp:revision>
  <dc:subject/>
  <dc:title>Презентация PowerPoint</dc:title>
</cp:coreProperties>
</file>