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61163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AAE9-06B0-4F49-85D6-1C4734C8C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3231-CD70-40DC-9365-32AF0CFC6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A132-D0DF-49C2-8030-2E73A41DD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0265-9123-4A7F-B781-485B44A31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C1BD0-F736-49A8-9DBA-BBA3C1767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9321A-24E2-4EA8-BD01-9E9D76B06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29788-1D8E-4B92-8BA1-1865D7FBB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67E47-65D7-428F-8C48-7D2247A86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39625-BE29-4A24-B6AF-3FE108F7A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F69C2-7552-4ED3-8B6C-48D97A29D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5AFC5-0B9A-4EAD-A6D5-A507FCAD5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3332-728A-4768-B17C-0C5958D9D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D8679-6916-4C0F-8D97-131AD3972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4D012-71CC-41C0-B75E-FFB4B1FC7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C43B1-464A-43CA-8C02-E8F2D7606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9B4D0-41D9-4541-B6DA-E98E2CC08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CD32D-9306-48FF-A405-8220FC8D7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5F3A-436B-4E94-98A2-1D920B486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C15B-886A-4932-81DA-7DA40A2E9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9A66-1348-4A7F-8818-B6D4A9692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8806-81AB-45DF-85B3-D7C94B64C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8F51-044E-40EA-9E12-B2D7CEBC7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ED0E-2ED2-45F8-B7CB-3E49ECB31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8D1A-96F5-4CE0-9D31-4D2650E42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080E6-DA14-40C7-AF7B-AC54E6F8D1C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A1540-5643-4FD8-AE3E-C648FC0226E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1285920" y="188640"/>
            <a:ext cx="695808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"/>
          </a:bodyPr>
          <a:p>
            <a:pPr marL="205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05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«Развития коммуникативной компетентности педагога ДОУ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052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052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052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052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052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052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052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052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052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052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052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052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052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052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полнитель: Ерхова Зоя Станиславовна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0520"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0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0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052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Picture 7" descr="C:\Documents and Settings\User\Рабочий стол\Безымянный.JPG"/>
          <p:cNvPicPr/>
          <p:nvPr/>
        </p:nvPicPr>
        <p:blipFill>
          <a:blip r:embed="rId1"/>
          <a:stretch/>
        </p:blipFill>
        <p:spPr>
          <a:xfrm>
            <a:off x="3571920" y="1857240"/>
            <a:ext cx="2643120" cy="3515040"/>
          </a:xfrm>
          <a:prstGeom prst="rect">
            <a:avLst/>
          </a:prstGeom>
          <a:ln w="0">
            <a:noFill/>
          </a:ln>
        </p:spPr>
      </p:pic>
      <p:sp>
        <p:nvSpPr>
          <p:cNvPr id="164" name="Прямоугольник 8"/>
          <p:cNvSpPr/>
          <p:nvPr/>
        </p:nvSpPr>
        <p:spPr>
          <a:xfrm>
            <a:off x="2987640" y="5950080"/>
            <a:ext cx="3384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Прямоугольник 9"/>
          <p:cNvSpPr/>
          <p:nvPr/>
        </p:nvSpPr>
        <p:spPr>
          <a:xfrm>
            <a:off x="1619280" y="1413000"/>
            <a:ext cx="586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1"/>
          <p:cNvSpPr/>
          <p:nvPr/>
        </p:nvSpPr>
        <p:spPr>
          <a:xfrm>
            <a:off x="0" y="974160"/>
            <a:ext cx="124444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абушка пожаловалась воспитателю на внука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манул ее, сказав, что не он разбил тарелку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акие случаи за ним водились: набедокурит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о не сознается, придумывает что-нибудь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валивает вину на кого-то другого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то вы посоветуете бабушке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Современные подходы к пониманию коммуникативная компетентност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Рисунок 2" descr="Картинки"/>
          <p:cNvPicPr/>
          <p:nvPr/>
        </p:nvPicPr>
        <p:blipFill>
          <a:blip r:embed="rId1"/>
          <a:stretch/>
        </p:blipFill>
        <p:spPr>
          <a:xfrm>
            <a:off x="3419640" y="2060640"/>
            <a:ext cx="2665080" cy="3083040"/>
          </a:xfrm>
          <a:prstGeom prst="rect">
            <a:avLst/>
          </a:prstGeom>
          <a:ln w="0">
            <a:noFill/>
          </a:ln>
        </p:spPr>
      </p:pic>
      <p:sp>
        <p:nvSpPr>
          <p:cNvPr id="168" name="Прямоугольник 3"/>
          <p:cNvSpPr/>
          <p:nvPr/>
        </p:nvSpPr>
        <p:spPr>
          <a:xfrm>
            <a:off x="3719160" y="5661000"/>
            <a:ext cx="173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АШКОВ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ия Лутто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2"/>
          <p:cNvSpPr/>
          <p:nvPr/>
        </p:nvSpPr>
        <p:spPr>
          <a:xfrm>
            <a:off x="-2773440" y="583560"/>
            <a:ext cx="141843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Отсутствие теоретической баз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и методического инструментари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по формирование умений и навык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рационального речевого повед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у воспитателей в работе ДО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рямоугольник 1"/>
          <p:cNvSpPr/>
          <p:nvPr/>
        </p:nvSpPr>
        <p:spPr>
          <a:xfrm>
            <a:off x="431640" y="476280"/>
            <a:ext cx="8712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Прямоугольник 3"/>
          <p:cNvSpPr/>
          <p:nvPr/>
        </p:nvSpPr>
        <p:spPr>
          <a:xfrm>
            <a:off x="2286000" y="1214280"/>
            <a:ext cx="50007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то вы вкладываете в понятие, «эффективная коммуникация»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Прямоугольник 2"/>
          <p:cNvSpPr/>
          <p:nvPr/>
        </p:nvSpPr>
        <p:spPr>
          <a:xfrm>
            <a:off x="357120" y="1071720"/>
            <a:ext cx="83581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ля того чтобы сделать межличностные коммуникации 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ффективными, нужно не только уметь красиво говорить, но еще слушать и слышать, стараться понять, что говорит партнер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1"/>
          <p:cNvSpPr/>
          <p:nvPr/>
        </p:nvSpPr>
        <p:spPr>
          <a:xfrm>
            <a:off x="324000" y="2117880"/>
            <a:ext cx="8820000" cy="40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2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2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2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2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2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2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2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Picture 3" descr="C:\Documents and Settings\Администратор\Мои документы\User\Рабочий стол\фильм\DSCF6671.JPG"/>
          <p:cNvPicPr/>
          <p:nvPr/>
        </p:nvPicPr>
        <p:blipFill>
          <a:blip r:embed="rId1"/>
          <a:stretch/>
        </p:blipFill>
        <p:spPr>
          <a:xfrm>
            <a:off x="1352520" y="920880"/>
            <a:ext cx="6207120" cy="465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2"/>
          <p:cNvSpPr/>
          <p:nvPr/>
        </p:nvSpPr>
        <p:spPr>
          <a:xfrm>
            <a:off x="357120" y="5760"/>
            <a:ext cx="8286840" cy="62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шение проблемных ситуаций с педагогам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ве девочки во время игры «Семья» хотят выполнять роль мамы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зревает ссора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то в этом случае может предпринять педагог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1357200" y="771480"/>
            <a:ext cx="6500880" cy="52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льчик, недавно начавший посещать дошкольное образовательное учреждение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казался дежурить по столово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Это для девчонок работа!» - заявил он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 изменить психологическую установку ребенка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1"/>
          <p:cNvSpPr/>
          <p:nvPr/>
        </p:nvSpPr>
        <p:spPr>
          <a:xfrm>
            <a:off x="1143000" y="1249920"/>
            <a:ext cx="64612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нец рабочего дня в детском саду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Где  там мой неслух? Ну-ка, неисправимый, признавайся, как себя вел?»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 пристрастием допрашивает мать пятилетнего сына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 должен прореагировать педагог, есл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) обычно ребенок ведет себя хорошо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) у матери есть все основания для беспокойства по поводу сына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2T11:34:06Z</dcterms:created>
  <dc:creator>Andrey</dc:creator>
  <dc:description/>
  <dc:language>en-US</dc:language>
  <cp:lastModifiedBy>User</cp:lastModifiedBy>
  <dcterms:modified xsi:type="dcterms:W3CDTF">2015-04-28T15:23:12Z</dcterms:modified>
  <cp:revision>144</cp:revision>
  <dc:subject/>
  <dc:title>Программа Развития  на 2008 – 2011 годы.</dc:title>
</cp:coreProperties>
</file>