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6C8C-FC56-4A08-A164-9AEBACB60C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0393-C212-4A00-AFA5-0A7AB14BE5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260-D48A-4EE8-A702-B97A1651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587-860A-469D-8714-039DE825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0A8-6F64-401F-8676-EA0E3887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510-3C26-4538-84F6-44799256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E26A-E951-4161-8AF0-BDB653F3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2940-C0B3-4CC3-B9D2-63326C0A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E4AE-1DE9-4BE7-B676-1237766C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F599-1148-44F0-9AD0-EB42D0B5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85B5-FBAB-491E-A8F9-19E2D686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1E77-5461-43F6-B5E8-AE6171C8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FE3D-5BAF-4238-8242-F232A28A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F7C-C16D-468E-96FE-1B26C2B3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37E1-818F-42EC-B910-AA5E6BB6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E877-ECFF-447C-9577-14615D94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894E-B660-4962-A9C4-DA105C1E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4A7C-C256-4476-B67A-FBC14EB5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F37E-3001-4DBF-B8A8-E43D8A02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33AD-25D2-4C64-861D-9AF201AF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422EF-6C41-41C8-8BB2-A306408B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31CA7-FF9E-4720-B00A-DFC81C0F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A0F7-841A-43EB-AF74-DFC4FC2C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06C96-4555-45D1-8C00-B21398ED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6CE-3E62-4FA3-9CBF-286965BA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7636C-3D8B-46A9-BA73-29D87EBB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5EB1-C210-426D-9F01-C3CD4A24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5A80-D74A-413E-8B11-3ED95A47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0D66-AB3E-4EE6-BEE1-C2F775A3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2118A-D41F-45D0-8619-192FC7CB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0A626-460F-4558-8D73-E5C14460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876DA-420F-4B9A-9CA8-A1F09360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49999-E9C2-4085-81A5-D719D066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45F74-D51E-4649-A50A-5DB746E6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ECA80-C49D-4EE9-8ADA-02281438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960-91A1-4916-B82E-63D90F12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21FA4-6A56-4055-B565-D1A8CB7D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A05E-C384-4A1D-AE2A-BF79D221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83795-5E2B-4568-B4F8-BB93830A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2EDF8-9C27-49FF-AA08-38DF55DE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03AEE-F25D-44D3-975B-9E2736FA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9A75-5CD4-49D0-9147-D036447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C0046-E206-4DF6-B139-B3465EFC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A57BD-CDFF-4B98-AB48-83A08750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4715D-9110-4D75-ADB2-E2D96127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93D38-19E3-4ED4-BD4F-BA6BF095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1BF-CA26-472F-9BA6-9D5B1C20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ADAE9-AC02-4505-BDBB-B3926C0E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3623B-E744-496E-B381-7F126BFD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89B7D-8362-450B-B20A-0D7BA4AC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82489-3C98-45EC-8A01-9C3EFD34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D6FA8-2923-4135-A35E-F92FDE7F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30507-80E5-4E8B-B121-3031EC14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D933C-1352-4ABA-87FB-56835A05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83CE2-D427-4465-9585-55E7D0A1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CA731-EBAD-4A29-8450-55DE5029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59BAA-51F6-40B5-A4CA-F2226773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373-D963-4154-B823-7678CEEA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7EA0F-2887-4FB5-B962-D0753FC6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9D5AE-F09A-443F-8764-C0B3915D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3A8A9-61B0-4D5E-8700-71069F24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7BDAD-5DA5-4106-B1FF-E7EAE45E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098F5-F296-43BD-BE54-747CD270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4006F-CA0E-4A22-8E42-7D5B06F6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5409A-4193-4CFF-9348-627C38FB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FF4CE-CC6A-4AC8-A263-EB57A273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8DADB-A0A7-426B-89CE-0066CE8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E117D-977E-4AA9-9489-8BEA45E1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601-A47C-49A6-8E5A-5DD2A092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F5A84-1BF3-4C2F-B0DE-0B542BB1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1C2B5-1B16-4387-8CBA-44439E68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867E8-56B8-411E-A529-F701DE6C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A8ED8-5665-47FC-8797-3910009E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6901A-6E3B-4FAE-9223-E68F9D59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5FD6A-FD03-401D-B741-674D6CD4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4DAB4-9AAC-4F58-9D74-8BBB8E41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838E7-D52D-4DE5-88C4-37DD1523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1825F-E371-4517-A92B-AB05D219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805E6-E619-4AEE-8B6E-41A6156E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4DA-DF96-49A8-B81A-7547B59E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E0B7A-AE3F-48C2-B279-35066FF5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2F2DA-657E-4955-AB16-C7BDA530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75891-6B47-4E71-BE19-957E6AFA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D4194-9F22-43CE-AAF5-11BE2E0E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9800C-4DB2-4BDF-8EAE-5D21F3ED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B02-60FB-49D4-8224-C726BD5C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8EB4-618B-41C4-B5E8-C276B154433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EB08-DB5C-403B-AA6F-EF5B8B87840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5EC8-98AE-48F0-B6A0-211E6A56B0F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F939-476B-4B30-8018-44BD5342ABE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C5E5-D3BC-44F7-93D2-399D273E141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7910-D626-48E9-AD77-5CBD86C7FE99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429C-B728-4A1B-87DC-115661361FC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2"/>
          <a:stretch/>
        </p:blipFill>
        <p:spPr>
          <a:xfrm>
            <a:off x="944640" y="353880"/>
            <a:ext cx="7900920" cy="510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3902040" cy="2925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3902400" cy="2925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4"/>
          <a:stretch/>
        </p:blipFill>
        <p:spPr>
          <a:xfrm>
            <a:off x="2050920" y="3500280"/>
            <a:ext cx="3902040" cy="2926080"/>
          </a:xfrm>
          <a:prstGeom prst="rect">
            <a:avLst/>
          </a:prstGeom>
          <a:ln w="0">
            <a:noFill/>
          </a:ln>
        </p:spPr>
      </p:pic>
      <p:sp>
        <p:nvSpPr>
          <p:cNvPr id="345" name="TextBox 2"/>
          <p:cNvSpPr/>
          <p:nvPr/>
        </p:nvSpPr>
        <p:spPr>
          <a:xfrm>
            <a:off x="6300720" y="4149720"/>
            <a:ext cx="2152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курсия на кух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3"/>
          <a:stretch/>
        </p:blipFill>
        <p:spPr>
          <a:xfrm>
            <a:off x="4716360" y="2602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1547640" y="1268280"/>
            <a:ext cx="2152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«Бригада» в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5357880" y="5072040"/>
            <a:ext cx="30718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Не сразу все получае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"/>
          <p:cNvPicPr/>
          <p:nvPr/>
        </p:nvPicPr>
        <p:blipFill>
          <a:blip r:embed="rId2"/>
          <a:stretch/>
        </p:blipFill>
        <p:spPr>
          <a:xfrm>
            <a:off x="1979640" y="836640"/>
            <a:ext cx="6208560" cy="48243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3851280" y="5950080"/>
            <a:ext cx="2797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Результаты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2"/>
          <p:cNvSpPr/>
          <p:nvPr/>
        </p:nvSpPr>
        <p:spPr>
          <a:xfrm>
            <a:off x="5292720" y="5950080"/>
            <a:ext cx="300024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Сюжетно-ролев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«Магаз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6119640" cy="48243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572314"/>
                </a:solidFill>
                <a:latin typeface="Arial"/>
              </a:rPr>
              <a:t>Мы играем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4091040" cy="3168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3713400" cy="41767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2"/>
          <p:cNvSpPr/>
          <p:nvPr/>
        </p:nvSpPr>
        <p:spPr>
          <a:xfrm>
            <a:off x="1619280" y="5157720"/>
            <a:ext cx="300024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Сюжетно-ролев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ья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060360" y="476280"/>
            <a:ext cx="327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72314"/>
                </a:solidFill>
                <a:latin typeface="Arial"/>
              </a:rPr>
              <a:t>Мы игра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2500200" y="2857680"/>
            <a:ext cx="185760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ЦЕП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Рисунок 8" descr="хлеб 001"/>
          <p:cNvPicPr/>
          <p:nvPr/>
        </p:nvPicPr>
        <p:blipFill>
          <a:blip r:embed="rId2"/>
          <a:stretch/>
        </p:blipFill>
        <p:spPr>
          <a:xfrm>
            <a:off x="1258920" y="4508640"/>
            <a:ext cx="2535120" cy="21049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0" descr="хлеб 028"/>
          <p:cNvPicPr/>
          <p:nvPr/>
        </p:nvPicPr>
        <p:blipFill>
          <a:blip r:embed="rId3"/>
          <a:stretch/>
        </p:blipFill>
        <p:spPr>
          <a:xfrm>
            <a:off x="6300720" y="765000"/>
            <a:ext cx="2357640" cy="20098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1" descr="хлеб 004"/>
          <p:cNvPicPr/>
          <p:nvPr/>
        </p:nvPicPr>
        <p:blipFill>
          <a:blip r:embed="rId4"/>
          <a:stretch/>
        </p:blipFill>
        <p:spPr>
          <a:xfrm>
            <a:off x="3924360" y="4653000"/>
            <a:ext cx="2370240" cy="199080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9" descr="хлеб 005"/>
          <p:cNvPicPr/>
          <p:nvPr/>
        </p:nvPicPr>
        <p:blipFill>
          <a:blip r:embed="rId5"/>
          <a:stretch/>
        </p:blipFill>
        <p:spPr>
          <a:xfrm>
            <a:off x="6372360" y="3357720"/>
            <a:ext cx="2546280" cy="2357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6"/>
          <a:stretch/>
        </p:blipFill>
        <p:spPr>
          <a:xfrm>
            <a:off x="1979640" y="404640"/>
            <a:ext cx="3673440" cy="396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2"/>
          <a:stretch/>
        </p:blipFill>
        <p:spPr>
          <a:xfrm>
            <a:off x="1170000" y="268200"/>
            <a:ext cx="8150040" cy="5883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2"/>
          <a:stretch/>
        </p:blipFill>
        <p:spPr>
          <a:xfrm>
            <a:off x="817560" y="133200"/>
            <a:ext cx="8332920" cy="637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2"/>
          <a:stretch/>
        </p:blipFill>
        <p:spPr>
          <a:xfrm>
            <a:off x="1279440" y="268200"/>
            <a:ext cx="7662960" cy="559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6" descr=""/>
          <p:cNvPicPr/>
          <p:nvPr/>
        </p:nvPicPr>
        <p:blipFill>
          <a:blip r:embed="rId2"/>
          <a:stretch/>
        </p:blipFill>
        <p:spPr>
          <a:xfrm>
            <a:off x="1258920" y="476280"/>
            <a:ext cx="3673440" cy="2951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"/>
          <p:cNvPicPr/>
          <p:nvPr/>
        </p:nvPicPr>
        <p:blipFill>
          <a:blip r:embed="rId3"/>
          <a:stretch/>
        </p:blipFill>
        <p:spPr>
          <a:xfrm>
            <a:off x="5076720" y="3357720"/>
            <a:ext cx="3902040" cy="292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12" descr="хлеб 007"/>
          <p:cNvPicPr/>
          <p:nvPr/>
        </p:nvPicPr>
        <p:blipFill>
          <a:blip r:embed="rId2"/>
          <a:stretch/>
        </p:blipFill>
        <p:spPr>
          <a:xfrm>
            <a:off x="4572000" y="3429000"/>
            <a:ext cx="3220920" cy="300996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3" descr="хлеб 002"/>
          <p:cNvPicPr/>
          <p:nvPr/>
        </p:nvPicPr>
        <p:blipFill>
          <a:blip r:embed="rId3"/>
          <a:stretch/>
        </p:blipFill>
        <p:spPr>
          <a:xfrm>
            <a:off x="1619280" y="549360"/>
            <a:ext cx="3176640" cy="24955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3" descr="хлеб 023"/>
          <p:cNvPicPr/>
          <p:nvPr/>
        </p:nvPicPr>
        <p:blipFill>
          <a:blip r:embed="rId4"/>
          <a:stretch/>
        </p:blipFill>
        <p:spPr>
          <a:xfrm>
            <a:off x="1428840" y="3643200"/>
            <a:ext cx="2819160" cy="28670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4" descr="хлеб 030"/>
          <p:cNvPicPr/>
          <p:nvPr/>
        </p:nvPicPr>
        <p:blipFill>
          <a:blip r:embed="rId5"/>
          <a:stretch/>
        </p:blipFill>
        <p:spPr>
          <a:xfrm>
            <a:off x="5857920" y="500040"/>
            <a:ext cx="2705040" cy="322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Рисунок 7" descr="хлеб 018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3143160" y="3214800"/>
            <a:ext cx="3214800" cy="340200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" descr="хлеб 017"/>
          <p:cNvPicPr/>
          <p:nvPr/>
        </p:nvPicPr>
        <p:blipFill>
          <a:blip r:embed="rId3"/>
          <a:stretch/>
        </p:blipFill>
        <p:spPr>
          <a:xfrm>
            <a:off x="5786280" y="857160"/>
            <a:ext cx="2671920" cy="305280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1" descr="хлеб 016"/>
          <p:cNvPicPr/>
          <p:nvPr/>
        </p:nvPicPr>
        <p:blipFill>
          <a:blip r:embed="rId4"/>
          <a:stretch/>
        </p:blipFill>
        <p:spPr>
          <a:xfrm>
            <a:off x="1108080" y="190440"/>
            <a:ext cx="3178080" cy="330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056360" cy="54007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2"/>
          <p:cNvSpPr/>
          <p:nvPr/>
        </p:nvSpPr>
        <p:spPr>
          <a:xfrm>
            <a:off x="6516720" y="4941720"/>
            <a:ext cx="19288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Выставка кни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1835280" y="620640"/>
            <a:ext cx="6624360" cy="5184720"/>
          </a:xfrm>
          <a:prstGeom prst="rect">
            <a:avLst/>
          </a:prstGeom>
          <a:ln w="0">
            <a:noFill/>
          </a:ln>
        </p:spPr>
      </p:pic>
      <p:sp>
        <p:nvSpPr>
          <p:cNvPr id="341" name="TextBox 2"/>
          <p:cNvSpPr/>
          <p:nvPr/>
        </p:nvSpPr>
        <p:spPr>
          <a:xfrm>
            <a:off x="6443640" y="5950080"/>
            <a:ext cx="19288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295f"/>
                </a:solidFill>
                <a:latin typeface="Arial"/>
              </a:rPr>
              <a:t>В книжном уго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8:42:32Z</dcterms:created>
  <dc:creator>Boss</dc:creator>
  <dc:description/>
  <dc:language>en-US</dc:language>
  <cp:lastModifiedBy>ДЕТСКИЙ САД  № 1159</cp:lastModifiedBy>
  <dcterms:modified xsi:type="dcterms:W3CDTF">2013-11-10T11:19:41Z</dcterms:modified>
  <cp:revision>17</cp:revision>
  <dc:subject/>
  <dc:title>  «Хлеб   всему голова»</dc:title>
</cp:coreProperties>
</file>