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BAAD-6338-498A-A65E-78254103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24F9-1AE5-40EC-ADA8-B356F109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6A7F-FEAB-4145-87A7-BA45698D7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D78A-B95A-4E0D-9497-194FA7FD8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CA1E-FDEC-402C-B7C8-31B943BF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D75E-2AAE-466B-B8FF-FF1C0886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E238-ABCB-4A88-876B-F53875D9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3917-BC9D-4580-8D09-BCFFAC77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4F4A-DFFC-4047-A97C-29363500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4F50-2F0D-4150-9B77-2B831ED6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342C-F732-4C8C-8378-6D7159AE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FD26-53DA-4844-8B33-66691FC6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CA62-1F10-4D36-B1AC-682ACDDF7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15920"/>
            <a:ext cx="8208720" cy="3384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ставные части объектов.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Объекты с необычным состав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3573360"/>
            <a:ext cx="71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зентация к уроку информатики в 4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программе А.В.Горяч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верть 1 ур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6877080" y="4292640"/>
            <a:ext cx="2015640" cy="576360"/>
            <a:chOff x="6877080" y="4292640"/>
            <a:chExt cx="2015640" cy="576360"/>
          </a:xfrm>
        </p:grpSpPr>
        <p:sp>
          <p:nvSpPr>
            <p:cNvPr id="45" name=""/>
            <p:cNvSpPr/>
            <p:nvPr/>
          </p:nvSpPr>
          <p:spPr>
            <a:xfrm>
              <a:off x="7021440" y="4292640"/>
              <a:ext cx="187128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77080" y="4292640"/>
              <a:ext cx="1942920" cy="46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7128000" y="2852640"/>
            <a:ext cx="2015640" cy="576360"/>
            <a:chOff x="7128000" y="2852640"/>
            <a:chExt cx="2015640" cy="576360"/>
          </a:xfrm>
        </p:grpSpPr>
        <p:sp>
          <p:nvSpPr>
            <p:cNvPr id="48" name=""/>
            <p:cNvSpPr/>
            <p:nvPr/>
          </p:nvSpPr>
          <p:spPr>
            <a:xfrm>
              <a:off x="7272360" y="2852640"/>
              <a:ext cx="187128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128000" y="2852640"/>
              <a:ext cx="1942920" cy="46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7020000" y="429264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  СП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203280" y="3357720"/>
            <a:ext cx="259236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435280" y="3357720"/>
            <a:ext cx="64908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1280" y="1268280"/>
            <a:ext cx="3816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ЕЛОСИП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2852640"/>
            <a:ext cx="118908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2779560"/>
            <a:ext cx="1441800" cy="52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32000" y="2852640"/>
            <a:ext cx="165744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СЕД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5003640" y="2779560"/>
            <a:ext cx="2016360" cy="576360"/>
            <a:chOff x="5003640" y="2779560"/>
            <a:chExt cx="2016360" cy="576360"/>
          </a:xfrm>
        </p:grpSpPr>
        <p:sp>
          <p:nvSpPr>
            <p:cNvPr id="58" name=""/>
            <p:cNvSpPr/>
            <p:nvPr/>
          </p:nvSpPr>
          <p:spPr>
            <a:xfrm>
              <a:off x="5148360" y="2779560"/>
              <a:ext cx="187164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03640" y="2779560"/>
              <a:ext cx="1943280" cy="46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268360" y="4292640"/>
            <a:ext cx="165744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 ОБ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92640"/>
            <a:ext cx="252072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 ПОКРЫ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64360" y="2852640"/>
            <a:ext cx="19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 ПЕДА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84360" y="1989000"/>
            <a:ext cx="23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339640" y="1989000"/>
            <a:ext cx="15843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11640" y="1989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59280" y="1989000"/>
            <a:ext cx="115272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24360" y="1989000"/>
            <a:ext cx="2519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16720" y="3355920"/>
            <a:ext cx="1368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8000" y="11592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Заполни схему состава велосипе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48360" y="278136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 КОЛЕС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3789360"/>
            <a:ext cx="199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8000" y="115920"/>
            <a:ext cx="8893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Найди на рисунках предметы и существа с похожими частями. Подпиши под рисунками номера составных частей велосипе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1998720" cy="2879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09680" y="4197240"/>
            <a:ext cx="1825200" cy="253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у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ед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лес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да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кры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п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203640" y="1484280"/>
            <a:ext cx="183348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3781440" y="3502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012000" y="1484280"/>
            <a:ext cx="2016000" cy="187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6642360" y="33764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700360" y="4221000"/>
            <a:ext cx="1728720" cy="18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3060720" y="6165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4643280" y="4221000"/>
            <a:ext cx="1828800" cy="18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5274000" y="61135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6732720" y="4221000"/>
            <a:ext cx="1904760" cy="18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745164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90000" y="61135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 В составе каких предметов и существ есть такие ча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4653000"/>
            <a:ext cx="511164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лес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к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в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ы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2160720" cy="1222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00720" y="1844640"/>
            <a:ext cx="2643120" cy="3718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635280" y="1413000"/>
            <a:ext cx="2441520" cy="2512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711800" y="460044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оезд, само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32320" y="501336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оезд, само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13240" y="5392800"/>
            <a:ext cx="35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оезд, самолет, павлин, мы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29800" y="5734080"/>
            <a:ext cx="20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амолет, пав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95280" y="2708280"/>
            <a:ext cx="31701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580000" y="2421000"/>
            <a:ext cx="1440000" cy="46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72360" y="1341360"/>
            <a:ext cx="165708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24940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80360" y="1773360"/>
            <a:ext cx="107928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51640" y="3430440"/>
            <a:ext cx="143964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у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380360" y="2494080"/>
            <a:ext cx="1512360" cy="576000"/>
            <a:chOff x="7380360" y="2494080"/>
            <a:chExt cx="1512360" cy="576000"/>
          </a:xfrm>
        </p:grpSpPr>
        <p:sp>
          <p:nvSpPr>
            <p:cNvPr id="102" name=""/>
            <p:cNvSpPr/>
            <p:nvPr/>
          </p:nvSpPr>
          <p:spPr>
            <a:xfrm>
              <a:off x="7488720" y="2494080"/>
              <a:ext cx="1404000" cy="57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380360" y="2494080"/>
              <a:ext cx="1457640" cy="466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7236000" y="3429000"/>
            <a:ext cx="1763280" cy="649080"/>
            <a:chOff x="7236000" y="3429000"/>
            <a:chExt cx="1763280" cy="649080"/>
          </a:xfrm>
        </p:grpSpPr>
        <p:sp>
          <p:nvSpPr>
            <p:cNvPr id="105" name=""/>
            <p:cNvSpPr/>
            <p:nvPr/>
          </p:nvSpPr>
          <p:spPr>
            <a:xfrm>
              <a:off x="7362360" y="3429000"/>
              <a:ext cx="1636920" cy="64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36000" y="3429000"/>
              <a:ext cx="1698480" cy="459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Заушни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 flipH="1">
            <a:off x="6443280" y="1773360"/>
            <a:ext cx="57636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00720" y="2852640"/>
            <a:ext cx="71640" cy="57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59640" y="2852640"/>
            <a:ext cx="1368360" cy="57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2349360"/>
            <a:ext cx="1297080" cy="46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3357720"/>
            <a:ext cx="1873080" cy="46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059280" y="3357720"/>
            <a:ext cx="1872720" cy="576000"/>
            <a:chOff x="3059280" y="3357720"/>
            <a:chExt cx="1872720" cy="576000"/>
          </a:xfrm>
        </p:grpSpPr>
        <p:sp>
          <p:nvSpPr>
            <p:cNvPr id="113" name=""/>
            <p:cNvSpPr/>
            <p:nvPr/>
          </p:nvSpPr>
          <p:spPr>
            <a:xfrm>
              <a:off x="3193560" y="3357720"/>
              <a:ext cx="1738440" cy="57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59280" y="3357720"/>
              <a:ext cx="1805040" cy="466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276720" y="2421000"/>
            <a:ext cx="1582560" cy="46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39280" y="1989000"/>
            <a:ext cx="118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692000" y="2924280"/>
            <a:ext cx="187164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8000" y="1989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40000" y="1989000"/>
            <a:ext cx="1224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80000" y="2924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3333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Заполни схему состава ОЧКОВ и РОМАШ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619280" y="2421000"/>
            <a:ext cx="1512360" cy="576360"/>
            <a:chOff x="1619280" y="2421000"/>
            <a:chExt cx="1512360" cy="576360"/>
          </a:xfrm>
        </p:grpSpPr>
        <p:sp>
          <p:nvSpPr>
            <p:cNvPr id="123" name=""/>
            <p:cNvSpPr/>
            <p:nvPr/>
          </p:nvSpPr>
          <p:spPr>
            <a:xfrm>
              <a:off x="1727640" y="2421000"/>
              <a:ext cx="140400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19280" y="2421000"/>
              <a:ext cx="1457640" cy="46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619280" y="2421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80360" y="2421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ек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1484280"/>
            <a:ext cx="1908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Рома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2421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335772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ред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59280" y="3357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пе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39280" y="1989000"/>
            <a:ext cx="118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8000" y="1989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40000" y="1989000"/>
            <a:ext cx="1224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619280" y="2421000"/>
            <a:ext cx="1512360" cy="576360"/>
            <a:chOff x="1619280" y="2421000"/>
            <a:chExt cx="1512360" cy="576360"/>
          </a:xfrm>
        </p:grpSpPr>
        <p:sp>
          <p:nvSpPr>
            <p:cNvPr id="135" name=""/>
            <p:cNvSpPr/>
            <p:nvPr/>
          </p:nvSpPr>
          <p:spPr>
            <a:xfrm>
              <a:off x="1727640" y="2421000"/>
              <a:ext cx="140400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19280" y="2421000"/>
              <a:ext cx="1457640" cy="46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0" y="242100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еб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19280" y="2421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19280" y="3933720"/>
            <a:ext cx="2516040" cy="2716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867280" y="4437000"/>
            <a:ext cx="244800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64000" y="2492280"/>
            <a:ext cx="1440000" cy="46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92280"/>
            <a:ext cx="151308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933720"/>
            <a:ext cx="194292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32000" y="1268280"/>
            <a:ext cx="3456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чковая рома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24922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еб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124000" y="2492280"/>
            <a:ext cx="1512720" cy="576360"/>
            <a:chOff x="2124000" y="2492280"/>
            <a:chExt cx="1512720" cy="576360"/>
          </a:xfrm>
        </p:grpSpPr>
        <p:sp>
          <p:nvSpPr>
            <p:cNvPr id="147" name=""/>
            <p:cNvSpPr/>
            <p:nvPr/>
          </p:nvSpPr>
          <p:spPr>
            <a:xfrm>
              <a:off x="2232360" y="2492280"/>
              <a:ext cx="140436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24000" y="2492280"/>
              <a:ext cx="1458000" cy="46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708360" y="2492280"/>
            <a:ext cx="1512720" cy="576360"/>
            <a:chOff x="3708360" y="2492280"/>
            <a:chExt cx="1512720" cy="576360"/>
          </a:xfrm>
        </p:grpSpPr>
        <p:sp>
          <p:nvSpPr>
            <p:cNvPr id="150" name=""/>
            <p:cNvSpPr/>
            <p:nvPr/>
          </p:nvSpPr>
          <p:spPr>
            <a:xfrm>
              <a:off x="3816720" y="2492280"/>
              <a:ext cx="140436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08360" y="2492280"/>
              <a:ext cx="1458000" cy="46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067280" y="4005360"/>
            <a:ext cx="1728360" cy="576000"/>
            <a:chOff x="4067280" y="4005360"/>
            <a:chExt cx="1728360" cy="576000"/>
          </a:xfrm>
        </p:grpSpPr>
        <p:sp>
          <p:nvSpPr>
            <p:cNvPr id="153" name=""/>
            <p:cNvSpPr/>
            <p:nvPr/>
          </p:nvSpPr>
          <p:spPr>
            <a:xfrm>
              <a:off x="4191120" y="4005360"/>
              <a:ext cx="1604520" cy="57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67280" y="4005360"/>
              <a:ext cx="1666080" cy="466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908000" y="393372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ред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64000" y="2492280"/>
            <a:ext cx="15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у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-27000"/>
            <a:ext cx="8893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Подумай, как должна выглядеть «Очковая ромашка».                      Нарисуй ее и заполни схему сост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4000" y="2492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08360" y="2492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в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67280" y="3933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пе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979600" y="3108960"/>
            <a:ext cx="2970000" cy="3416040"/>
            <a:chOff x="5979600" y="3108960"/>
            <a:chExt cx="2970000" cy="3416040"/>
          </a:xfrm>
        </p:grpSpPr>
        <p:grpSp>
          <p:nvGrpSpPr>
            <p:cNvPr id="162" name=""/>
            <p:cNvGrpSpPr/>
            <p:nvPr/>
          </p:nvGrpSpPr>
          <p:grpSpPr>
            <a:xfrm>
              <a:off x="7709760" y="3108960"/>
              <a:ext cx="1239840" cy="1142280"/>
              <a:chOff x="7709760" y="3108960"/>
              <a:chExt cx="1239840" cy="114228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7806600" y="3108960"/>
                <a:ext cx="1143000" cy="1142280"/>
                <a:chOff x="7806600" y="3108960"/>
                <a:chExt cx="1143000" cy="11422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8173440" y="3514680"/>
                  <a:ext cx="362880" cy="357840"/>
                </a:xfrm>
                <a:prstGeom prst="ellipse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rot="1610400">
                  <a:off x="8322480" y="3141720"/>
                  <a:ext cx="241560" cy="4014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rot="450000">
                  <a:off x="8177040" y="3818880"/>
                  <a:ext cx="249480" cy="4176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rot="18268800">
                  <a:off x="8511480" y="3691080"/>
                  <a:ext cx="272880" cy="38232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rot="20451600">
                  <a:off x="8468280" y="3411720"/>
                  <a:ext cx="458640" cy="216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rot="18268800">
                  <a:off x="7906680" y="3271680"/>
                  <a:ext cx="263880" cy="38196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 rot="20461200">
                <a:off x="7741800" y="3683160"/>
                <a:ext cx="434880" cy="271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5979600" y="3308760"/>
              <a:ext cx="2304360" cy="3216240"/>
              <a:chOff x="5979600" y="3308760"/>
              <a:chExt cx="2304360" cy="3216240"/>
            </a:xfrm>
          </p:grpSpPr>
          <p:sp>
            <p:nvSpPr>
              <p:cNvPr id="172" name=""/>
              <p:cNvSpPr/>
              <p:nvPr/>
            </p:nvSpPr>
            <p:spPr>
              <a:xfrm>
                <a:off x="7495560" y="3938040"/>
                <a:ext cx="788400" cy="2488320"/>
              </a:xfrm>
              <a:custGeom>
                <a:avLst/>
                <a:gdLst/>
                <a:ahLst/>
                <a:rect l="l" t="t" r="r" b="b"/>
                <a:pathLst>
                  <a:path w="408" h="1271">
                    <a:moveTo>
                      <a:pt x="0" y="1271"/>
                    </a:moveTo>
                    <a:cubicBezTo>
                      <a:pt x="34" y="878"/>
                      <a:pt x="68" y="485"/>
                      <a:pt x="136" y="273"/>
                    </a:cubicBezTo>
                    <a:cubicBezTo>
                      <a:pt x="204" y="61"/>
                      <a:pt x="306" y="30"/>
                      <a:pt x="408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6704640" y="4037040"/>
                <a:ext cx="788400" cy="2487960"/>
              </a:xfrm>
              <a:custGeom>
                <a:avLst/>
                <a:gdLst/>
                <a:ahLst/>
                <a:rect l="l" t="t" r="r" b="b"/>
                <a:pathLst>
                  <a:path w="408" h="1271">
                    <a:moveTo>
                      <a:pt x="0" y="1271"/>
                    </a:moveTo>
                    <a:cubicBezTo>
                      <a:pt x="34" y="878"/>
                      <a:pt x="68" y="485"/>
                      <a:pt x="136" y="273"/>
                    </a:cubicBezTo>
                    <a:cubicBezTo>
                      <a:pt x="204" y="61"/>
                      <a:pt x="306" y="30"/>
                      <a:pt x="408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585800">
                <a:off x="7691760" y="5232600"/>
                <a:ext cx="154440" cy="109440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20014200">
                <a:off x="7198920" y="5331240"/>
                <a:ext cx="154440" cy="109512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6" name=""/>
              <p:cNvGrpSpPr/>
              <p:nvPr/>
            </p:nvGrpSpPr>
            <p:grpSpPr>
              <a:xfrm>
                <a:off x="5979600" y="3308760"/>
                <a:ext cx="1239480" cy="1141560"/>
                <a:chOff x="5979600" y="3308760"/>
                <a:chExt cx="1239480" cy="1141560"/>
              </a:xfrm>
            </p:grpSpPr>
            <p:grpSp>
              <p:nvGrpSpPr>
                <p:cNvPr id="177" name=""/>
                <p:cNvGrpSpPr/>
                <p:nvPr/>
              </p:nvGrpSpPr>
              <p:grpSpPr>
                <a:xfrm>
                  <a:off x="6076440" y="3308760"/>
                  <a:ext cx="1142640" cy="1141560"/>
                  <a:chOff x="6076440" y="3308760"/>
                  <a:chExt cx="1142640" cy="114156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6443280" y="3714120"/>
                    <a:ext cx="362880" cy="35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rot="1610400">
                    <a:off x="6591960" y="3341520"/>
                    <a:ext cx="241200" cy="40104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rot="450000">
                    <a:off x="6446520" y="4018320"/>
                    <a:ext cx="249480" cy="41724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rot="18268800">
                    <a:off x="6781320" y="3890160"/>
                    <a:ext cx="272520" cy="38196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rot="20451600">
                    <a:off x="6737760" y="3611520"/>
                    <a:ext cx="458640" cy="21600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rot="18268800">
                    <a:off x="6176160" y="3471120"/>
                    <a:ext cx="263880" cy="38160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4" name=""/>
                <p:cNvSpPr/>
                <p:nvPr/>
              </p:nvSpPr>
              <p:spPr>
                <a:xfrm rot="20461200">
                  <a:off x="6011640" y="3882600"/>
                  <a:ext cx="434880" cy="2714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" name=""/>
              <p:cNvSpPr/>
              <p:nvPr/>
            </p:nvSpPr>
            <p:spPr>
              <a:xfrm>
                <a:off x="7098840" y="4015080"/>
                <a:ext cx="693000" cy="319680"/>
              </a:xfrm>
              <a:custGeom>
                <a:avLst/>
                <a:gdLst/>
                <a:ahLst/>
                <a:rect l="l" t="t" r="r" b="b"/>
                <a:pathLst>
                  <a:path w="318" h="146">
                    <a:moveTo>
                      <a:pt x="0" y="146"/>
                    </a:moveTo>
                    <a:cubicBezTo>
                      <a:pt x="9" y="129"/>
                      <a:pt x="27" y="65"/>
                      <a:pt x="54" y="41"/>
                    </a:cubicBezTo>
                    <a:cubicBezTo>
                      <a:pt x="81" y="17"/>
                      <a:pt x="128" y="0"/>
                      <a:pt x="164" y="2"/>
                    </a:cubicBezTo>
                    <a:cubicBezTo>
                      <a:pt x="200" y="4"/>
                      <a:pt x="247" y="27"/>
                      <a:pt x="273" y="51"/>
                    </a:cubicBezTo>
                    <a:cubicBezTo>
                      <a:pt x="299" y="75"/>
                      <a:pt x="309" y="126"/>
                      <a:pt x="318" y="14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"/>
          <p:cNvSpPr/>
          <p:nvPr/>
        </p:nvSpPr>
        <p:spPr>
          <a:xfrm flipH="1">
            <a:off x="1618920" y="1773360"/>
            <a:ext cx="43164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843280" y="17733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11640" y="17733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3280" y="1773360"/>
            <a:ext cx="115272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348000" y="3068640"/>
            <a:ext cx="100800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356000" y="3068640"/>
            <a:ext cx="6476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4:42:37Z</dcterms:created>
  <dc:creator>МАМА</dc:creator>
  <dc:description/>
  <dc:language>en-US</dc:language>
  <cp:lastModifiedBy>МАМА</cp:lastModifiedBy>
  <dcterms:modified xsi:type="dcterms:W3CDTF">2009-10-07T16:38:02Z</dcterms:modified>
  <cp:revision>34</cp:revision>
  <dc:subject/>
  <dc:title>Составные части объектов. Объекты с необычным составом.</dc:title>
</cp:coreProperties>
</file>