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D8B-F4C0-4C0D-AE66-A0251A85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0BB-5468-4728-AD42-A45EC5B1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63E-EB83-415F-9820-1406397F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111-A2F4-483D-81FE-D5250B7B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268-AB22-4F81-BF3F-F3E39A5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A05-7AD1-45AF-A6A8-29D0256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16D-9DEB-4839-B448-62F641B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0F1-921E-4B97-A580-91FD7CC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D7F-1A42-4C9B-9B83-B3942B33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44F-E1AD-4E48-A930-22F5FE11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945-1B0F-4500-B903-9A602F8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D03-1051-452C-85D4-215F71D6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8F36-D4FD-4798-9E0E-F9357421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208720" cy="33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сказывания со словами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«не», «и», «или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и выделение  подграфов.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573360"/>
            <a:ext cx="71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информатики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ь 5 ур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59280" y="3141720"/>
            <a:ext cx="2881080" cy="26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3360"/>
            <a:ext cx="981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5950080"/>
            <a:ext cx="3889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Каждый из 5 человеч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жит со всеми осталь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6021360"/>
            <a:ext cx="450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На этих двух графах реб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аны человечки,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492280"/>
            <a:ext cx="2016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дру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2421000"/>
            <a:ext cx="237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ятся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068640"/>
            <a:ext cx="2592360" cy="266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664000"/>
              <a:gd name="textAreaBottom" fmla="*/ 2537640 h 2664000"/>
            </a:gdLst>
            <a:ahLst/>
            <a:rect l="textAreaLeft" t="textAreaTop" r="textAreaRight" b="textAreaBottom"/>
            <a:pathLst>
              <a:path w="21600" h="22197">
                <a:moveTo>
                  <a:pt x="3600" y="0"/>
                </a:moveTo>
                <a:arcTo wR="3600" hR="3600" stAng="16200000" swAng="-5400000"/>
                <a:lnTo>
                  <a:pt x="0" y="18597"/>
                </a:lnTo>
                <a:arcTo wR="3600" hR="3600" stAng="10800000" swAng="-5400000"/>
                <a:lnTo>
                  <a:pt x="18000" y="2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22936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7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3573360"/>
            <a:ext cx="13824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43640" y="1701720"/>
            <a:ext cx="79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378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30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141720"/>
            <a:ext cx="2735280" cy="25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4149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3500280"/>
            <a:ext cx="144720" cy="144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321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12000" y="3716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5080" y="5229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5157720"/>
            <a:ext cx="13824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414972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378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421000"/>
            <a:ext cx="237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ятся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8360" y="364500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36572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3645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68000" y="4365720"/>
            <a:ext cx="1429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229360"/>
            <a:ext cx="151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55640" y="3645000"/>
            <a:ext cx="720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645000"/>
            <a:ext cx="7920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365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36572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55640" y="4365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139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рочитай описания и нарисуй ребра граф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357336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0108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01080" y="4076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79640" y="3573360"/>
            <a:ext cx="647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573360"/>
            <a:ext cx="504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4221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221000"/>
            <a:ext cx="28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932360" y="4221000"/>
            <a:ext cx="2160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157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58764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32360" y="3645000"/>
            <a:ext cx="647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3645000"/>
            <a:ext cx="79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22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198520" cy="1467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18000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59280" y="3141720"/>
            <a:ext cx="2881080" cy="26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981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950080"/>
            <a:ext cx="83534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Соедини ребрами без стрелок человечк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700280"/>
            <a:ext cx="2737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ятся л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идятся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1700280"/>
            <a:ext cx="26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ид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068640"/>
            <a:ext cx="2592360" cy="266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664000"/>
              <a:gd name="textAreaBottom" fmla="*/ 2537640 h 2664000"/>
            </a:gdLst>
            <a:ahLst/>
            <a:rect l="textAreaLeft" t="textAreaTop" r="textAreaRight" b="textAreaBottom"/>
            <a:pathLst>
              <a:path w="21600" h="22197">
                <a:moveTo>
                  <a:pt x="3600" y="0"/>
                </a:moveTo>
                <a:arcTo wR="3600" hR="3600" stAng="16200000" swAng="-5400000"/>
                <a:lnTo>
                  <a:pt x="0" y="18597"/>
                </a:lnTo>
                <a:arcTo wR="3600" hR="3600" stAng="10800000" swAng="-5400000"/>
                <a:lnTo>
                  <a:pt x="18000" y="2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22936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3573360"/>
            <a:ext cx="13824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1701720"/>
            <a:ext cx="79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78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530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141720"/>
            <a:ext cx="2735280" cy="25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4149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3500280"/>
            <a:ext cx="144720" cy="144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321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3716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85080" y="5229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5157720"/>
            <a:ext cx="13824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414972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378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1700280"/>
            <a:ext cx="30952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ятся л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идятся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229360"/>
            <a:ext cx="151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55640" y="3645000"/>
            <a:ext cx="720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3645000"/>
            <a:ext cx="7920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рочитай описания и нарисуй ребра граф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357336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0108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964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01080" y="4076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79640" y="3573360"/>
            <a:ext cx="647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3573360"/>
            <a:ext cx="504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4221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4221000"/>
            <a:ext cx="28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2360" y="4221000"/>
            <a:ext cx="2160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5157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8764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492360" y="357336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35733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732360" y="4149720"/>
            <a:ext cx="1439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4221000"/>
            <a:ext cx="1584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844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59280" y="3141720"/>
            <a:ext cx="2881080" cy="26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89000"/>
            <a:ext cx="981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5950080"/>
            <a:ext cx="83534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Соедини ребрами без стрелок человечк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2592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ятся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1197000"/>
            <a:ext cx="27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ятся зи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И 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идятся л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вид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лько зим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3068640"/>
            <a:ext cx="2592360" cy="266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664000"/>
              <a:gd name="textAreaBottom" fmla="*/ 2537640 h 2664000"/>
            </a:gdLst>
            <a:ahLst/>
            <a:rect l="textAreaLeft" t="textAreaTop" r="textAreaRight" b="textAreaBottom"/>
            <a:pathLst>
              <a:path w="21600" h="22197">
                <a:moveTo>
                  <a:pt x="3600" y="0"/>
                </a:moveTo>
                <a:arcTo wR="3600" hR="3600" stAng="16200000" swAng="-5400000"/>
                <a:lnTo>
                  <a:pt x="0" y="18597"/>
                </a:lnTo>
                <a:arcTo wR="3600" hR="3600" stAng="10800000" swAng="-5400000"/>
                <a:lnTo>
                  <a:pt x="18000" y="2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522936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7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3573360"/>
            <a:ext cx="13824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378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530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3141720"/>
            <a:ext cx="2735280" cy="25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4149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3500280"/>
            <a:ext cx="144720" cy="144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321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12000" y="3716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85080" y="5229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5157720"/>
            <a:ext cx="13824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14972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7893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1197000"/>
            <a:ext cx="309564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идятся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 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идятся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со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встречаю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рочитай описания и нарисуй ребра граф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357336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108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01080" y="4076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58764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80360" y="36450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4365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68000" y="4365720"/>
            <a:ext cx="1429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436572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436572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5640" y="4436640"/>
            <a:ext cx="1655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779640" y="422100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4221000"/>
            <a:ext cx="14400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920" y="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Нарисуй ребра графов и опиши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2133720"/>
            <a:ext cx="2808360" cy="287964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2879640"/>
              <a:gd name="textAreaBottom" fmla="*/ 2742840 h 2879640"/>
            </a:gdLst>
            <a:ahLst/>
            <a:rect l="textAreaLeft" t="textAreaTop" r="textAreaRight" b="textAreaBottom"/>
            <a:pathLst>
              <a:path w="21600" h="22148">
                <a:moveTo>
                  <a:pt x="3600" y="0"/>
                </a:moveTo>
                <a:arcTo wR="3600" hR="3600" stAng="16200000" swAng="-5400000"/>
                <a:lnTo>
                  <a:pt x="0" y="18548"/>
                </a:lnTo>
                <a:arcTo wR="3600" hR="3600" stAng="10800000" swAng="-5400000"/>
                <a:lnTo>
                  <a:pt x="18000" y="221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249228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437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3213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4437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249228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284640"/>
            <a:ext cx="215640" cy="215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2276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0000" y="2708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44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450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64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413000"/>
            <a:ext cx="22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Все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640080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1672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826920" y="2565360"/>
            <a:ext cx="10810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2565360"/>
            <a:ext cx="122544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3357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256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2565360"/>
            <a:ext cx="36036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26920" y="2565000"/>
            <a:ext cx="2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68360" y="2565360"/>
            <a:ext cx="5745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3357720"/>
            <a:ext cx="358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4508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256536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68000" y="3357720"/>
            <a:ext cx="3589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26920" y="3357360"/>
            <a:ext cx="1800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68360" y="2565000"/>
            <a:ext cx="1439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042560" y="2565000"/>
            <a:ext cx="1584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68360" y="3357360"/>
            <a:ext cx="1800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24560" y="148428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00720" y="234936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637000"/>
            <a:ext cx="53481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ждый из шести городов связан дорогами с пятью другими городами. Обозначь все дороги ребрами без стр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432160" cy="1933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995640" y="549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916360" y="5229360"/>
            <a:ext cx="216036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1920" y="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Нарисуй ребра графов и опиши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2133720"/>
            <a:ext cx="2808360" cy="287964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2879640"/>
              <a:gd name="textAreaBottom" fmla="*/ 2742840 h 2879640"/>
            </a:gdLst>
            <a:ahLst/>
            <a:rect l="textAreaLeft" t="textAreaTop" r="textAreaRight" b="textAreaBottom"/>
            <a:pathLst>
              <a:path w="21600" h="22148">
                <a:moveTo>
                  <a:pt x="3600" y="0"/>
                </a:moveTo>
                <a:arcTo wR="3600" hR="3600" stAng="16200000" swAng="-5400000"/>
                <a:lnTo>
                  <a:pt x="0" y="18548"/>
                </a:lnTo>
                <a:arcTo wR="3600" hR="3600" stAng="10800000" swAng="-5400000"/>
                <a:lnTo>
                  <a:pt x="18000" y="221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249228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4437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3213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24000" y="4437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3640" y="249228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3284640"/>
            <a:ext cx="215640" cy="215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2276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2708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1280" y="44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450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364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413000"/>
            <a:ext cx="3025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Дороги медв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0072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400800"/>
            <a:ext cx="60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24560" y="148428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00720" y="234936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1916280"/>
            <a:ext cx="534816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Медведи ездят на автобусе №1, путь которого начинается и заканчивается в городе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оходит через все города, кроме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>
            <a:off x="468000" y="2565360"/>
            <a:ext cx="143964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35772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971280" y="2565000"/>
            <a:ext cx="158436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256536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3500280"/>
            <a:ext cx="525600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иши в клетках путь автобуса №1 так, чтобы получилось имя водителя. Покажи путь автобуса на графе ребрами со стрел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78452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324000" y="5445000"/>
          <a:ext cx="2543040" cy="663840"/>
        </p:xfrm>
        <a:graphic>
          <a:graphicData uri="http://schemas.openxmlformats.org/drawingml/2006/table">
            <a:tbl>
              <a:tblPr/>
              <a:tblGrid>
                <a:gridCol w="508680"/>
                <a:gridCol w="508680"/>
                <a:gridCol w="508320"/>
                <a:gridCol w="508680"/>
                <a:gridCol w="50868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95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4720" y="551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440" y="551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85800" y="5516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920" y="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Нарисуй ребра графов и опиши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2133720"/>
            <a:ext cx="2808360" cy="287964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2879640"/>
              <a:gd name="textAreaBottom" fmla="*/ 2742840 h 2879640"/>
            </a:gdLst>
            <a:ahLst/>
            <a:rect l="textAreaLeft" t="textAreaTop" r="textAreaRight" b="textAreaBottom"/>
            <a:pathLst>
              <a:path w="21600" h="22148">
                <a:moveTo>
                  <a:pt x="3600" y="0"/>
                </a:moveTo>
                <a:arcTo wR="3600" hR="3600" stAng="16200000" swAng="-5400000"/>
                <a:lnTo>
                  <a:pt x="0" y="18548"/>
                </a:lnTo>
                <a:arcTo wR="3600" hR="3600" stAng="10800000" swAng="-5400000"/>
                <a:lnTo>
                  <a:pt x="18000" y="221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249228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4437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84360" y="3213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24000" y="443700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249228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3284640"/>
            <a:ext cx="215640" cy="215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0920" y="2276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0000" y="2708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44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450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364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1413000"/>
            <a:ext cx="3025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Дороги зай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24560" y="148428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00720" y="234936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1916280"/>
            <a:ext cx="534816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Зайцы ездят на автобусе №2, путь которого начинается и заканчивается в городе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оходит через все города, кроме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3500280"/>
            <a:ext cx="525600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иши в клетках путь автобуса №2 так, чтобы получилось имя водителя. Покажи путь автобуса на графе ребрами со стрел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732720" y="5373720"/>
            <a:ext cx="1812960" cy="10224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6732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835280" y="2637000"/>
            <a:ext cx="43308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1042920" y="2637000"/>
            <a:ext cx="122544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42920" y="2637000"/>
            <a:ext cx="15130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900000" y="3284640"/>
            <a:ext cx="165600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900000" y="2637000"/>
            <a:ext cx="93528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95280" y="5445000"/>
          <a:ext cx="2665440" cy="519120"/>
        </p:xfrm>
        <a:graphic>
          <a:graphicData uri="http://schemas.openxmlformats.org/drawingml/2006/table">
            <a:tbl>
              <a:tblPr/>
              <a:tblGrid>
                <a:gridCol w="444240"/>
                <a:gridCol w="444240"/>
                <a:gridCol w="444240"/>
                <a:gridCol w="444240"/>
                <a:gridCol w="444240"/>
                <a:gridCol w="4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470520" y="544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00000" y="5445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33440" y="5443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6720" y="54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4000" y="54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90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59280" y="3141720"/>
            <a:ext cx="2881080" cy="26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260280"/>
            <a:ext cx="981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5950080"/>
            <a:ext cx="83534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Постройте графы дорог, по которы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1700280"/>
            <a:ext cx="2737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здят медв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ездят зай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00720" y="1700280"/>
            <a:ext cx="26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зд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в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3068640"/>
            <a:ext cx="2592360" cy="266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2664000"/>
              <a:gd name="textAreaBottom" fmla="*/ 2537640 h 2664000"/>
            </a:gdLst>
            <a:ahLst/>
            <a:rect l="textAreaLeft" t="textAreaTop" r="textAreaRight" b="textAreaBottom"/>
            <a:pathLst>
              <a:path w="21600" h="22197">
                <a:moveTo>
                  <a:pt x="3600" y="0"/>
                </a:moveTo>
                <a:arcTo wR="3600" hR="3600" stAng="16200000" swAng="-5400000"/>
                <a:lnTo>
                  <a:pt x="0" y="18597"/>
                </a:lnTo>
                <a:arcTo wR="3600" hR="3600" stAng="10800000" swAng="-5400000"/>
                <a:lnTo>
                  <a:pt x="18000" y="2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436572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5157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40000" y="4365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0920" y="3213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24000" y="51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386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1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71640" y="3500280"/>
            <a:ext cx="13788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35280" y="350028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43640" y="1701720"/>
            <a:ext cx="79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84720" y="3141720"/>
            <a:ext cx="2735280" cy="25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48000" y="443700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24360" y="3500280"/>
            <a:ext cx="144360" cy="144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4360" y="5445000"/>
            <a:ext cx="13788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544500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350028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1700280"/>
            <a:ext cx="30952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здят медв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ездят зай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рочитай описания и нарисуй ребра графов и опиши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350028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812000" y="522936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8360" y="522936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429264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4365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31280" y="0"/>
            <a:ext cx="1512720" cy="1557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908000" y="5229360"/>
            <a:ext cx="14472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3573360"/>
            <a:ext cx="136836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41080" y="393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80000" y="436572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740720" y="3500280"/>
            <a:ext cx="144360" cy="1429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56720" y="3357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3357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16720" y="328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328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3933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5928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36720" y="393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45080" y="3860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27640" y="5157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3640" y="522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508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522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95640" y="3573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419280" y="3573360"/>
            <a:ext cx="165708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95280" y="3573360"/>
            <a:ext cx="10810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003280" y="3573360"/>
            <a:ext cx="730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3573360"/>
            <a:ext cx="16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9564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995640" y="4437000"/>
            <a:ext cx="1656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419640" y="4436640"/>
            <a:ext cx="2232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2000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12000" y="3573360"/>
            <a:ext cx="730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20000" y="3573360"/>
            <a:ext cx="8650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020000" y="3573360"/>
            <a:ext cx="79200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020000" y="4365360"/>
            <a:ext cx="1368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587640" y="443664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20000" y="5300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885080" y="4365360"/>
            <a:ext cx="5032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6588000" y="4436640"/>
            <a:ext cx="43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588000" y="357300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7811640" y="3573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33:40Z</dcterms:created>
  <dc:creator>МАМА</dc:creator>
  <dc:description/>
  <dc:language>en-US</dc:language>
  <cp:lastModifiedBy>МАМА</cp:lastModifiedBy>
  <dcterms:modified xsi:type="dcterms:W3CDTF">2009-10-07T14:22:29Z</dcterms:modified>
  <cp:revision>91</cp:revision>
  <dc:subject/>
  <dc:title>Высказывания со словами «не», «и», «или» и выделение  подграфов.         </dc:title>
</cp:coreProperties>
</file>