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E05-1DDA-4C2F-BF67-0DB6E684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814-C92A-4D2A-9840-E211931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004-2E01-4B77-8E94-6C0BE206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201-AE32-4243-BF14-87CEB5D5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D68-857F-4948-9787-9224DC9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61C-19DE-4B29-B71B-C8D27A1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CBB-3E69-46D1-A986-3C802382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855-50F7-4E76-8F58-FB0873E0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E9E-EBB0-4BF2-A54F-511B6E1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7EB-1812-42B6-BD7E-21369AF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050-DC4F-4854-87FD-8BDA90F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D5F-48F4-4487-9191-A773191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9E0C-5051-437C-AB78-9FC5DFF8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3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тинность высказываний со словами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«не», «и», «ил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2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пиши  в фигуры слова из списка. Закрась часть фигур в таблице. Заполни таблицу высказы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400720" y="836640"/>
          <a:ext cx="3492360" cy="5751360"/>
        </p:xfrm>
        <a:graphic>
          <a:graphicData uri="http://schemas.openxmlformats.org/drawingml/2006/table">
            <a:tbl>
              <a:tblPr/>
              <a:tblGrid>
                <a:gridCol w="771480"/>
                <a:gridCol w="2720880"/>
              </a:tblGrid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 в спис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лов из 4 бук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 из 4 зву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з 4 бук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 из 4 букв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з 4 зву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 из 4 букв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з 4 зву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979640" y="1413000"/>
            <a:ext cx="3097080" cy="504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2492280"/>
            <a:ext cx="2448000" cy="24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413000"/>
            <a:ext cx="50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2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484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Д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4869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98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07920"/>
            <a:ext cx="1368360" cy="34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270828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581360"/>
            <a:ext cx="432000" cy="43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508640"/>
            <a:ext cx="720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869000"/>
            <a:ext cx="576000" cy="360360"/>
          </a:xfrm>
          <a:custGeom>
            <a:avLst/>
            <a:gdLst>
              <a:gd name="textAreaLeft" fmla="*/ 126720 w 576000"/>
              <a:gd name="textAreaRight" fmla="*/ 449280 w 57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5589720"/>
            <a:ext cx="720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5950080"/>
            <a:ext cx="576000" cy="288720"/>
          </a:xfrm>
          <a:custGeom>
            <a:avLst/>
            <a:gdLst>
              <a:gd name="textAreaLeft" fmla="*/ 126720 w 576000"/>
              <a:gd name="textAreaRight" fmla="*/ 449280 w 57600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2060640"/>
            <a:ext cx="432000" cy="43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149720"/>
            <a:ext cx="2808360" cy="2158920"/>
          </a:xfrm>
          <a:custGeom>
            <a:avLst/>
            <a:gdLst>
              <a:gd name="textAreaLeft" fmla="*/ 617400 w 2808360"/>
              <a:gd name="textAreaRight" fmla="*/ 2190960 w 2808360"/>
              <a:gd name="textAreaTop" fmla="*/ 474840 h 2158920"/>
              <a:gd name="textAreaBottom" fmla="*/ 16840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3500280"/>
            <a:ext cx="720720" cy="792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860640"/>
            <a:ext cx="576000" cy="289080"/>
          </a:xfrm>
          <a:custGeom>
            <a:avLst/>
            <a:gdLst>
              <a:gd name="textAreaLeft" fmla="*/ 126720 w 576000"/>
              <a:gd name="textAreaRight" fmla="*/ 449280 w 57600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3573360"/>
            <a:ext cx="432000" cy="4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1844640" cy="177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80000" y="386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5661000"/>
            <a:ext cx="432000" cy="433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5950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4797360"/>
            <a:ext cx="576360" cy="209520"/>
          </a:xfrm>
          <a:custGeom>
            <a:avLst/>
            <a:gdLst/>
            <a:ahLst/>
            <a:rect l="l" t="t" r="r" b="b"/>
            <a:pathLst>
              <a:path w="324" h="132">
                <a:moveTo>
                  <a:pt x="310" y="37"/>
                </a:moveTo>
                <a:cubicBezTo>
                  <a:pt x="220" y="39"/>
                  <a:pt x="0" y="0"/>
                  <a:pt x="110" y="73"/>
                </a:cubicBezTo>
                <a:cubicBezTo>
                  <a:pt x="127" y="123"/>
                  <a:pt x="126" y="114"/>
                  <a:pt x="174" y="131"/>
                </a:cubicBezTo>
                <a:cubicBezTo>
                  <a:pt x="219" y="116"/>
                  <a:pt x="165" y="132"/>
                  <a:pt x="257" y="120"/>
                </a:cubicBezTo>
                <a:cubicBezTo>
                  <a:pt x="277" y="117"/>
                  <a:pt x="310" y="90"/>
                  <a:pt x="310" y="90"/>
                </a:cubicBezTo>
                <a:cubicBezTo>
                  <a:pt x="319" y="66"/>
                  <a:pt x="324" y="60"/>
                  <a:pt x="310" y="3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Заполни таблицу высказы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549360"/>
          <a:ext cx="8642160" cy="5984640"/>
        </p:xfrm>
        <a:graphic>
          <a:graphicData uri="http://schemas.openxmlformats.org/drawingml/2006/table">
            <a:tbl>
              <a:tblPr/>
              <a:tblGrid>
                <a:gridCol w="372960"/>
                <a:gridCol w="4559400"/>
                <a:gridCol w="3709800"/>
              </a:tblGrid>
              <a:tr h="118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Высказы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лова, для которых высказывание исти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ове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 бук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ове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 зв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ове 4 буквы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Л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 зв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ове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 буквы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Н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 зв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84360" y="3141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слове 4 буквы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30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877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слове 4 буквы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Н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4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1773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рова, огонь, уголь, ко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278136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рова, соль, ко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386064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ода, огонь, уголь,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4941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рова, ко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6000" y="5300640"/>
            <a:ext cx="13683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859280" y="5516640"/>
            <a:ext cx="504720" cy="504720"/>
          </a:xfrm>
          <a:prstGeom prst="ellipse">
            <a:avLst/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Впиши в фигуры номера рисунков. Закрась части фигур в таблице. Заполни таблицу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716360" y="1125360"/>
          <a:ext cx="4032000" cy="5121360"/>
        </p:xfrm>
        <a:graphic>
          <a:graphicData uri="http://schemas.openxmlformats.org/drawingml/2006/table">
            <a:tbl>
              <a:tblPr/>
              <a:tblGrid>
                <a:gridCol w="1049400"/>
                <a:gridCol w="2982600"/>
              </a:tblGrid>
              <a:tr h="54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ющих 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ющих 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тающих 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ющих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ющих 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ющих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ЛИ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ющих 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971640" y="1916280"/>
            <a:ext cx="2158920" cy="21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700280"/>
            <a:ext cx="503280" cy="503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5445000"/>
            <a:ext cx="865080" cy="72072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341360"/>
            <a:ext cx="3149640" cy="33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548360" y="1987920"/>
            <a:ext cx="2303640" cy="201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1844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2349360"/>
            <a:ext cx="432000" cy="43200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3068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27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48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880" y="53737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6520" y="537372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ели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8880" y="602136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Попуг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6520" y="602136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068640"/>
            <a:ext cx="505080" cy="504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039280" y="4688280"/>
            <a:ext cx="505080" cy="57636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4653000"/>
            <a:ext cx="8650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724280"/>
            <a:ext cx="50472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860640"/>
            <a:ext cx="865080" cy="648000"/>
          </a:xfrm>
          <a:prstGeom prst="rect">
            <a:avLst/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5074920" y="3861720"/>
            <a:ext cx="505080" cy="64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151920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153180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835280" y="4292640"/>
            <a:ext cx="1041120" cy="151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9280" y="3716280"/>
            <a:ext cx="865440" cy="165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32360" y="3933720"/>
            <a:ext cx="504720" cy="5050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39280" y="5480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95720" y="4846680"/>
            <a:ext cx="368280" cy="250920"/>
          </a:xfrm>
          <a:custGeom>
            <a:avLst/>
            <a:gdLst/>
            <a:ahLst/>
            <a:rect l="l" t="t" r="r" b="b"/>
            <a:pathLst>
              <a:path w="232" h="158">
                <a:moveTo>
                  <a:pt x="201" y="0"/>
                </a:moveTo>
                <a:cubicBezTo>
                  <a:pt x="167" y="11"/>
                  <a:pt x="134" y="19"/>
                  <a:pt x="100" y="29"/>
                </a:cubicBezTo>
                <a:cubicBezTo>
                  <a:pt x="86" y="33"/>
                  <a:pt x="71" y="38"/>
                  <a:pt x="57" y="43"/>
                </a:cubicBezTo>
                <a:cubicBezTo>
                  <a:pt x="50" y="45"/>
                  <a:pt x="35" y="50"/>
                  <a:pt x="35" y="50"/>
                </a:cubicBezTo>
                <a:cubicBezTo>
                  <a:pt x="0" y="87"/>
                  <a:pt x="59" y="91"/>
                  <a:pt x="86" y="101"/>
                </a:cubicBezTo>
                <a:cubicBezTo>
                  <a:pt x="109" y="135"/>
                  <a:pt x="153" y="136"/>
                  <a:pt x="187" y="158"/>
                </a:cubicBezTo>
                <a:cubicBezTo>
                  <a:pt x="215" y="149"/>
                  <a:pt x="221" y="143"/>
                  <a:pt x="230" y="115"/>
                </a:cubicBezTo>
                <a:cubicBezTo>
                  <a:pt x="217" y="75"/>
                  <a:pt x="232" y="31"/>
                  <a:pt x="201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Заполни таблицу высказы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981000"/>
          <a:ext cx="8351640" cy="5310360"/>
        </p:xfrm>
        <a:graphic>
          <a:graphicData uri="http://schemas.openxmlformats.org/drawingml/2006/table">
            <a:tbl>
              <a:tblPr/>
              <a:tblGrid>
                <a:gridCol w="360360"/>
                <a:gridCol w="4800600"/>
                <a:gridCol w="3190680"/>
              </a:tblGrid>
              <a:tr h="79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казы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тицы, для которых высказывание истин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ав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 плавает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т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гай, пеликан, пинг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 плавает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НЕ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г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00000" y="3068640"/>
            <a:ext cx="47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тица плавае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30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44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тиц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плавае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Н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ле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84464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раус, попуг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256536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ли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422100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638172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941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ца летае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пла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0:14Z</dcterms:created>
  <dc:creator>МАМА</dc:creator>
  <dc:description/>
  <dc:language>en-US</dc:language>
  <cp:lastModifiedBy>МАМА</cp:lastModifiedBy>
  <dcterms:modified xsi:type="dcterms:W3CDTF">2009-10-25T11:52:59Z</dcterms:modified>
  <cp:revision>49</cp:revision>
  <dc:subject/>
  <dc:title>Истинность высказываний со словами «не», «и», «или».</dc:title>
</cp:coreProperties>
</file>