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D03-CA24-4628-A77A-FF4CDEF1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8CC-1A86-49A1-9D50-3BEDE8E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89D-9D28-4BE1-8E21-0362BB48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AEB-A8B8-4812-985E-F61E5242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79D-5D3B-470E-9CB2-519D3B0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953-F8AB-4FE8-B374-896870F6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08F-B3CA-485C-BD20-EF58A3A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0FD-B84A-4D92-B524-83FB0FE7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FE1-4268-448D-AA1A-C432542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6A7-B314-4435-9102-586A7D4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838-6F6E-442D-87E1-ED522C0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8BC-10BB-43D5-A407-662C203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53D7-0170-4A4D-9BD4-34B104DA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208720" cy="33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Множество. Подмножество. Пересечение множест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573360"/>
            <a:ext cx="71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информатики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ь 1 ур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9280" y="692280"/>
          <a:ext cx="5435640" cy="5922720"/>
        </p:xfrm>
        <a:graphic>
          <a:graphicData uri="http://schemas.openxmlformats.org/drawingml/2006/table">
            <a:tbl>
              <a:tblPr/>
              <a:tblGrid>
                <a:gridCol w="731880"/>
                <a:gridCol w="4703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ратьев в сказке «Кот в сапог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«Бременских музыкант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раней куб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леток на шахматном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ланет Солнечн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тественных спутников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кеанов на Зем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юсов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вузначных чисел с цифрой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исел, которые делятся на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ласных букв в русском язы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ласных звуков в русском язы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5688000" y="549000"/>
            <a:ext cx="3456000" cy="5902560"/>
            <a:chOff x="5688000" y="549000"/>
            <a:chExt cx="3456000" cy="5902560"/>
          </a:xfrm>
        </p:grpSpPr>
        <p:sp>
          <p:nvSpPr>
            <p:cNvPr id="46" name=""/>
            <p:cNvSpPr/>
            <p:nvPr/>
          </p:nvSpPr>
          <p:spPr>
            <a:xfrm>
              <a:off x="7127640" y="1268280"/>
              <a:ext cx="792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12000" y="1628640"/>
              <a:ext cx="1152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24360" y="1989000"/>
              <a:ext cx="165600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6920" y="2852640"/>
              <a:ext cx="201780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06920" y="2421000"/>
              <a:ext cx="20178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4000" y="3284640"/>
              <a:ext cx="2303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4000" y="3716280"/>
              <a:ext cx="2303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19640" y="4149720"/>
              <a:ext cx="266400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19640" y="4724280"/>
              <a:ext cx="2664000" cy="57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03640" y="5300640"/>
              <a:ext cx="302436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88000" y="5877000"/>
              <a:ext cx="345600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7564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6766920" y="548640"/>
              <a:ext cx="1008360" cy="431640"/>
            </a:xfrm>
            <a:custGeom>
              <a:avLst/>
              <a:gdLst>
                <a:gd name="textAreaLeft" fmla="*/ 0 w 1008360"/>
                <a:gd name="textAreaRight" fmla="*/ 1008360 w 1008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1159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1592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Нарисуй обозначения множеств на этажах пирам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360360" cy="358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565360"/>
            <a:ext cx="360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13372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99736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50028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393372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36572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869000"/>
            <a:ext cx="360360" cy="360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300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340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623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620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1640" y="549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36000" y="126828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96360" y="1197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628640"/>
            <a:ext cx="432000" cy="360360"/>
          </a:xfrm>
          <a:prstGeom prst="triangle">
            <a:avLst>
              <a:gd name="adj" fmla="val 4264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2060640"/>
            <a:ext cx="360360" cy="358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249228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292428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2852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77800" y="11955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0720" y="1557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2421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44000" y="328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44000" y="3716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59640" y="4221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59640" y="479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530064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04360" y="595008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335772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3789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5373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950080"/>
            <a:ext cx="360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0"/>
            <a:ext cx="83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Найди и расположи элементы множеств в фигурах на рисунке:                 впиши первую букву слова из спис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32360" y="1052640"/>
          <a:ext cx="2448000" cy="2673360"/>
        </p:xfrm>
        <a:graphic>
          <a:graphicData uri="http://schemas.openxmlformats.org/drawingml/2006/table">
            <a:tbl>
              <a:tblPr/>
              <a:tblGrid>
                <a:gridCol w="762120"/>
                <a:gridCol w="16858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Множест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живот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вер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148360" y="1989000"/>
            <a:ext cx="36036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484280"/>
            <a:ext cx="3603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1916280"/>
            <a:ext cx="129384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ьми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йсб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г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льп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ра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мб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2565360"/>
            <a:ext cx="576360" cy="2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2924280"/>
            <a:ext cx="288720" cy="433440"/>
          </a:xfrm>
          <a:prstGeom prst="flowChartDecis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284640"/>
            <a:ext cx="358920" cy="360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35772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052640"/>
            <a:ext cx="4213440" cy="43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1441440" cy="151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1125360"/>
            <a:ext cx="3168720" cy="388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700280"/>
            <a:ext cx="1368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2205000"/>
            <a:ext cx="6494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3284640"/>
            <a:ext cx="1297080" cy="16570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43700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43700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270828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162864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20500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26828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49228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328464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1844640"/>
            <a:ext cx="50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386064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860640"/>
            <a:ext cx="43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236000" y="476280"/>
            <a:ext cx="1809720" cy="797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009800" cy="160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1800000" cy="374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132000" y="3716280"/>
            <a:ext cx="1008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92360" y="4751280"/>
            <a:ext cx="5400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421000"/>
            <a:ext cx="53290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700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Соедини каждый рисунок с парой множ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863640"/>
            <a:ext cx="5400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934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1511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7640" y="2735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527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ры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482436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животных, обитающих в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5589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жество 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547640" y="1557000"/>
            <a:ext cx="2016360" cy="158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42920" y="3284280"/>
            <a:ext cx="2449440" cy="20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943280"/>
            <a:ext cx="2521080" cy="335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565360"/>
            <a:ext cx="1152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24280"/>
            <a:ext cx="57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4941720"/>
            <a:ext cx="792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941720"/>
            <a:ext cx="86364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48360" y="2492280"/>
            <a:ext cx="1822680" cy="1508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093080" y="5300640"/>
            <a:ext cx="1728720" cy="1436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093080" y="115920"/>
            <a:ext cx="179064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050920" y="476280"/>
            <a:ext cx="1224000" cy="140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692360" y="4653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836640"/>
            <a:ext cx="936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836640"/>
            <a:ext cx="935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0"/>
            <a:ext cx="838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Дорисуй в таблице фигуры, которыми обозначены множества.               Впиши названия множеств, элементы которых расположены в закрашенных частях фиг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03640" y="1125360"/>
          <a:ext cx="5940360" cy="5799240"/>
        </p:xfrm>
        <a:graphic>
          <a:graphicData uri="http://schemas.openxmlformats.org/drawingml/2006/table">
            <a:tbl>
              <a:tblPr/>
              <a:tblGrid>
                <a:gridCol w="1297080"/>
                <a:gridCol w="46432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635280" y="2205000"/>
            <a:ext cx="50508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4292640"/>
            <a:ext cx="86328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1700280"/>
            <a:ext cx="1079640" cy="4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125360"/>
            <a:ext cx="2665440" cy="554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076640"/>
            <a:ext cx="2303280" cy="245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844640"/>
            <a:ext cx="165708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21360"/>
            <a:ext cx="1150920" cy="60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19640" y="6093000"/>
            <a:ext cx="936000" cy="504720"/>
            <a:chOff x="3419640" y="6093000"/>
            <a:chExt cx="936000" cy="504720"/>
          </a:xfrm>
        </p:grpSpPr>
        <p:sp>
          <p:nvSpPr>
            <p:cNvPr id="165" name=""/>
            <p:cNvSpPr/>
            <p:nvPr/>
          </p:nvSpPr>
          <p:spPr>
            <a:xfrm>
              <a:off x="3419640" y="6093000"/>
              <a:ext cx="504360" cy="504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5280" y="6093000"/>
              <a:ext cx="720360" cy="504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00720" y="5300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лавающи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60930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лавающие 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5280" y="2852640"/>
            <a:ext cx="50328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300640"/>
            <a:ext cx="50472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3573360"/>
            <a:ext cx="574920" cy="432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14972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ивотных, которые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5280" y="5300640"/>
            <a:ext cx="50328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413000"/>
            <a:ext cx="1871640" cy="165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5084640"/>
            <a:ext cx="1008000" cy="1152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863640" cy="10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5661000"/>
            <a:ext cx="762120" cy="476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92360" y="4941720"/>
            <a:ext cx="792000" cy="841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38520" y="5305320"/>
            <a:ext cx="217440" cy="495360"/>
          </a:xfrm>
          <a:custGeom>
            <a:avLst/>
            <a:gdLst/>
            <a:ahLst/>
            <a:rect l="l" t="t" r="r" b="b"/>
            <a:pathLst>
              <a:path w="137" h="312">
                <a:moveTo>
                  <a:pt x="0" y="0"/>
                </a:moveTo>
                <a:cubicBezTo>
                  <a:pt x="0" y="104"/>
                  <a:pt x="0" y="208"/>
                  <a:pt x="0" y="312"/>
                </a:cubicBezTo>
                <a:cubicBezTo>
                  <a:pt x="20" y="281"/>
                  <a:pt x="59" y="291"/>
                  <a:pt x="90" y="270"/>
                </a:cubicBezTo>
                <a:cubicBezTo>
                  <a:pt x="99" y="244"/>
                  <a:pt x="111" y="224"/>
                  <a:pt x="120" y="198"/>
                </a:cubicBezTo>
                <a:cubicBezTo>
                  <a:pt x="122" y="192"/>
                  <a:pt x="126" y="180"/>
                  <a:pt x="126" y="180"/>
                </a:cubicBezTo>
                <a:cubicBezTo>
                  <a:pt x="121" y="112"/>
                  <a:pt x="137" y="91"/>
                  <a:pt x="90" y="60"/>
                </a:cubicBezTo>
                <a:cubicBezTo>
                  <a:pt x="77" y="21"/>
                  <a:pt x="95" y="59"/>
                  <a:pt x="66" y="36"/>
                </a:cubicBezTo>
                <a:cubicBezTo>
                  <a:pt x="60" y="31"/>
                  <a:pt x="60" y="23"/>
                  <a:pt x="54" y="18"/>
                </a:cubicBezTo>
                <a:cubicBezTo>
                  <a:pt x="41" y="7"/>
                  <a:pt x="17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29160" y="6134040"/>
            <a:ext cx="288720" cy="409680"/>
          </a:xfrm>
          <a:custGeom>
            <a:avLst/>
            <a:gdLst/>
            <a:ahLst/>
            <a:rect l="l" t="t" r="r" b="b"/>
            <a:pathLst>
              <a:path w="182" h="258">
                <a:moveTo>
                  <a:pt x="102" y="0"/>
                </a:moveTo>
                <a:cubicBezTo>
                  <a:pt x="84" y="12"/>
                  <a:pt x="66" y="24"/>
                  <a:pt x="48" y="36"/>
                </a:cubicBezTo>
                <a:cubicBezTo>
                  <a:pt x="42" y="40"/>
                  <a:pt x="30" y="48"/>
                  <a:pt x="30" y="48"/>
                </a:cubicBezTo>
                <a:cubicBezTo>
                  <a:pt x="11" y="77"/>
                  <a:pt x="20" y="59"/>
                  <a:pt x="6" y="102"/>
                </a:cubicBezTo>
                <a:cubicBezTo>
                  <a:pt x="4" y="108"/>
                  <a:pt x="0" y="120"/>
                  <a:pt x="0" y="120"/>
                </a:cubicBezTo>
                <a:cubicBezTo>
                  <a:pt x="2" y="139"/>
                  <a:pt x="5" y="218"/>
                  <a:pt x="36" y="228"/>
                </a:cubicBezTo>
                <a:cubicBezTo>
                  <a:pt x="102" y="250"/>
                  <a:pt x="2" y="215"/>
                  <a:pt x="72" y="246"/>
                </a:cubicBezTo>
                <a:cubicBezTo>
                  <a:pt x="84" y="251"/>
                  <a:pt x="108" y="258"/>
                  <a:pt x="108" y="258"/>
                </a:cubicBezTo>
                <a:cubicBezTo>
                  <a:pt x="120" y="254"/>
                  <a:pt x="140" y="258"/>
                  <a:pt x="144" y="246"/>
                </a:cubicBezTo>
                <a:cubicBezTo>
                  <a:pt x="155" y="213"/>
                  <a:pt x="171" y="184"/>
                  <a:pt x="180" y="150"/>
                </a:cubicBezTo>
                <a:cubicBezTo>
                  <a:pt x="176" y="96"/>
                  <a:pt x="182" y="0"/>
                  <a:pt x="102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602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Найди обозначение каждого множества в таблице                                              и закрась большие кр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140360" y="1557360"/>
          <a:ext cx="4932360" cy="4281480"/>
        </p:xfrm>
        <a:graphic>
          <a:graphicData uri="http://schemas.openxmlformats.org/drawingml/2006/table">
            <a:tbl>
              <a:tblPr/>
              <a:tblGrid>
                <a:gridCol w="1104840"/>
                <a:gridCol w="3827520"/>
              </a:tblGrid>
              <a:tr h="77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ямоуголь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етырехуголь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уголь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4427640" y="3213000"/>
            <a:ext cx="64908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2421000"/>
            <a:ext cx="649080" cy="649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4076640"/>
            <a:ext cx="649440" cy="6494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0" y="1484280"/>
            <a:ext cx="3887640" cy="39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2421000"/>
            <a:ext cx="201600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4941720"/>
            <a:ext cx="72072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2997360"/>
            <a:ext cx="10814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1484280"/>
            <a:ext cx="3887640" cy="3959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1916280"/>
            <a:ext cx="2879640" cy="295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349360"/>
            <a:ext cx="2016000" cy="2016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2924280"/>
            <a:ext cx="108108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1916280"/>
            <a:ext cx="2879640" cy="29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6028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 фигуры на рисунке вписаны первые буквы некоторых названий растений. Впиши в таблицу пропущенные названия множеств. Впиши в фигуры первые буквы еще тех названий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64000" y="1484280"/>
          <a:ext cx="3743280" cy="4032360"/>
        </p:xfrm>
        <a:graphic>
          <a:graphicData uri="http://schemas.openxmlformats.org/drawingml/2006/table">
            <a:tbl>
              <a:tblPr/>
              <a:tblGrid>
                <a:gridCol w="974520"/>
                <a:gridCol w="2768760"/>
              </a:tblGrid>
              <a:tr h="546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ноже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80000" y="4076640"/>
            <a:ext cx="50472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2133720"/>
            <a:ext cx="792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2060640"/>
            <a:ext cx="3097440" cy="43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429000"/>
            <a:ext cx="79200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0000" y="2708280"/>
            <a:ext cx="50328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616360" y="4760640"/>
            <a:ext cx="574920" cy="647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236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сных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4869000"/>
            <a:ext cx="50328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2852640"/>
            <a:ext cx="1582560" cy="18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2519280" y="2601720"/>
            <a:ext cx="2736720" cy="23749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3640" y="1844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21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2708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сных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3357720"/>
            <a:ext cx="25923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076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евых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80000" y="3357720"/>
            <a:ext cx="432000" cy="431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2852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36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522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27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0" y="2060640"/>
            <a:ext cx="1944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ма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окол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к ле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1017720" cy="14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411280" y="4797360"/>
            <a:ext cx="1366920" cy="1604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300720" y="5157720"/>
            <a:ext cx="1828800" cy="1528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00880" y="4933800"/>
            <a:ext cx="333360" cy="316080"/>
          </a:xfrm>
          <a:custGeom>
            <a:avLst/>
            <a:gdLst/>
            <a:ahLst/>
            <a:rect l="l" t="t" r="r" b="b"/>
            <a:pathLst>
              <a:path w="210" h="199">
                <a:moveTo>
                  <a:pt x="210" y="0"/>
                </a:moveTo>
                <a:cubicBezTo>
                  <a:pt x="208" y="10"/>
                  <a:pt x="205" y="20"/>
                  <a:pt x="204" y="30"/>
                </a:cubicBezTo>
                <a:cubicBezTo>
                  <a:pt x="201" y="84"/>
                  <a:pt x="207" y="139"/>
                  <a:pt x="198" y="192"/>
                </a:cubicBezTo>
                <a:cubicBezTo>
                  <a:pt x="197" y="199"/>
                  <a:pt x="187" y="183"/>
                  <a:pt x="180" y="180"/>
                </a:cubicBezTo>
                <a:cubicBezTo>
                  <a:pt x="168" y="175"/>
                  <a:pt x="155" y="175"/>
                  <a:pt x="144" y="168"/>
                </a:cubicBezTo>
                <a:cubicBezTo>
                  <a:pt x="132" y="160"/>
                  <a:pt x="120" y="152"/>
                  <a:pt x="108" y="144"/>
                </a:cubicBezTo>
                <a:cubicBezTo>
                  <a:pt x="97" y="137"/>
                  <a:pt x="83" y="139"/>
                  <a:pt x="72" y="132"/>
                </a:cubicBezTo>
                <a:cubicBezTo>
                  <a:pt x="47" y="115"/>
                  <a:pt x="28" y="99"/>
                  <a:pt x="0" y="90"/>
                </a:cubicBezTo>
                <a:cubicBezTo>
                  <a:pt x="30" y="80"/>
                  <a:pt x="60" y="72"/>
                  <a:pt x="90" y="66"/>
                </a:cubicBezTo>
                <a:cubicBezTo>
                  <a:pt x="112" y="52"/>
                  <a:pt x="137" y="38"/>
                  <a:pt x="162" y="30"/>
                </a:cubicBezTo>
                <a:cubicBezTo>
                  <a:pt x="177" y="8"/>
                  <a:pt x="186" y="8"/>
                  <a:pt x="21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06:48Z</dcterms:created>
  <dc:creator>МАМА</dc:creator>
  <dc:description/>
  <dc:language>en-US</dc:language>
  <cp:lastModifiedBy>МАМА</cp:lastModifiedBy>
  <dcterms:modified xsi:type="dcterms:W3CDTF">2009-12-01T13:04:02Z</dcterms:modified>
  <cp:revision>55</cp:revision>
  <dc:subject/>
  <dc:title>Ветвление в построчной записи алгоритма «ЕСЛИ-ТО» «ЕСЛИ-ТО-ИНАЧЕ»</dc:title>
</cp:coreProperties>
</file>