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6828-D7BE-469A-A89F-4F450ADF6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C773-81A5-4F8D-B6A4-F8C99EF48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9B68-FE8E-4860-9086-8E1F290CF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5A80-A3BD-4AB7-BE84-4E9411DD5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5F56-4E1F-49DC-BDE4-07EB15F82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C428-7528-414A-803B-290D8DCAB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BC80-8E34-4137-A8EA-000A42F59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AF92-176A-4552-8AEC-927F3D0F5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4E52-D0AF-486D-BDA7-633DD0946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3F8B-A309-4794-94CD-9F9D01EE4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3B01-E8F4-44D6-A198-0B4F0F263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7DF6-9D3A-47C1-9B57-D04C0EED5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B9836-6B93-4941-8488-AD47DF203C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15920"/>
            <a:ext cx="8208720" cy="352908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4360" y="764640"/>
            <a:ext cx="777240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Объекты, выполняющие обратные действия. 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Алгоритм обратного действи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84360" y="3573360"/>
            <a:ext cx="7119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зентация к уроку информатики в 4 класс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 программе А.В.Горяче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V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етверть 4 урок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0920" y="333360"/>
            <a:ext cx="88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5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Запиши названия обратных действ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179280" y="981000"/>
          <a:ext cx="8569440" cy="3552840"/>
        </p:xfrm>
        <a:graphic>
          <a:graphicData uri="http://schemas.openxmlformats.org/drawingml/2006/table">
            <a:tbl>
              <a:tblPr/>
              <a:tblGrid>
                <a:gridCol w="4284720"/>
                <a:gridCol w="42847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сть - вста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дохнуть -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рыгнуть 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крыть 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мыть 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шить 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йти 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винтить 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гнуть 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чинить 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ожить на место 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рисовать 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злететь 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вязать 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" name=""/>
          <p:cNvSpPr/>
          <p:nvPr/>
        </p:nvSpPr>
        <p:spPr>
          <a:xfrm>
            <a:off x="1835280" y="3573360"/>
            <a:ext cx="237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197440" y="1484280"/>
            <a:ext cx="19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запрыгну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837080" y="1916280"/>
            <a:ext cx="172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испачк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65800" y="2852640"/>
            <a:ext cx="168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разогну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0720" y="3284640"/>
            <a:ext cx="103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взя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516720" y="1052640"/>
            <a:ext cx="25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вдохну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56360" y="1484280"/>
            <a:ext cx="25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откры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84720" y="1916280"/>
            <a:ext cx="25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разорв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372360" y="2349360"/>
            <a:ext cx="25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привинт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300720" y="2852640"/>
            <a:ext cx="25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слом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24720" y="3284640"/>
            <a:ext cx="25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стере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227640" y="3789360"/>
            <a:ext cx="25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развяз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549080" y="2421000"/>
            <a:ext cx="11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вый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81080" y="3789360"/>
            <a:ext cx="234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приземлить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300720" y="4581360"/>
            <a:ext cx="1871640" cy="20876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924360" y="4724280"/>
            <a:ext cx="1851120" cy="19447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1619280" y="4653000"/>
            <a:ext cx="1577880" cy="20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0"/>
            <a:ext cx="88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6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Прочитай первую строку таблицы и заполни остальные стро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108000" y="836640"/>
          <a:ext cx="9036000" cy="6035760"/>
        </p:xfrm>
        <a:graphic>
          <a:graphicData uri="http://schemas.openxmlformats.org/drawingml/2006/table">
            <a:tbl>
              <a:tblPr/>
              <a:tblGrid>
                <a:gridCol w="2376360"/>
                <a:gridCol w="2143080"/>
                <a:gridCol w="2133720"/>
                <a:gridCol w="23828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Стиральная маши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ирать бель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чкать бель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Пачкальная маши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асывать пыл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Пылеплю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Усыпляль-ни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Молото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Утю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Морозиль-ни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"/>
          <p:cNvSpPr/>
          <p:nvPr/>
        </p:nvSpPr>
        <p:spPr>
          <a:xfrm>
            <a:off x="0" y="1916280"/>
            <a:ext cx="23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Пылесо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34160" y="2852640"/>
            <a:ext cx="155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сыпля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671720" y="1892160"/>
            <a:ext cx="187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ыплевыва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ы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852640"/>
            <a:ext cx="23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Будиль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888640" y="285264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уд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628000" y="3573360"/>
            <a:ext cx="159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бива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возд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04000" y="3716280"/>
            <a:ext cx="23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Гвоздод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91520" y="3621240"/>
            <a:ext cx="179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ыдергива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гвоз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772720" y="4508640"/>
            <a:ext cx="134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лад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804000" y="4508640"/>
            <a:ext cx="23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мина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081400" y="4581360"/>
            <a:ext cx="89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я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670120" y="5373720"/>
            <a:ext cx="155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ороз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04000" y="5229360"/>
            <a:ext cx="23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Разморажива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91160" y="5421240"/>
            <a:ext cx="204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азморажив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6165720"/>
            <a:ext cx="23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Микс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414880" y="6213600"/>
            <a:ext cx="197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еремешив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804000" y="6165720"/>
            <a:ext cx="23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Отдели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014080" y="6165720"/>
            <a:ext cx="15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тделя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88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7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Перечисли в каждой строке названия таких предметов или существ, которые по-разному выполняют действ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79280" y="1413000"/>
          <a:ext cx="8785440" cy="4227480"/>
        </p:xfrm>
        <a:graphic>
          <a:graphicData uri="http://schemas.openxmlformats.org/drawingml/2006/table">
            <a:tbl>
              <a:tblPr/>
              <a:tblGrid>
                <a:gridCol w="8785440"/>
              </a:tblGrid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ыться 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плыть 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ползти -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злететь -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ехать -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050920" y="1484280"/>
            <a:ext cx="31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кошка, челове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340000" y="2349360"/>
            <a:ext cx="70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корабль, человек, утка, рыба, соба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484360" y="314172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змея, человек, ящери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68360" y="3860640"/>
            <a:ext cx="76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самолет, бабочка, ракета, семечко одуванч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124000" y="501336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автомобиль, велосипед, поезд, теле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7093080" y="5734080"/>
            <a:ext cx="1655640" cy="9810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7020000" y="836640"/>
            <a:ext cx="1797120" cy="12319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324000" y="5373720"/>
            <a:ext cx="1844640" cy="13017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3851280" y="5589720"/>
            <a:ext cx="186372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572000" y="836640"/>
            <a:ext cx="4392720" cy="5732280"/>
          </a:xfrm>
          <a:custGeom>
            <a:avLst/>
            <a:gdLst>
              <a:gd name="textAreaLeft" fmla="*/ 214200 w 4392720"/>
              <a:gd name="textAreaRight" fmla="*/ 4178520 w 4392720"/>
              <a:gd name="textAreaTop" fmla="*/ 214200 h 5732280"/>
              <a:gd name="textAreaBottom" fmla="*/ 5518080 h 5732280"/>
            </a:gdLst>
            <a:ahLst/>
            <a:rect l="textAreaLeft" t="textAreaTop" r="textAreaRight" b="textAreaBottom"/>
            <a:pathLst>
              <a:path w="21600" h="28186">
                <a:moveTo>
                  <a:pt x="3600" y="0"/>
                </a:moveTo>
                <a:arcTo wR="3600" hR="3600" stAng="16200000" swAng="-5400000"/>
                <a:lnTo>
                  <a:pt x="0" y="24586"/>
                </a:lnTo>
                <a:arcTo wR="3600" hR="3600" stAng="10800000" swAng="-5400000"/>
                <a:lnTo>
                  <a:pt x="18000" y="281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ча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озьми брю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омни брю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. Коне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88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8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Запиши название обратного алгоритма                                     и допиши его коман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79280" y="907920"/>
            <a:ext cx="4105440" cy="5732640"/>
          </a:xfrm>
          <a:custGeom>
            <a:avLst/>
            <a:gdLst>
              <a:gd name="textAreaLeft" fmla="*/ 200160 w 4105440"/>
              <a:gd name="textAreaRight" fmla="*/ 3905280 w 4105440"/>
              <a:gd name="textAreaTop" fmla="*/ 200160 h 5732640"/>
              <a:gd name="textAreaBottom" fmla="*/ 5532480 h 5732640"/>
            </a:gdLst>
            <a:ahLst/>
            <a:rect l="textAreaLeft" t="textAreaTop" r="textAreaRight" b="textAreaBottom"/>
            <a:pathLst>
              <a:path w="21600" h="30160">
                <a:moveTo>
                  <a:pt x="3600" y="0"/>
                </a:moveTo>
                <a:arcTo wR="3600" hR="3600" stAng="16200000" swAng="-5400000"/>
                <a:lnTo>
                  <a:pt x="0" y="26560"/>
                </a:lnTo>
                <a:arcTo wR="3600" hR="3600" stAng="10800000" swAng="-5400000"/>
                <a:lnTo>
                  <a:pt x="18000" y="301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Приведи брю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в поряд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ча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озьми брю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мо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ыстира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ысуш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ш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гладь брю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бери брюки на мес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оне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14920" y="907920"/>
            <a:ext cx="35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Приведи брю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в беспоряд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219640" y="3213000"/>
            <a:ext cx="189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Разорв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219640" y="3789360"/>
            <a:ext cx="189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Намо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219640" y="4365720"/>
            <a:ext cx="189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Испачка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219640" y="4869000"/>
            <a:ext cx="189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Высуш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219640" y="5373720"/>
            <a:ext cx="39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Положи брюки на мес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7308720" y="2997360"/>
            <a:ext cx="1440000" cy="21589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916360" y="2924280"/>
            <a:ext cx="1350720" cy="19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7T14:45:38Z</dcterms:created>
  <dc:creator>МАМА</dc:creator>
  <dc:description/>
  <dc:language>en-US</dc:language>
  <cp:lastModifiedBy>МАМА</cp:lastModifiedBy>
  <dcterms:modified xsi:type="dcterms:W3CDTF">2009-10-07T16:45:17Z</dcterms:modified>
  <cp:revision>20</cp:revision>
  <dc:subject/>
  <dc:title>Объекты, выполняющие обратные действия. Алгоритм обратного действия.</dc:title>
</cp:coreProperties>
</file>