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FF1-3F16-45F7-BF04-C87D446B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6F8-0F50-4941-8901-7BA0DD72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62E-28A6-47B0-BB55-1E47433D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737-BADF-476C-AFDE-AD5912A4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4097-55E5-483C-A950-BFDC796C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8F1-8F88-47D2-9BD8-4AAD3071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668-1519-4DEE-87A6-CECB4E26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59E-CAFB-43A5-8574-BFBC21CA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8ED-6A4E-4349-8908-FCDA9620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607-51DE-4A23-89EE-06867682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722-561B-4476-9A42-523B814C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A5F-7FB4-4688-A759-D24A4ABA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E6BB-7118-4249-ADED-F2432CD84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5920"/>
            <a:ext cx="8208720" cy="338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573360"/>
            <a:ext cx="71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к уроку информатики в 4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рограмме А.В.Горя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верть 5 ур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Заполни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427640" y="907920"/>
          <a:ext cx="4537080" cy="3600720"/>
        </p:xfrm>
        <a:graphic>
          <a:graphicData uri="http://schemas.openxmlformats.org/drawingml/2006/table">
            <a:tbl>
              <a:tblPr/>
              <a:tblGrid>
                <a:gridCol w="2269080"/>
                <a:gridCol w="2268000"/>
              </a:tblGrid>
              <a:tr h="478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ста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79280" y="981000"/>
          <a:ext cx="4032360" cy="2734920"/>
        </p:xfrm>
        <a:graphic>
          <a:graphicData uri="http://schemas.openxmlformats.org/drawingml/2006/table">
            <a:tbl>
              <a:tblPr/>
              <a:tblGrid>
                <a:gridCol w="2016720"/>
                <a:gridCol w="2015640"/>
              </a:tblGrid>
              <a:tr h="464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у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ста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24000" y="1844640"/>
            <a:ext cx="172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ловище, крылья, лапы, голова, 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4000" y="1844640"/>
            <a:ext cx="20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тать, ползать, жужжать, кус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844640"/>
            <a:ext cx="20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ловище, ноги, голова, глаза, хобот, бивни, 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1844640"/>
            <a:ext cx="223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дить, бегать, набирать воду, обливаться, носить бр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38606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3716280"/>
            <a:ext cx="2663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8893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Подумай и нарисуй слономуху и мухосл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Заполни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981000"/>
          <a:ext cx="4211640" cy="3239640"/>
        </p:xfrm>
        <a:graphic>
          <a:graphicData uri="http://schemas.openxmlformats.org/drawingml/2006/table">
            <a:tbl>
              <a:tblPr/>
              <a:tblGrid>
                <a:gridCol w="2106720"/>
                <a:gridCol w="2104920"/>
              </a:tblGrid>
              <a:tr h="511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ух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ста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572000" y="981000"/>
          <a:ext cx="4321080" cy="3239640"/>
        </p:xfrm>
        <a:graphic>
          <a:graphicData uri="http://schemas.openxmlformats.org/drawingml/2006/table">
            <a:tbl>
              <a:tblPr/>
              <a:tblGrid>
                <a:gridCol w="2161080"/>
                <a:gridCol w="2160000"/>
              </a:tblGrid>
              <a:tr h="502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лон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ста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179280" y="2133720"/>
            <a:ext cx="2124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ловище, крылья, ноги, хобот, голова бивни, глаза, 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2133720"/>
            <a:ext cx="21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тать, набирать воду, обливаться, жужжать, кус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2060640"/>
            <a:ext cx="2124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ловище, крылья, лапы, хобот, голова бивни, глаза, 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32720" y="2133720"/>
            <a:ext cx="216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тать, набирать воду, обливаться, ползать, жужжать, кус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4653000"/>
            <a:ext cx="1730520" cy="1782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16360" y="4653000"/>
            <a:ext cx="1782720" cy="1522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77080" y="4797360"/>
            <a:ext cx="1814400" cy="125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700360" y="4581360"/>
            <a:ext cx="157788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8893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Какие признаки должны быть у предметов и существ, которые выполняют действ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1052640"/>
          <a:ext cx="5916600" cy="4681440"/>
        </p:xfrm>
        <a:graphic>
          <a:graphicData uri="http://schemas.openxmlformats.org/drawingml/2006/table">
            <a:tbl>
              <a:tblPr/>
              <a:tblGrid>
                <a:gridCol w="2270880"/>
                <a:gridCol w="36457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ЙСТВ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ИЗНА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ре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ас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х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6156360" y="1125360"/>
            <a:ext cx="2808360" cy="3383280"/>
          </a:xfrm>
          <a:custGeom>
            <a:avLst/>
            <a:gdLst>
              <a:gd name="textAreaLeft" fmla="*/ 136800 w 2808360"/>
              <a:gd name="textAreaRight" fmla="*/ 2671560 w 2808360"/>
              <a:gd name="textAreaTop" fmla="*/ 136800 h 3383280"/>
              <a:gd name="textAreaBottom" fmla="*/ 3246480 h 3383280"/>
            </a:gdLst>
            <a:ahLst/>
            <a:rect l="textAreaLeft" t="textAreaTop" r="textAreaRight" b="textAreaBottom"/>
            <a:pathLst>
              <a:path w="21600" h="26021">
                <a:moveTo>
                  <a:pt x="3600" y="0"/>
                </a:moveTo>
                <a:arcTo wR="3600" hR="3600" stAng="16200000" swAng="-5400000"/>
                <a:lnTo>
                  <a:pt x="0" y="22421"/>
                </a:lnTo>
                <a:arcTo wR="3600" hR="3600" stAng="10800000" swAng="-5400000"/>
                <a:lnTo>
                  <a:pt x="18000" y="260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1916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ОСТ, ВОЗР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2708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357336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436572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АССТОЯНИЕ, СКОРОСТЬ,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64000" y="4869000"/>
            <a:ext cx="1441440" cy="165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988400" y="0"/>
            <a:ext cx="1155600" cy="1803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451640" y="3573360"/>
            <a:ext cx="1511280" cy="1494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68360" y="4941720"/>
            <a:ext cx="1574640" cy="1430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093080" y="49417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0" y="907920"/>
            <a:ext cx="4248000" cy="5732640"/>
          </a:xfrm>
          <a:custGeom>
            <a:avLst/>
            <a:gdLst>
              <a:gd name="textAreaLeft" fmla="*/ 207360 w 4248000"/>
              <a:gd name="textAreaRight" fmla="*/ 4040640 w 4248000"/>
              <a:gd name="textAreaTop" fmla="*/ 207360 h 5732640"/>
              <a:gd name="textAreaBottom" fmla="*/ 5525280 h 5732640"/>
            </a:gdLst>
            <a:ahLst/>
            <a:rect l="textAreaLeft" t="textAreaTop" r="textAreaRight" b="textAreaBottom"/>
            <a:pathLst>
              <a:path w="21600" h="29148">
                <a:moveTo>
                  <a:pt x="3600" y="0"/>
                </a:moveTo>
                <a:arcTo wR="3600" hR="3600" stAng="16200000" swAng="-5400000"/>
                <a:lnTo>
                  <a:pt x="0" y="25548"/>
                </a:lnTo>
                <a:arcTo wR="3600" hR="3600" stAng="10800000" swAng="-5400000"/>
                <a:lnTo>
                  <a:pt x="18000" y="291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Запиши название обратного алгоритма и допиши его    кома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907920"/>
            <a:ext cx="4105440" cy="5761080"/>
          </a:xfrm>
          <a:custGeom>
            <a:avLst/>
            <a:gdLst>
              <a:gd name="textAreaLeft" fmla="*/ 200160 w 4105440"/>
              <a:gd name="textAreaRight" fmla="*/ 3905280 w 4105440"/>
              <a:gd name="textAreaTop" fmla="*/ 200160 h 5761080"/>
              <a:gd name="textAreaBottom" fmla="*/ 5560920 h 5761080"/>
            </a:gdLst>
            <a:ahLst/>
            <a:rect l="textAreaLeft" t="textAreaTop" r="textAreaRight" b="textAreaBottom"/>
            <a:pathLst>
              <a:path w="21600" h="30310">
                <a:moveTo>
                  <a:pt x="3600" y="0"/>
                </a:moveTo>
                <a:arcTo wR="3600" hR="3600" stAng="16200000" swAng="-5400000"/>
                <a:lnTo>
                  <a:pt x="0" y="26710"/>
                </a:lnTo>
                <a:arcTo wR="3600" hR="3600" stAng="10800000" swAng="-5400000"/>
                <a:lnTo>
                  <a:pt x="18000" y="303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делай уборку в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три с до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тавь стуль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мети 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ей ц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148428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Устрой беспорядок в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48360" y="2997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суши ц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357336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збросай мусор на п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4076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прокинь сту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4653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спиши до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43280" y="4869000"/>
            <a:ext cx="1765080" cy="174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67640" y="4797360"/>
            <a:ext cx="12952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Какие признаки должны быть у предметов и существ, которые выполняют действ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052640"/>
          <a:ext cx="5844960" cy="4681440"/>
        </p:xfrm>
        <a:graphic>
          <a:graphicData uri="http://schemas.openxmlformats.org/drawingml/2006/table">
            <a:tbl>
              <a:tblPr/>
              <a:tblGrid>
                <a:gridCol w="2243520"/>
                <a:gridCol w="36014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ЙСТВ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ИЗНА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ете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вес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ол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лад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6300720" y="981000"/>
            <a:ext cx="2592360" cy="396072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3960720"/>
              <a:gd name="textAreaBottom" fmla="*/ 3834360 h 3960720"/>
            </a:gdLst>
            <a:ahLst/>
            <a:rect l="textAreaLeft" t="textAreaTop" r="textAreaRight" b="textAreaBottom"/>
            <a:pathLst>
              <a:path w="21600" h="33000">
                <a:moveTo>
                  <a:pt x="3600" y="0"/>
                </a:moveTo>
                <a:arcTo wR="3600" hR="3600" stAng="16200000" swAng="-5400000"/>
                <a:lnTo>
                  <a:pt x="0" y="29400"/>
                </a:lnTo>
                <a:arcTo wR="3600" hR="3600" stAng="10800000" swAng="-5400000"/>
                <a:lnTo>
                  <a:pt x="18000" y="33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2060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СОТА, 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2781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36450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ОЛ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4508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12000" y="4221000"/>
            <a:ext cx="2808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0" y="907920"/>
            <a:ext cx="4392720" cy="5732640"/>
          </a:xfrm>
          <a:custGeom>
            <a:avLst/>
            <a:gdLst>
              <a:gd name="textAreaLeft" fmla="*/ 214200 w 4392720"/>
              <a:gd name="textAreaRight" fmla="*/ 4178520 w 4392720"/>
              <a:gd name="textAreaTop" fmla="*/ 214200 h 5732640"/>
              <a:gd name="textAreaBottom" fmla="*/ 5518440 h 5732640"/>
            </a:gdLst>
            <a:ahLst/>
            <a:rect l="textAreaLeft" t="textAreaTop" r="textAreaRight" b="textAreaBottom"/>
            <a:pathLst>
              <a:path w="21600" h="28188">
                <a:moveTo>
                  <a:pt x="3600" y="0"/>
                </a:moveTo>
                <a:arcTo wR="3600" hR="3600" stAng="16200000" swAng="-5400000"/>
                <a:lnTo>
                  <a:pt x="0" y="24588"/>
                </a:lnTo>
                <a:arcTo wR="3600" hR="3600" stAng="10800000" swAng="-5400000"/>
                <a:lnTo>
                  <a:pt x="18000" y="28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 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Запиши название обратного алгоритма и допиши его кома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907920"/>
            <a:ext cx="4321440" cy="5761080"/>
          </a:xfrm>
          <a:custGeom>
            <a:avLst/>
            <a:gdLst>
              <a:gd name="textAreaLeft" fmla="*/ 210960 w 4321440"/>
              <a:gd name="textAreaRight" fmla="*/ 4110480 w 4321440"/>
              <a:gd name="textAreaTop" fmla="*/ 210960 h 5761080"/>
              <a:gd name="textAreaBottom" fmla="*/ 5550120 h 5761080"/>
            </a:gdLst>
            <a:ahLst/>
            <a:rect l="textAreaLeft" t="textAreaTop" r="textAreaRight" b="textAreaBottom"/>
            <a:pathLst>
              <a:path w="21600" h="28795">
                <a:moveTo>
                  <a:pt x="3600" y="0"/>
                </a:moveTo>
                <a:arcTo wR="3600" hR="3600" stAng="16200000" swAng="-5400000"/>
                <a:lnTo>
                  <a:pt x="0" y="25195"/>
                </a:lnTo>
                <a:arcTo wR="3600" hR="3600" stAng="10800000" swAng="-5400000"/>
                <a:lnTo>
                  <a:pt x="18000" y="287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чистить ко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ключи пылес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бери пыль с ков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ключи пылес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тряхни пыль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ылес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1484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спачкать ко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292428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полни пылесос пыл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6720" y="3645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ключи пылес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407664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ссыпь пыль по ков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465300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ключи пылес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588000" y="5084640"/>
            <a:ext cx="2340000" cy="1557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4869000"/>
            <a:ext cx="21592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4:47:27Z</dcterms:created>
  <dc:creator>МАМА</dc:creator>
  <dc:description/>
  <dc:language>en-US</dc:language>
  <cp:lastModifiedBy>МАМА</cp:lastModifiedBy>
  <dcterms:modified xsi:type="dcterms:W3CDTF">2010-11-01T16:04:30Z</dcterms:modified>
  <cp:revision>28</cp:revision>
  <dc:subject/>
  <dc:title>Подготовка к контрольной работе.</dc:title>
</cp:coreProperties>
</file>