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7C3-1FB1-42BD-B40B-D8ED4F6F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DE2-FAD8-4C97-9B6E-9763B43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19E-C2E7-4CB3-B38A-AAC6E5A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316-B9D8-4AAA-97BB-DFF41BA0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E6E-9642-4ACD-9A41-57B9B5E3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158-D9F7-4D11-ADE6-8D10621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6CB-2472-457D-B9EB-1D51549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5BF-F73C-487E-8E2A-EEC49C0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A6F-B81D-415E-97BF-23B3D0D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62F-4C85-4AE7-9DAC-41BF733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EBA-EC09-49D5-905E-A59F060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B0C-48AA-42A7-AD29-2E2B8E9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73C-209F-4527-9BE3-F870F9A9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фон для презентаци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105264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Увеличение числа на несколько един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653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Урок математики 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Черных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4174920" cy="35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03640" y="556200"/>
            <a:ext cx="36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Ёж, заяц и ворона нашли 1 яблоко, а им бы хотелось, чтобы яблок было на 2 больше. Сколько нужно ябл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30038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19640" y="4076640"/>
          <a:ext cx="5113080" cy="2411640"/>
        </p:xfrm>
        <a:graphic>
          <a:graphicData uri="http://schemas.openxmlformats.org/drawingml/2006/table">
            <a:tbl>
              <a:tblPr/>
              <a:tblGrid>
                <a:gridCol w="1274760"/>
                <a:gridCol w="1279440"/>
                <a:gridCol w="1282680"/>
                <a:gridCol w="127620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ов на зем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4174920" cy="352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556200"/>
            <a:ext cx="36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Ёж, заяц и ворона нашли 1 яблоко, а им бы хотелось, чтобы яблок было на 2 больше. Сколько нужно ябл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278028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+2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329256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0" y="3789360"/>
          <a:ext cx="5184720" cy="2649600"/>
        </p:xfrm>
        <a:graphic>
          <a:graphicData uri="http://schemas.openxmlformats.org/drawingml/2006/table">
            <a:tbl>
              <a:tblPr/>
              <a:tblGrid>
                <a:gridCol w="1203480"/>
                <a:gridCol w="1387440"/>
                <a:gridCol w="1297080"/>
                <a:gridCol w="129672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ов на зем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remove" presetClass="emph" presetID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21080" cy="331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720" y="702000"/>
            <a:ext cx="3598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овика после метели собирали 3 зайца, а белок на 2 больше. Сколько белок участвовало в строительстве снегов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57652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64000" y="4005360"/>
          <a:ext cx="4895640" cy="2351160"/>
        </p:xfrm>
        <a:graphic>
          <a:graphicData uri="http://schemas.openxmlformats.org/drawingml/2006/table">
            <a:tbl>
              <a:tblPr/>
              <a:tblGrid>
                <a:gridCol w="1152360"/>
                <a:gridCol w="1293840"/>
                <a:gridCol w="1225800"/>
                <a:gridCol w="1223640"/>
              </a:tblGrid>
              <a:tr h="7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й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392720" cy="3009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03640" y="6130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говика после метели собирали 3 зайца, а белок на 2 больше. Сколько белок участвовало в строительстве снегов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9674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33192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708360" y="3860640"/>
          <a:ext cx="4680000" cy="2448000"/>
        </p:xfrm>
        <a:graphic>
          <a:graphicData uri="http://schemas.openxmlformats.org/drawingml/2006/table">
            <a:tbl>
              <a:tblPr/>
              <a:tblGrid>
                <a:gridCol w="934920"/>
                <a:gridCol w="1297080"/>
                <a:gridCol w="1224000"/>
                <a:gridCol w="122400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й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472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47" name="55304-i_001" descr=""/>
          <p:cNvPicPr/>
          <p:nvPr/>
        </p:nvPicPr>
        <p:blipFill>
          <a:blip r:embed="rId2"/>
          <a:stretch/>
        </p:blipFill>
        <p:spPr>
          <a:xfrm>
            <a:off x="720720" y="716040"/>
            <a:ext cx="3371760" cy="380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56000" y="618120"/>
            <a:ext cx="40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троительстве кораблика не участвовала 1 лягушка, а строили кораблик на 3 героя сказки больше. Сколько героев сказки участвовало в строительстве корабл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472480"/>
            <a:ext cx="2735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987640" y="3860640"/>
          <a:ext cx="5472000" cy="256392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295640"/>
                <a:gridCol w="122364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екопит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2" name="55304-i_001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717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95640" y="749880"/>
            <a:ext cx="43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троительстве кораблика не участвовала 1 лягушка, а строили корабл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героя сказки больше. Сколько героев сказки участвовало в строительстве корабл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3039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3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419640" y="3933720"/>
          <a:ext cx="4824000" cy="2158920"/>
        </p:xfrm>
        <a:graphic>
          <a:graphicData uri="http://schemas.openxmlformats.org/drawingml/2006/table">
            <a:tbl>
              <a:tblPr/>
              <a:tblGrid>
                <a:gridCol w="1204920"/>
                <a:gridCol w="1206000"/>
                <a:gridCol w="1206720"/>
                <a:gridCol w="120636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екопит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50" name="images" descr=""/>
          <p:cNvPicPr/>
          <p:nvPr/>
        </p:nvPicPr>
        <p:blipFill>
          <a:blip r:embed="rId2"/>
          <a:stretch/>
        </p:blipFill>
        <p:spPr>
          <a:xfrm>
            <a:off x="720720" y="538200"/>
            <a:ext cx="3657600" cy="377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3280" y="614880"/>
            <a:ext cx="374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ыплёнок нашёл 2 червячков, а утёнок на 2 червячка больше. Сколько червячков нашёл утён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788000" y="2060640"/>
          <a:ext cx="3651120" cy="13399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932360" y="33530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48000" y="3933720"/>
          <a:ext cx="5111640" cy="2132280"/>
        </p:xfrm>
        <a:graphic>
          <a:graphicData uri="http://schemas.openxmlformats.org/drawingml/2006/table">
            <a:tbl>
              <a:tblPr/>
              <a:tblGrid>
                <a:gridCol w="1295280"/>
                <a:gridCol w="1403640"/>
                <a:gridCol w="1206360"/>
                <a:gridCol w="120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плё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ё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я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images" descr=""/>
          <p:cNvPicPr/>
          <p:nvPr/>
        </p:nvPicPr>
        <p:blipFill>
          <a:blip r:embed="rId2"/>
          <a:stretch/>
        </p:blipFill>
        <p:spPr>
          <a:xfrm>
            <a:off x="720720" y="538200"/>
            <a:ext cx="3657600" cy="377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3280" y="324720"/>
            <a:ext cx="3745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Цыплёнок нашёл 2 червяч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, а утёнок на 2 червячка больше. Сколько червячков нашёл утён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36205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21884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images" descr=""/>
          <p:cNvPicPr/>
          <p:nvPr/>
        </p:nvPicPr>
        <p:blipFill>
          <a:blip r:embed="rId2"/>
          <a:stretch/>
        </p:blipFill>
        <p:spPr>
          <a:xfrm>
            <a:off x="720720" y="538200"/>
            <a:ext cx="365760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43280" y="324720"/>
            <a:ext cx="3745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Цыплёнок нашёл 2 червяч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, а утёнок на 2 червячка больше. Сколько червячков нашёл утён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408120"/>
            <a:ext cx="295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21884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Times New Roman"/>
              </a:rPr>
              <a:t>2 + 2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64000" y="4221000"/>
          <a:ext cx="4968720" cy="1935360"/>
        </p:xfrm>
        <a:graphic>
          <a:graphicData uri="http://schemas.openxmlformats.org/drawingml/2006/table">
            <a:tbl>
              <a:tblPr/>
              <a:tblGrid>
                <a:gridCol w="1224000"/>
                <a:gridCol w="1331640"/>
                <a:gridCol w="1204920"/>
                <a:gridCol w="120816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плё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ё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яч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s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48360" y="5389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В семье у зайца была одна  лапочка - дочка, а сыночков на 2 больше. Сколько сыночков было у зай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54844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48000" y="3789360"/>
          <a:ext cx="5327640" cy="2592360"/>
        </p:xfrm>
        <a:graphic>
          <a:graphicData uri="http://schemas.openxmlformats.org/drawingml/2006/table">
            <a:tbl>
              <a:tblPr/>
              <a:tblGrid>
                <a:gridCol w="1152720"/>
                <a:gridCol w="1439640"/>
                <a:gridCol w="1368360"/>
                <a:gridCol w="136692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0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он для презентаци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s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32360" y="692280"/>
            <a:ext cx="39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В семье у зайца была одна  лапочка - дочка, а сыночков на 2 больше. Сколько сыночков было у зай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3079800"/>
            <a:ext cx="223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718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лни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03640" y="3860640"/>
          <a:ext cx="5256000" cy="1949760"/>
        </p:xfrm>
        <a:graphic>
          <a:graphicData uri="http://schemas.openxmlformats.org/drawingml/2006/table">
            <a:tbl>
              <a:tblPr/>
              <a:tblGrid>
                <a:gridCol w="1312920"/>
                <a:gridCol w="1314360"/>
                <a:gridCol w="1314360"/>
                <a:gridCol w="131436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фон для презентаци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images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2360" y="692280"/>
            <a:ext cx="39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В семье у зайца была одна  лапочка - дочка, а сыночков на 2 больше. Сколько сыночков было у зай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307908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2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718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лни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03640" y="3860640"/>
          <a:ext cx="5256000" cy="1949760"/>
        </p:xfrm>
        <a:graphic>
          <a:graphicData uri="http://schemas.openxmlformats.org/drawingml/2006/table">
            <a:tbl>
              <a:tblPr/>
              <a:tblGrid>
                <a:gridCol w="1312920"/>
                <a:gridCol w="1314360"/>
                <a:gridCol w="1314360"/>
                <a:gridCol w="131436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200" y="476280"/>
            <a:ext cx="367812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00720" y="41184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вочка нарисовала для капризной кошки 1 курицу, а цыплят на 2 больше. Сколько цыплят нарисовала дев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538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64000" y="3645000"/>
          <a:ext cx="5111640" cy="244800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95640"/>
                <a:gridCol w="129528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889440" cy="4464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88000" y="620640"/>
            <a:ext cx="37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вочка нарисовала для капризной кошки 1 курицу, а цыплят на 2 больше. Сколько цыплят нарисовала дев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167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1 + 2 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348000" y="3860640"/>
          <a:ext cx="5111640" cy="2448000"/>
        </p:xfrm>
        <a:graphic>
          <a:graphicData uri="http://schemas.openxmlformats.org/drawingml/2006/table">
            <a:tbl>
              <a:tblPr/>
              <a:tblGrid>
                <a:gridCol w="1295280"/>
                <a:gridCol w="1366920"/>
                <a:gridCol w="1225800"/>
                <a:gridCol w="122364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на рису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ь на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4:18:00Z</dcterms:created>
  <dc:creator>user</dc:creator>
  <dc:description/>
  <dc:language>en-US</dc:language>
  <cp:lastModifiedBy>user</cp:lastModifiedBy>
  <dcterms:modified xsi:type="dcterms:W3CDTF">2012-04-11T17:55:36Z</dcterms:modified>
  <cp:revision>5</cp:revision>
  <dc:subject/>
  <dc:title>Слайд 1</dc:title>
</cp:coreProperties>
</file>