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6.png" ContentType="image/png"/>
  <Override PartName="/ppt/media/image11.png" ContentType="image/png"/>
  <Override PartName="/ppt/media/image3.png" ContentType="image/png"/>
  <Override PartName="/ppt/media/image31.jpeg" ContentType="image/jpeg"/>
  <Override PartName="/ppt/media/image34.wmf" ContentType="image/x-wmf"/>
  <Override PartName="/ppt/media/image35.png" ContentType="image/png"/>
  <Override PartName="/ppt/media/image5.jpeg" ContentType="image/jpeg"/>
  <Override PartName="/ppt/media/image37.wmf" ContentType="image/x-wmf"/>
  <Override PartName="/ppt/media/image32.png" ContentType="image/png"/>
  <Override PartName="/ppt/media/image1.jpeg" ContentType="image/jpeg"/>
  <Override PartName="/ppt/media/image15.wmf" ContentType="image/x-wmf"/>
  <Override PartName="/ppt/media/image38.wmf" ContentType="image/x-wmf"/>
  <Override PartName="/ppt/media/image7.png" ContentType="image/png"/>
  <Override PartName="/ppt/media/image40.wmf" ContentType="image/x-wmf"/>
  <Override PartName="/ppt/media/image39.png" ContentType="image/png"/>
  <Override PartName="/ppt/media/image43.wmf" ContentType="image/x-wmf"/>
  <Override PartName="/ppt/media/image47.gif" ContentType="image/gif"/>
  <Override PartName="/ppt/media/image36.wmf" ContentType="image/x-wmf"/>
  <Override PartName="/ppt/media/image44.jpeg" ContentType="image/jpeg"/>
  <Override PartName="/ppt/media/image45.png" ContentType="image/png"/>
  <Override PartName="/ppt/media/image46.png" ContentType="image/png"/>
  <Override PartName="/ppt/media/image30.png" ContentType="image/png"/>
  <Override PartName="/ppt/media/image28.png" ContentType="image/png"/>
  <Override PartName="/ppt/media/image9.gif" ContentType="image/gif"/>
  <Override PartName="/ppt/media/image13.png" ContentType="image/png"/>
  <Override PartName="/ppt/media/image41.wmf" ContentType="image/x-wmf"/>
  <Override PartName="/ppt/media/image8.png" ContentType="image/png"/>
  <Override PartName="/ppt/media/image12.png" ContentType="image/png"/>
  <Override PartName="/ppt/media/image20.jpeg" ContentType="image/jpeg"/>
  <Override PartName="/ppt/media/image4.png" ContentType="image/png"/>
  <Override PartName="/ppt/media/image33.jpeg" ContentType="image/jpe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D5A-8FC6-4CCE-BA73-70B39F20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D49-2C1B-46C7-8028-3CC3C2D9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DA2B-75B3-4B97-A63F-17BC81FF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DE5-5997-41B8-A4EF-3A226D37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7BD-9B32-49ED-B601-F71408FE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982-4A9D-4852-8176-D4BADAC8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CF1-45A3-4CA6-9BB3-C8C0F941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47A-7A36-488A-B98C-4ADA4A87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9D7-53E2-42AE-A113-11BC51AF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AC0-B9F4-4579-870D-7BC944D0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DB1F-2144-4796-994D-B7A3C71F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159-7381-4AB5-A58A-C8188D73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8948-98AF-466B-9A34-9698291C3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395280" y="189000"/>
            <a:ext cx="8064360" cy="61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Тем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епление пройде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ление с остат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условия для формирования вычислительных умений и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репить вычислительные навыки, таблицу умножения и дел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репить тему: «Деление с остатком», алгоритм деления с остатком и способ проверк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репить умения внетабличное умножение и де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репить тему «Дол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навык устного счет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внимание, логическое мышление, памя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умение высказывать своё мнение, слушать ответы однокласс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познавательный интер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ывающ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ывать интерес к математик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елание и умение работать в коллективе, культуру общения, чувства дружбы и взаимопомощ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ывать у детей потребности в сохранении и укреплении своего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40464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13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сорбон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11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вариант                                    2 вариан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1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1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*9=                                         49:7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1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7*8=                                         42:6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1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8*8=                                         63:7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1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*8=                                         45:5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13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7*5=                                         28:4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13" descr="значки-обратная связь.jpg"/>
          <p:cNvPicPr/>
          <p:nvPr/>
        </p:nvPicPr>
        <p:blipFill>
          <a:blip r:embed="rId1"/>
          <a:stretch/>
        </p:blipFill>
        <p:spPr>
          <a:xfrm>
            <a:off x="3276720" y="2344680"/>
            <a:ext cx="184464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вариант                       2 вари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4                                   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6                                   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4                                        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0                                        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5                                        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378000" y="-23760"/>
            <a:ext cx="7967520" cy="88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7066080" y="3021120"/>
            <a:ext cx="1306440" cy="1639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tretch/>
        </p:blipFill>
        <p:spPr>
          <a:xfrm>
            <a:off x="395280" y="3440160"/>
            <a:ext cx="1743120" cy="238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в группе"/>
          <p:cNvPicPr/>
          <p:nvPr/>
        </p:nvPicPr>
        <p:blipFill>
          <a:blip r:embed="rId4"/>
          <a:stretch/>
        </p:blipFill>
        <p:spPr>
          <a:xfrm>
            <a:off x="2546280" y="696960"/>
            <a:ext cx="3672000" cy="2741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белос"/>
          <p:cNvPicPr/>
          <p:nvPr/>
        </p:nvPicPr>
        <p:blipFill>
          <a:blip r:embed="rId5"/>
          <a:stretch/>
        </p:blipFill>
        <p:spPr>
          <a:xfrm>
            <a:off x="4011480" y="5226120"/>
            <a:ext cx="1979640" cy="15588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сова с книгой.jpg"/>
          <p:cNvPicPr/>
          <p:nvPr/>
        </p:nvPicPr>
        <p:blipFill>
          <a:blip r:embed="rId6"/>
          <a:stretch/>
        </p:blipFill>
        <p:spPr>
          <a:xfrm>
            <a:off x="3486240" y="3284640"/>
            <a:ext cx="1463760" cy="2071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7"/>
          <a:stretch/>
        </p:blipFill>
        <p:spPr>
          <a:xfrm>
            <a:off x="6540480" y="981000"/>
            <a:ext cx="2376360" cy="17812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http://im1-tub-ru.yandex.net/i?id=c1b7066bfdc79aba277da9e463cebfa8-33-144&amp;n=24"/>
          <p:cNvPicPr/>
          <p:nvPr/>
        </p:nvPicPr>
        <p:blipFill>
          <a:blip r:embed="rId8"/>
          <a:stretch/>
        </p:blipFill>
        <p:spPr>
          <a:xfrm>
            <a:off x="684360" y="981000"/>
            <a:ext cx="1379520" cy="2057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9" descr="&amp;Pcy;&amp;acy;&amp;ucy;&amp;kcy; &amp;kcy;&amp;acy;&amp;rcy;&amp;acy;&amp;kcy;&amp;ucy;&amp;rcy;&amp;tcy; &amp;fcy;&amp;ocy;&amp;tcy;&amp;ocy;"/>
          <p:cNvPicPr/>
          <p:nvPr/>
        </p:nvPicPr>
        <p:blipFill>
          <a:blip r:embed="rId9"/>
          <a:stretch/>
        </p:blipFill>
        <p:spPr>
          <a:xfrm>
            <a:off x="1928880" y="5357880"/>
            <a:ext cx="1766880" cy="119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Documents and Settings\Администратор\Мои документы\для Лены\18853677_730847_zmey.jpg"/>
          <p:cNvPicPr/>
          <p:nvPr/>
        </p:nvPicPr>
        <p:blipFill>
          <a:blip r:embed="rId10"/>
          <a:stretch/>
        </p:blipFill>
        <p:spPr>
          <a:xfrm>
            <a:off x="6513480" y="4941720"/>
            <a:ext cx="211140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317520" y="96840"/>
            <a:ext cx="8502480" cy="1446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 группа – 40; 6; 36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 группа – 50; 46; 8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 группа – 21; 5; 64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 группа – 16; 70; 20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 группа – 40; 6; 36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группа    2 группа   3 группа   4 группа   5 груп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9:11            56:7           56:6          42:2           89: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5:5              69:9           90:40        32:5           65: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90:15            48:2          90:2           73:9           90:15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 (1)             8                 9 (2)          21               8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3                 7 (6)          2 (10)         6 (2)          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6                    24              45               8 (1)         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5:5=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0:15=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6:7=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8:2=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0:2=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2:2=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4211640" y="1628640"/>
            <a:ext cx="453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9:11=8 (ост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9:9=7 (ост.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6:6=9 (ост.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0:40=2 (ост.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2:5=6 (ост.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3:9=8 (ост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7797960" cy="112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J0232736"/>
          <p:cNvPicPr/>
          <p:nvPr/>
        </p:nvPicPr>
        <p:blipFill>
          <a:blip r:embed="rId2"/>
          <a:stretch/>
        </p:blipFill>
        <p:spPr>
          <a:xfrm>
            <a:off x="1979640" y="1484280"/>
            <a:ext cx="3672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590400" y="-115920"/>
            <a:ext cx="7944120" cy="8780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2"/>
          <a:stretch/>
        </p:blipFill>
        <p:spPr>
          <a:xfrm>
            <a:off x="714240" y="928800"/>
            <a:ext cx="7715520" cy="5286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в группе"/>
          <p:cNvPicPr/>
          <p:nvPr/>
        </p:nvPicPr>
        <p:blipFill>
          <a:blip r:embed="rId3"/>
          <a:stretch/>
        </p:blipFill>
        <p:spPr>
          <a:xfrm>
            <a:off x="285840" y="285840"/>
            <a:ext cx="23144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3/6; 1/8;  2/8;  1/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63680" y="42840"/>
            <a:ext cx="7716600" cy="8841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C:\Documents and Settings\Администратор\Мои документы\для Лены\bg5mz6.jpg"/>
          <p:cNvPicPr/>
          <p:nvPr/>
        </p:nvPicPr>
        <p:blipFill>
          <a:blip r:embed="rId2"/>
          <a:stretch/>
        </p:blipFill>
        <p:spPr>
          <a:xfrm>
            <a:off x="571680" y="1528920"/>
            <a:ext cx="69706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826920" y="2492280"/>
            <a:ext cx="7490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овторение – мать  учень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Усердие – мать удач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Всякое полузнание хуже   всякого незн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J0283729"/>
          <p:cNvPicPr/>
          <p:nvPr/>
        </p:nvPicPr>
        <p:blipFill>
          <a:blip r:embed="rId1"/>
          <a:stretch/>
        </p:blipFill>
        <p:spPr>
          <a:xfrm>
            <a:off x="2916360" y="189000"/>
            <a:ext cx="205740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из девочек какую долю раскрасил, если Таня закрасила большую долю, чем Оля, а Лена закрасила большую долю, чем Таня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/6  Лена                  1/6 Оля                  2/6 Та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755640" y="4076640"/>
            <a:ext cx="2087640" cy="1728720"/>
          </a:xfrm>
          <a:prstGeom prst="hexagon">
            <a:avLst>
              <a:gd name="adj" fmla="val 30191"/>
              <a:gd name="vf" fmla="val 115470"/>
            </a:avLst>
          </a:prstGeom>
          <a:solidFill>
            <a:srgbClr val="1f21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3564000" y="4005360"/>
            <a:ext cx="2160360" cy="1800000"/>
          </a:xfrm>
          <a:prstGeom prst="hexagon">
            <a:avLst>
              <a:gd name="adj" fmla="val 30005"/>
              <a:gd name="vf" fmla="val 115470"/>
            </a:avLst>
          </a:prstGeom>
          <a:solidFill>
            <a:srgbClr val="1f21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6516720" y="4076640"/>
            <a:ext cx="2087640" cy="1805040"/>
          </a:xfrm>
          <a:prstGeom prst="hexagon">
            <a:avLst>
              <a:gd name="adj" fmla="val 28914"/>
              <a:gd name="vf" fmla="val 115470"/>
            </a:avLst>
          </a:prstGeom>
          <a:solidFill>
            <a:srgbClr val="1f21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1258920" y="4076640"/>
            <a:ext cx="100944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 flipH="1">
            <a:off x="1258560" y="4076640"/>
            <a:ext cx="108108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755640" y="494172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4140360" y="4005360"/>
            <a:ext cx="107928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4"/>
          <p:cNvSpPr/>
          <p:nvPr/>
        </p:nvSpPr>
        <p:spPr>
          <a:xfrm flipH="1">
            <a:off x="4140360" y="4005360"/>
            <a:ext cx="107928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3564000" y="4941720"/>
            <a:ext cx="21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7020000" y="4076640"/>
            <a:ext cx="108108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 flipH="1">
            <a:off x="7019640" y="4076640"/>
            <a:ext cx="108108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2"/>
          <p:cNvSpPr/>
          <p:nvPr/>
        </p:nvSpPr>
        <p:spPr>
          <a:xfrm>
            <a:off x="6516720" y="501336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3"/>
          <p:cNvSpPr/>
          <p:nvPr/>
        </p:nvSpPr>
        <p:spPr>
          <a:xfrm>
            <a:off x="1258920" y="4941720"/>
            <a:ext cx="1009440" cy="86364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4"/>
          <p:cNvSpPr/>
          <p:nvPr/>
        </p:nvSpPr>
        <p:spPr>
          <a:xfrm rot="3558000">
            <a:off x="929160" y="4695120"/>
            <a:ext cx="985680" cy="90144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5"/>
          <p:cNvSpPr/>
          <p:nvPr/>
        </p:nvSpPr>
        <p:spPr>
          <a:xfrm rot="17929200">
            <a:off x="891360" y="4300920"/>
            <a:ext cx="1016280" cy="855720"/>
          </a:xfrm>
          <a:prstGeom prst="flowChartMerg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6"/>
          <p:cNvSpPr/>
          <p:nvPr/>
        </p:nvSpPr>
        <p:spPr>
          <a:xfrm rot="10800000">
            <a:off x="4140360" y="4005000"/>
            <a:ext cx="1079280" cy="93492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7"/>
          <p:cNvSpPr/>
          <p:nvPr/>
        </p:nvSpPr>
        <p:spPr>
          <a:xfrm rot="14386800">
            <a:off x="7397280" y="4312440"/>
            <a:ext cx="1055880" cy="93204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8"/>
          <p:cNvSpPr/>
          <p:nvPr/>
        </p:nvSpPr>
        <p:spPr>
          <a:xfrm rot="17925600">
            <a:off x="7423200" y="4765680"/>
            <a:ext cx="1006560" cy="930240"/>
          </a:xfrm>
          <a:prstGeom prst="flowChartExtra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на сайт (5)"/>
          <p:cNvPicPr/>
          <p:nvPr/>
        </p:nvPicPr>
        <p:blipFill>
          <a:blip r:embed="rId2"/>
          <a:stretch/>
        </p:blipFill>
        <p:spPr>
          <a:xfrm>
            <a:off x="0" y="0"/>
            <a:ext cx="29512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>
            <a:off x="468360" y="2205000"/>
            <a:ext cx="7775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гости к бабушке пришли 4 внука. Бабушка решила угостить внуков конфетами. В вазочке было 23 конфеты. Сколько конфет достанется каждому внуку, если бабушка предложит поделить конфеты поровн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1f2123"/>
                </a:solidFill>
                <a:latin typeface="Times New Roman"/>
                <a:ea typeface="Times New Roman"/>
              </a:rPr>
              <a:t>23:4 = 5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2123"/>
                </a:solidFill>
                <a:latin typeface="Times New Roman"/>
                <a:ea typeface="Times New Roman"/>
              </a:rPr>
              <a:t>Ответ: 5 конфет достанется каждому вну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Documents and Settings\User\Local Settings\Temporary Internet Files\Content.IE5\C58MV1OD\MC900088956[1].wmf"/>
          <p:cNvPicPr/>
          <p:nvPr/>
        </p:nvPicPr>
        <p:blipFill>
          <a:blip r:embed="rId1"/>
          <a:stretch/>
        </p:blipFill>
        <p:spPr>
          <a:xfrm>
            <a:off x="2674800" y="115920"/>
            <a:ext cx="33609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Rectangle 2" descr=""/>
          <p:cNvPicPr/>
          <p:nvPr/>
        </p:nvPicPr>
        <p:blipFill>
          <a:blip r:embed="rId1"/>
          <a:stretch/>
        </p:blipFill>
        <p:spPr>
          <a:xfrm>
            <a:off x="2170080" y="390600"/>
            <a:ext cx="6510240" cy="981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8046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зови время, которое показывают часы, используя слова «четверть», «половин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1187280" y="3213000"/>
            <a:ext cx="1729080" cy="16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dc9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3924360" y="3216240"/>
            <a:ext cx="1727280" cy="172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1835280" y="321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556000" y="38926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2004840" y="4508640"/>
            <a:ext cx="2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25100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241128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0"/>
          <p:cNvSpPr/>
          <p:nvPr/>
        </p:nvSpPr>
        <p:spPr>
          <a:xfrm>
            <a:off x="241128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 flipH="1" flipV="1">
            <a:off x="1834920" y="3573360"/>
            <a:ext cx="21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V="1">
            <a:off x="2050920" y="4005360"/>
            <a:ext cx="64944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4572000" y="3213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5364000" y="3857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8"/>
          <p:cNvSpPr/>
          <p:nvPr/>
        </p:nvSpPr>
        <p:spPr>
          <a:xfrm>
            <a:off x="4643280" y="45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3924360" y="386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0"/>
          <p:cNvSpPr/>
          <p:nvPr/>
        </p:nvSpPr>
        <p:spPr>
          <a:xfrm flipV="1">
            <a:off x="4788000" y="3933360"/>
            <a:ext cx="57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 flipH="1">
            <a:off x="4140000" y="407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40"/>
          <p:cNvSpPr/>
          <p:nvPr/>
        </p:nvSpPr>
        <p:spPr>
          <a:xfrm>
            <a:off x="2484360" y="4869000"/>
            <a:ext cx="1800360" cy="1800000"/>
          </a:xfrm>
          <a:prstGeom prst="ellipse">
            <a:avLst/>
          </a:prstGeom>
          <a:solidFill>
            <a:srgbClr val="7e97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1"/>
          <p:cNvSpPr/>
          <p:nvPr/>
        </p:nvSpPr>
        <p:spPr>
          <a:xfrm>
            <a:off x="3132000" y="486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4"/>
          <p:cNvSpPr/>
          <p:nvPr/>
        </p:nvSpPr>
        <p:spPr>
          <a:xfrm>
            <a:off x="3913200" y="551664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5"/>
          <p:cNvSpPr/>
          <p:nvPr/>
        </p:nvSpPr>
        <p:spPr>
          <a:xfrm>
            <a:off x="3258000" y="618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2664000" y="55324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7"/>
          <p:cNvSpPr/>
          <p:nvPr/>
        </p:nvSpPr>
        <p:spPr>
          <a:xfrm flipV="1">
            <a:off x="3419640" y="558936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8"/>
          <p:cNvSpPr/>
          <p:nvPr/>
        </p:nvSpPr>
        <p:spPr>
          <a:xfrm>
            <a:off x="3419640" y="57340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50"/>
          <p:cNvSpPr/>
          <p:nvPr/>
        </p:nvSpPr>
        <p:spPr>
          <a:xfrm>
            <a:off x="5508720" y="4869000"/>
            <a:ext cx="1800000" cy="180000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1"/>
          <p:cNvSpPr/>
          <p:nvPr/>
        </p:nvSpPr>
        <p:spPr>
          <a:xfrm>
            <a:off x="6227640" y="486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3"/>
          <p:cNvSpPr/>
          <p:nvPr/>
        </p:nvSpPr>
        <p:spPr>
          <a:xfrm>
            <a:off x="6948360" y="551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5"/>
          <p:cNvSpPr/>
          <p:nvPr/>
        </p:nvSpPr>
        <p:spPr>
          <a:xfrm>
            <a:off x="630072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6"/>
          <p:cNvSpPr/>
          <p:nvPr/>
        </p:nvSpPr>
        <p:spPr>
          <a:xfrm>
            <a:off x="5651640" y="5589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7"/>
          <p:cNvSpPr/>
          <p:nvPr/>
        </p:nvSpPr>
        <p:spPr>
          <a:xfrm>
            <a:off x="5572080" y="5537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8"/>
          <p:cNvSpPr/>
          <p:nvPr/>
        </p:nvSpPr>
        <p:spPr>
          <a:xfrm flipH="1" flipV="1">
            <a:off x="6357960" y="5286240"/>
            <a:ext cx="8568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9"/>
          <p:cNvSpPr/>
          <p:nvPr/>
        </p:nvSpPr>
        <p:spPr>
          <a:xfrm flipH="1">
            <a:off x="5786280" y="5715000"/>
            <a:ext cx="64296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0"/>
          <p:cNvSpPr/>
          <p:nvPr/>
        </p:nvSpPr>
        <p:spPr>
          <a:xfrm>
            <a:off x="2282760" y="3490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2"/>
          <p:cNvSpPr/>
          <p:nvPr/>
        </p:nvSpPr>
        <p:spPr>
          <a:xfrm>
            <a:off x="6777000" y="5516640"/>
            <a:ext cx="4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7"/>
          <p:cNvSpPr/>
          <p:nvPr/>
        </p:nvSpPr>
        <p:spPr>
          <a:xfrm>
            <a:off x="6732720" y="3284640"/>
            <a:ext cx="1728720" cy="17287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8"/>
          <p:cNvSpPr/>
          <p:nvPr/>
        </p:nvSpPr>
        <p:spPr>
          <a:xfrm>
            <a:off x="7380360" y="32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9"/>
          <p:cNvSpPr/>
          <p:nvPr/>
        </p:nvSpPr>
        <p:spPr>
          <a:xfrm>
            <a:off x="8101080" y="3933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1"/>
          <p:cNvSpPr/>
          <p:nvPr/>
        </p:nvSpPr>
        <p:spPr>
          <a:xfrm>
            <a:off x="7451640" y="4653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2"/>
          <p:cNvSpPr/>
          <p:nvPr/>
        </p:nvSpPr>
        <p:spPr>
          <a:xfrm>
            <a:off x="6819840" y="39337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3"/>
          <p:cNvSpPr/>
          <p:nvPr/>
        </p:nvSpPr>
        <p:spPr>
          <a:xfrm>
            <a:off x="7596360" y="40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4"/>
          <p:cNvSpPr/>
          <p:nvPr/>
        </p:nvSpPr>
        <p:spPr>
          <a:xfrm flipH="1" flipV="1">
            <a:off x="7451640" y="364464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у научили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задание особенно понравило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ое задание вызвало затруднени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цени себя на урок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каким настроением уходим с уро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2252520" y="33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Рефлекс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MCj04280650000[1]"/>
          <p:cNvPicPr/>
          <p:nvPr/>
        </p:nvPicPr>
        <p:blipFill>
          <a:blip r:embed="rId1"/>
          <a:stretch/>
        </p:blipFill>
        <p:spPr>
          <a:xfrm>
            <a:off x="1000080" y="5364000"/>
            <a:ext cx="2448000" cy="1494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MCj04238320000[1]"/>
          <p:cNvPicPr/>
          <p:nvPr/>
        </p:nvPicPr>
        <p:blipFill>
          <a:blip r:embed="rId2"/>
          <a:stretch/>
        </p:blipFill>
        <p:spPr>
          <a:xfrm>
            <a:off x="4572000" y="5214960"/>
            <a:ext cx="1728720" cy="1395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MCj04244800000[1]"/>
          <p:cNvPicPr/>
          <p:nvPr/>
        </p:nvPicPr>
        <p:blipFill>
          <a:blip r:embed="rId3"/>
          <a:stretch/>
        </p:blipFill>
        <p:spPr>
          <a:xfrm>
            <a:off x="7308720" y="5353200"/>
            <a:ext cx="128448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р. 15, № 7 (4 столбик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4" descr="j0205462"/>
          <p:cNvPicPr/>
          <p:nvPr/>
        </p:nvPicPr>
        <p:blipFill>
          <a:blip r:embed="rId2"/>
          <a:stretch/>
        </p:blipFill>
        <p:spPr>
          <a:xfrm>
            <a:off x="2771640" y="2698920"/>
            <a:ext cx="367200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1146240" y="149400"/>
            <a:ext cx="608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роки от души</a:t>
            </a: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3" descr="DD01039_.WMF"/>
          <p:cNvPicPr/>
          <p:nvPr/>
        </p:nvPicPr>
        <p:blipFill>
          <a:blip r:embed="rId1"/>
          <a:stretch/>
        </p:blipFill>
        <p:spPr>
          <a:xfrm>
            <a:off x="222120" y="1071720"/>
            <a:ext cx="1787760" cy="159516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5"/>
          <p:cNvSpPr/>
          <p:nvPr/>
        </p:nvSpPr>
        <p:spPr>
          <a:xfrm>
            <a:off x="1692360" y="2136600"/>
            <a:ext cx="684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Какой был прекрасный сегодн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И много в душе родилось у нас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И ум наш в порядке, и есть у нас зна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Теперь не страшны нам любы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1191269027_c4112"/>
          <p:cNvPicPr/>
          <p:nvPr/>
        </p:nvPicPr>
        <p:blipFill>
          <a:blip r:embed="rId2"/>
          <a:stretch/>
        </p:blipFill>
        <p:spPr>
          <a:xfrm>
            <a:off x="7451640" y="149400"/>
            <a:ext cx="1449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4"/>
          <p:cNvSpPr/>
          <p:nvPr/>
        </p:nvSpPr>
        <p:spPr>
          <a:xfrm>
            <a:off x="0" y="22748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Georgia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Какой был прекрасный сегодня </a:t>
            </a:r>
            <a:r>
              <a:rPr b="1" lang="ru-RU" sz="2800" spc="-1" strike="noStrike">
                <a:solidFill>
                  <a:srgbClr val="ff0066"/>
                </a:solidFill>
                <a:latin typeface="Georgia"/>
                <a:ea typeface="Times New Roman"/>
              </a:rPr>
              <a:t>ур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И много в душе родилось у нас </a:t>
            </a:r>
            <a:r>
              <a:rPr b="1" lang="ru-RU" sz="2800" spc="-1" strike="noStrike">
                <a:solidFill>
                  <a:srgbClr val="ff0066"/>
                </a:solidFill>
                <a:latin typeface="Georgia"/>
                <a:ea typeface="Times New Roman"/>
              </a:rPr>
              <a:t>ст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И ум наш в порядке, и есть у нас зна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Теперь не страшны нам </a:t>
            </a:r>
            <a:r>
              <a:rPr b="1" lang="ru-RU" sz="2800" spc="-1" strike="noStrike">
                <a:solidFill>
                  <a:srgbClr val="ff0066"/>
                </a:solidFill>
                <a:latin typeface="Georgia"/>
                <a:ea typeface="Times New Roman"/>
              </a:rPr>
              <a:t>любые   задань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"/>
          <p:cNvSpPr/>
          <p:nvPr/>
        </p:nvSpPr>
        <p:spPr>
          <a:xfrm>
            <a:off x="2435400" y="404640"/>
            <a:ext cx="526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троки от души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5" descr="FD00296_.WMF"/>
          <p:cNvPicPr/>
          <p:nvPr/>
        </p:nvPicPr>
        <p:blipFill>
          <a:blip r:embed="rId1"/>
          <a:stretch/>
        </p:blipFill>
        <p:spPr>
          <a:xfrm>
            <a:off x="2700360" y="4394160"/>
            <a:ext cx="25876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2" descr="&amp;Rcy;&amp;ocy;&amp;zhcy;&amp;dcy;&amp;iecy;&amp;scy;&amp;tcy;&amp;vcy;&amp;ocy; &amp;vcy; &amp;Dcy;&amp;icy;&amp;scy;&amp;ncy;&amp;iecy;&amp;jcy;&amp;lcy;&amp;iecy;&amp;ncy;&amp;dcy;&amp;ie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Рисунок 3" descr="orange15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5" descr=""/>
          <p:cNvPicPr/>
          <p:nvPr/>
        </p:nvPicPr>
        <p:blipFill>
          <a:blip r:embed="rId2"/>
          <a:stretch/>
        </p:blipFill>
        <p:spPr>
          <a:xfrm>
            <a:off x="895320" y="-66600"/>
            <a:ext cx="7284960" cy="19018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6" descr="D:\Таня\презентации 1\смайлики анимашки\колобки\2787.gif"/>
          <p:cNvPicPr/>
          <p:nvPr/>
        </p:nvPicPr>
        <p:blipFill>
          <a:blip r:embed="rId3"/>
          <a:stretch/>
        </p:blipFill>
        <p:spPr>
          <a:xfrm>
            <a:off x="1601640" y="1276200"/>
            <a:ext cx="594072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0" y="159984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е   а    р   з    к     е     н     е     л    п      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11  2    4   1    3     5     9     8     7     6     1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764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Расшифруйте запис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2205000"/>
          <a:ext cx="8280360" cy="2587680"/>
        </p:xfrm>
        <a:graphic>
          <a:graphicData uri="http://schemas.openxmlformats.org/drawingml/2006/table">
            <a:tbl>
              <a:tblPr/>
              <a:tblGrid>
                <a:gridCol w="792000"/>
                <a:gridCol w="712800"/>
                <a:gridCol w="754200"/>
                <a:gridCol w="752400"/>
                <a:gridCol w="753840"/>
                <a:gridCol w="750960"/>
                <a:gridCol w="754200"/>
                <a:gridCol w="752400"/>
                <a:gridCol w="752400"/>
                <a:gridCol w="752400"/>
                <a:gridCol w="752760"/>
              </a:tblGrid>
              <a:tr h="87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</a:tr>
              <a:tr h="17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e97a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-6480" y="274680"/>
            <a:ext cx="8139240" cy="9684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479px-Cinderella_Castle.jpg"/>
          <p:cNvPicPr/>
          <p:nvPr/>
        </p:nvPicPr>
        <p:blipFill>
          <a:blip r:embed="rId2"/>
          <a:stretch/>
        </p:blipFill>
        <p:spPr>
          <a:xfrm>
            <a:off x="1601640" y="1201680"/>
            <a:ext cx="594072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468360" y="1413000"/>
            <a:ext cx="7991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авайте, ребята, учиться считать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елить, умножать, прибавлять, вычитать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Запомните все, что без точного счёта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е сдвинется с места любая …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о любая в математике работа,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Не обходится без устного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390600" y="-146160"/>
            <a:ext cx="8015040" cy="884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8000" y="620640"/>
            <a:ext cx="8280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Найди частное чисел 28 и 4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65:13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олько конфет по 8 рублей ты сможешь купить на 30 рублей? Сколько денег у тебя останется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Если 1/5 числа это 3, то всё число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1/7 от 14 это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Отрезок 12 см, чему будет равен ½ этого отрезк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Какая доля меньше ½ или 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. Вычисли (40+36):4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. 80:2=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. 16*4=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; 5; 3 (6); 15; 2; 6; 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1/2&gt; 1/4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; 19; 80; 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390600" y="23760"/>
            <a:ext cx="8004240" cy="86040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4" descr="сказочные картины"/>
          <p:cNvPicPr/>
          <p:nvPr/>
        </p:nvPicPr>
        <p:blipFill>
          <a:blip r:embed="rId2"/>
          <a:stretch/>
        </p:blipFill>
        <p:spPr>
          <a:xfrm>
            <a:off x="500040" y="1143000"/>
            <a:ext cx="79297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3:50:07Z</dcterms:created>
  <dc:creator>User</dc:creator>
  <dc:description/>
  <dc:language>en-US</dc:language>
  <cp:lastModifiedBy>нина</cp:lastModifiedBy>
  <dcterms:modified xsi:type="dcterms:W3CDTF">2015-04-23T13:54:11Z</dcterms:modified>
  <cp:revision>75</cp:revision>
  <dc:subject/>
  <dc:title>Зима Ирина Владимировна учитель математики МОУ «Климовская оош» Ясногорский район</dc:title>
</cp:coreProperties>
</file>