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A74D-09EA-4D12-9E5E-F5587C8B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C2D6-6147-4EF6-AB9F-654FE10E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400B-48F1-4596-AA28-BB08E2078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9F37-0D94-4CF4-AA4F-5D8E44D5D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953C-0C9E-40AE-B687-012163BAB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7ED3-6B12-4E0D-B728-01F590E6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817C-5C4A-4525-A211-5AEFF661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C140-62E2-4E8E-8FD6-7D0692CC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B774-D525-4444-90A6-9B6CB563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1D32-AD05-4937-8259-9E9C33F4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ABD4-6957-478D-8402-D2154391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8B69-D001-432E-84E7-C85650D5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B7D4-C5FF-4041-995A-B684134E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6101-4163-414D-BFE2-F6BE1475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A524-DE09-4896-9858-609A148F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91FF-9C35-4546-B788-7BC40C66C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C677-6219-4A19-96D3-4272A5B8F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CC9F-548B-46E9-80D3-5CE55C51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04F8-6D86-464B-A9FA-3A1C19B6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C0C5-F86B-4936-97E9-060D6556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698F-1938-42A8-BA12-33AF2DEC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7849-FB32-4282-B5B9-2C99FB04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1643-39D5-42C2-9D2C-4B00ED8B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183C-A4E1-4147-8D25-C91F3CE7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e1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CA0358C-2226-4A2F-9388-5A02EA4F36B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e1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DB36786-86F2-4482-96E6-B8002D639A2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sp>
        <p:nvSpPr>
          <p:cNvPr id="98" name="Rectangle 4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sp>
        <p:nvSpPr>
          <p:cNvPr id="99" name="Rectangle 10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grpSp>
        <p:nvGrpSpPr>
          <p:cNvPr id="100" name="Organization Chart 88"/>
          <p:cNvGrpSpPr/>
          <p:nvPr/>
        </p:nvGrpSpPr>
        <p:grpSpPr>
          <a:xfrm>
            <a:off x="428760" y="-14400"/>
            <a:ext cx="8715240" cy="6729120"/>
            <a:chOff x="428760" y="-14400"/>
            <a:chExt cx="8715240" cy="6729120"/>
          </a:xfrm>
        </p:grpSpPr>
        <p:cxnSp>
          <p:nvCxnSpPr>
            <p:cNvPr id="101" name="_s1028"/>
            <p:cNvCxnSpPr>
              <a:stCxn id="102" idx="0"/>
              <a:endCxn id="103" idx="0"/>
            </p:cNvCxnSpPr>
            <p:nvPr/>
          </p:nvCxnSpPr>
          <p:spPr>
            <a:xfrm flipV="1" rot="16200000">
              <a:off x="5162040" y="3301560"/>
              <a:ext cx="2437920" cy="1138320"/>
            </a:xfrm>
            <a:prstGeom prst="bentConnector4">
              <a:avLst>
                <a:gd name="adj1" fmla="val 16659"/>
                <a:gd name="adj2" fmla="val 120088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04" name="_s1029"/>
            <p:cNvCxnSpPr>
              <a:stCxn id="105" idx="0"/>
              <a:endCxn id="103" idx="1"/>
            </p:cNvCxnSpPr>
            <p:nvPr/>
          </p:nvCxnSpPr>
          <p:spPr>
            <a:xfrm flipH="1" flipV="1" rot="5400000">
              <a:off x="4264560" y="3542400"/>
              <a:ext cx="2437920" cy="65700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06" name="_s1030"/>
            <p:cNvCxnSpPr>
              <a:stCxn id="107" idx="0"/>
              <a:endCxn id="108" idx="0"/>
            </p:cNvCxnSpPr>
            <p:nvPr/>
          </p:nvCxnSpPr>
          <p:spPr>
            <a:xfrm flipV="1" rot="16200000">
              <a:off x="1573200" y="3301920"/>
              <a:ext cx="2437920" cy="1137960"/>
            </a:xfrm>
            <a:prstGeom prst="bentConnector4">
              <a:avLst>
                <a:gd name="adj1" fmla="val 16659"/>
                <a:gd name="adj2" fmla="val 120094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09" name="_s1031"/>
            <p:cNvCxnSpPr>
              <a:stCxn id="110" idx="0"/>
              <a:endCxn id="108" idx="1"/>
            </p:cNvCxnSpPr>
            <p:nvPr/>
          </p:nvCxnSpPr>
          <p:spPr>
            <a:xfrm flipH="1" flipV="1" rot="5400000">
              <a:off x="675360" y="3542400"/>
              <a:ext cx="2437920" cy="65736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11" name="_s1032"/>
            <p:cNvCxnSpPr>
              <a:stCxn id="112" idx="0"/>
              <a:endCxn id="113" idx="0"/>
            </p:cNvCxnSpPr>
            <p:nvPr/>
          </p:nvCxnSpPr>
          <p:spPr>
            <a:xfrm flipV="1" rot="16200000">
              <a:off x="4712760" y="-481680"/>
              <a:ext cx="2438280" cy="3829680"/>
            </a:xfrm>
            <a:prstGeom prst="bentConnector3">
              <a:avLst>
                <a:gd name="adj1" fmla="val 109376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14" name="_s1033"/>
            <p:cNvCxnSpPr>
              <a:stCxn id="103" idx="2"/>
              <a:endCxn id="113" idx="1"/>
            </p:cNvCxnSpPr>
            <p:nvPr/>
          </p:nvCxnSpPr>
          <p:spPr>
            <a:xfrm flipV="1" rot="16200000">
              <a:off x="3815640" y="415800"/>
              <a:ext cx="2438280" cy="2035080"/>
            </a:xfrm>
            <a:prstGeom prst="bentConnector3">
              <a:avLst>
                <a:gd name="adj1" fmla="val 109376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15" name="_s1034"/>
            <p:cNvCxnSpPr>
              <a:stCxn id="108" idx="2"/>
              <a:endCxn id="113" idx="2"/>
            </p:cNvCxnSpPr>
            <p:nvPr/>
          </p:nvCxnSpPr>
          <p:spPr>
            <a:xfrm flipH="1" flipV="1" rot="5400000">
              <a:off x="2021040" y="656280"/>
              <a:ext cx="2438280" cy="15544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16" name="_s1035"/>
            <p:cNvCxnSpPr>
              <a:stCxn id="117" idx="0"/>
              <a:endCxn id="113" idx="3"/>
            </p:cNvCxnSpPr>
            <p:nvPr/>
          </p:nvCxnSpPr>
          <p:spPr>
            <a:xfrm flipH="1" flipV="1" rot="5400000">
              <a:off x="1123920" y="-240840"/>
              <a:ext cx="2438280" cy="3348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sp>
          <p:nvSpPr>
            <p:cNvPr id="113" name="_s1036"/>
            <p:cNvSpPr/>
            <p:nvPr/>
          </p:nvSpPr>
          <p:spPr>
            <a:xfrm>
              <a:off x="4017240" y="21420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0897c">
                <a:alpha val="50000"/>
              </a:srgbClr>
            </a:solidFill>
            <a:ln w="3240">
              <a:solidFill>
                <a:srgbClr val="6089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речие</a:t>
              </a:r>
              <a:endParaRPr b="0" lang="en-US" sz="20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17" name="_s1037"/>
            <p:cNvSpPr/>
            <p:nvPr/>
          </p:nvSpPr>
          <p:spPr>
            <a:xfrm>
              <a:off x="428760" y="265212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69900">
                <a:alpha val="50000"/>
              </a:srgbClr>
            </a:solidFill>
            <a:ln w="3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Е ИЗМЕНЯЕТСЯ</a:t>
              </a:r>
              <a:endParaRPr b="0" lang="en-US" sz="12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08" name="_s1038"/>
            <p:cNvSpPr/>
            <p:nvPr/>
          </p:nvSpPr>
          <p:spPr>
            <a:xfrm>
              <a:off x="2223000" y="265212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69900">
                <a:alpha val="50000"/>
              </a:srgbClr>
            </a:solidFill>
            <a:ln w="3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Имеет степени сравнения</a:t>
              </a:r>
              <a:endParaRPr b="0" lang="en-US" sz="19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03" name="_s1039"/>
            <p:cNvSpPr/>
            <p:nvPr/>
          </p:nvSpPr>
          <p:spPr>
            <a:xfrm>
              <a:off x="5811840" y="265212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69900">
                <a:alpha val="50000"/>
              </a:srgbClr>
            </a:solidFill>
            <a:ln w="3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бозначает </a:t>
              </a:r>
              <a:endParaRPr b="0" lang="en-US" sz="14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12" name="_s1040"/>
            <p:cNvSpPr/>
            <p:nvPr/>
          </p:nvSpPr>
          <p:spPr>
            <a:xfrm>
              <a:off x="7606440" y="2652120"/>
              <a:ext cx="1537560" cy="1625040"/>
            </a:xfrm>
            <a:custGeom>
              <a:avLst/>
              <a:gdLst>
                <a:gd name="textAreaLeft" fmla="*/ 240120 w 1537560"/>
                <a:gd name="textAreaRight" fmla="*/ 1537920 w 153756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69900">
                <a:alpha val="50000"/>
              </a:srgbClr>
            </a:solidFill>
            <a:ln w="3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 предложении является обстоятельством</a:t>
              </a:r>
              <a:endParaRPr b="0" lang="en-US" sz="11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10" name="_s1041"/>
            <p:cNvSpPr/>
            <p:nvPr/>
          </p:nvSpPr>
          <p:spPr>
            <a:xfrm>
              <a:off x="1325880" y="508968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равнительная</a:t>
              </a:r>
              <a:endParaRPr b="0" lang="en-US" sz="12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07" name="_s1042"/>
            <p:cNvSpPr/>
            <p:nvPr/>
          </p:nvSpPr>
          <p:spPr>
            <a:xfrm>
              <a:off x="3120480" y="508968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евосходная</a:t>
              </a:r>
              <a:endParaRPr b="0" lang="en-US" sz="12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05" name="_s1043"/>
            <p:cNvSpPr/>
            <p:nvPr/>
          </p:nvSpPr>
          <p:spPr>
            <a:xfrm>
              <a:off x="4915080" y="508968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изнак признака</a:t>
              </a:r>
              <a:endParaRPr b="0" lang="en-US" sz="12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02" name="_s1044"/>
            <p:cNvSpPr/>
            <p:nvPr/>
          </p:nvSpPr>
          <p:spPr>
            <a:xfrm>
              <a:off x="6709680" y="5089680"/>
              <a:ext cx="1537560" cy="1625040"/>
            </a:xfrm>
            <a:custGeom>
              <a:avLst/>
              <a:gdLst>
                <a:gd name="textAreaLeft" fmla="*/ 240120 w 1537560"/>
                <a:gd name="textAreaRight" fmla="*/ 1537920 w 153756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изнак действия</a:t>
              </a:r>
              <a:endParaRPr b="0" lang="en-US" sz="1200" spc="-1" strike="noStrike">
                <a:solidFill>
                  <a:srgbClr val="ffffe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999720" y="1500120"/>
            <a:ext cx="77742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4000" spc="-1" strike="noStrike">
                <a:solidFill>
                  <a:srgbClr val="e70000"/>
                </a:solidFill>
                <a:latin typeface="Arial"/>
              </a:rPr>
              <a:t>Из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неженн</a:t>
            </a: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о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4000" spc="-1" strike="noStrike">
                <a:solidFill>
                  <a:srgbClr val="e70000"/>
                </a:solidFill>
                <a:latin typeface="Arial"/>
              </a:rPr>
              <a:t>из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нежен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4000" spc="-1" strike="noStrike">
                <a:solidFill>
                  <a:srgbClr val="e70000"/>
                </a:solidFill>
                <a:latin typeface="Arial"/>
              </a:rPr>
              <a:t>До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ловн</a:t>
            </a: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о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4000" spc="-1" strike="noStrike">
                <a:solidFill>
                  <a:srgbClr val="e70000"/>
                </a:solidFill>
                <a:latin typeface="Arial"/>
              </a:rPr>
              <a:t>до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лов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6000" spc="-1" strike="noStrike">
                <a:solidFill>
                  <a:srgbClr val="e70000"/>
                </a:solidFill>
                <a:latin typeface="Bookman Old Style"/>
              </a:rPr>
              <a:t>но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4000" spc="-1" strike="noStrike">
                <a:solidFill>
                  <a:srgbClr val="e70000"/>
                </a:solidFill>
                <a:latin typeface="Arial"/>
              </a:rPr>
              <a:t>Из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едк</a:t>
            </a: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а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ред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4000" spc="-1" strike="noStrike">
                <a:solidFill>
                  <a:srgbClr val="e70000"/>
                </a:solidFill>
                <a:latin typeface="Arial"/>
              </a:rPr>
              <a:t>До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чист</a:t>
            </a: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а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чист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Прямая со стрелкой 3"/>
          <p:cNvCxnSpPr/>
          <p:nvPr/>
        </p:nvCxnSpPr>
        <p:spPr>
          <a:xfrm flipH="1" flipV="1">
            <a:off x="4071240" y="1999440"/>
            <a:ext cx="8578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3" name="Прямая со стрелкой 5"/>
          <p:cNvCxnSpPr/>
          <p:nvPr/>
        </p:nvCxnSpPr>
        <p:spPr>
          <a:xfrm flipH="1" flipV="1">
            <a:off x="3928680" y="2642400"/>
            <a:ext cx="100080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4" name="Прямая со стрелкой 10"/>
          <p:cNvCxnSpPr/>
          <p:nvPr/>
        </p:nvCxnSpPr>
        <p:spPr>
          <a:xfrm flipH="1" flipV="1">
            <a:off x="3571560" y="5214600"/>
            <a:ext cx="1072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5" name="Прямая со стрелкой 11"/>
          <p:cNvCxnSpPr/>
          <p:nvPr/>
        </p:nvCxnSpPr>
        <p:spPr>
          <a:xfrm flipH="1" flipV="1">
            <a:off x="3499560" y="4428360"/>
            <a:ext cx="114372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1785960" y="357120"/>
            <a:ext cx="57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Алгоритм рассуждения </a:t>
            </a:r>
            <a:endParaRPr b="0" lang="en-US" sz="3600" spc="-1" strike="noStrike">
              <a:solidFill>
                <a:srgbClr val="ffffe1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14200" y="1000080"/>
          <a:ext cx="8786880" cy="5357880"/>
        </p:xfrm>
        <a:graphic>
          <a:graphicData uri="http://schemas.openxmlformats.org/drawingml/2006/table">
            <a:tbl>
              <a:tblPr/>
              <a:tblGrid>
                <a:gridCol w="8786880"/>
              </a:tblGrid>
              <a:tr h="7514640"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Monotype Corsiv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Смотрим, есть ли в наречии приставки ИЗ-, ДО-, С-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                          </a:t>
                      </a:r>
                      <a:endParaRPr b="0" lang="en-US" sz="18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            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да                                нет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           </a:t>
                      </a:r>
                      <a:endParaRPr b="0" lang="en-US" sz="18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  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рассуждаю дальше       пишу О</a:t>
                      </a:r>
                      <a:endParaRPr b="0" lang="en-US" sz="36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2. Смотрим, как образовано наречие</a:t>
                      </a:r>
                      <a:endParaRPr b="0" lang="en-US" sz="36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от бесприставочного прилаг.            от прилагательного с приставкой</a:t>
                      </a:r>
                      <a:endParaRPr b="0" lang="en-US" sz="24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	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 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пишу А                                 пишу О</a:t>
                      </a:r>
                      <a:endParaRPr b="0" lang="en-US" sz="36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38" name="Прямая со стрелкой 26"/>
          <p:cNvCxnSpPr/>
          <p:nvPr/>
        </p:nvCxnSpPr>
        <p:spPr>
          <a:xfrm flipH="1">
            <a:off x="2142360" y="1784880"/>
            <a:ext cx="715320" cy="572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9" name="Прямая со стрелкой 28"/>
          <p:cNvCxnSpPr/>
          <p:nvPr/>
        </p:nvCxnSpPr>
        <p:spPr>
          <a:xfrm>
            <a:off x="4785840" y="1785600"/>
            <a:ext cx="786600" cy="500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" name="Прямая со стрелкой 29"/>
          <p:cNvCxnSpPr/>
          <p:nvPr/>
        </p:nvCxnSpPr>
        <p:spPr>
          <a:xfrm flipH="1">
            <a:off x="2285640" y="4570920"/>
            <a:ext cx="1572480" cy="429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1" name="Прямая со стрелкой 30"/>
          <p:cNvCxnSpPr/>
          <p:nvPr/>
        </p:nvCxnSpPr>
        <p:spPr>
          <a:xfrm>
            <a:off x="6286680" y="4500360"/>
            <a:ext cx="1072080" cy="500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2" name="Прямая со стрелкой 31"/>
          <p:cNvCxnSpPr/>
          <p:nvPr/>
        </p:nvCxnSpPr>
        <p:spPr>
          <a:xfrm flipH="1">
            <a:off x="5571360" y="2786040"/>
            <a:ext cx="2520" cy="645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3" name="Прямая со стрелкой 32"/>
          <p:cNvCxnSpPr/>
          <p:nvPr/>
        </p:nvCxnSpPr>
        <p:spPr>
          <a:xfrm flipH="1">
            <a:off x="2284200" y="2714760"/>
            <a:ext cx="2160" cy="64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"/>
          <p:cNvSpPr/>
          <p:nvPr/>
        </p:nvSpPr>
        <p:spPr>
          <a:xfrm>
            <a:off x="1428840" y="1857240"/>
            <a:ext cx="7358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Bookman Old Style"/>
              </a:rPr>
              <a:t>Домашнее задание:</a:t>
            </a:r>
            <a:endParaRPr b="0" lang="en-US" sz="5400" spc="-1" strike="noStrike">
              <a:solidFill>
                <a:srgbClr val="ffffe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Bookman Old Style"/>
              </a:rPr>
              <a:t>§ 43, упр. 271, стр. 112</a:t>
            </a:r>
            <a:endParaRPr b="0" lang="en-US" sz="5400" spc="-1" strike="noStrike">
              <a:solidFill>
                <a:srgbClr val="ffff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15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ньше мы редко ездили отдыхать на мор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нце изредка показывалось из-за туч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ва возвышались горы, справа чернела пропас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посмотрел налево, потом напра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иж метнулся вправ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 был вытерт досух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улице было солнечно, сухо и пыльн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заново начал писать сочинени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окном снова начался дождь.</a:t>
            </a:r>
            <a:br>
              <a:rPr sz="2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дко, изредка, слева, справа, налево, направо, вправо, досуха, сухо, заново, сно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214280" y="857160"/>
          <a:ext cx="6286680" cy="5237280"/>
        </p:xfrm>
        <a:graphic>
          <a:graphicData uri="http://schemas.openxmlformats.org/drawingml/2006/table">
            <a:tbl>
              <a:tblPr/>
              <a:tblGrid>
                <a:gridCol w="3143520"/>
                <a:gridCol w="31431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едк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зредк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ух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осух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пра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пра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прав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ле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лев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зано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нов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777384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чему на конце однокоренных наречий разные гласны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мы должны выяснить? Поставьте вопрос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Буквы о, а </a:t>
            </a:r>
            <a:br>
              <a:rPr sz="7200"/>
            </a:b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на конце наречий</a:t>
            </a:r>
            <a:endParaRPr b="0" lang="en-US" sz="7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311040" y="3997440"/>
            <a:ext cx="1128960" cy="194292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5"/>
          <p:cNvSpPr/>
          <p:nvPr/>
        </p:nvSpPr>
        <p:spPr>
          <a:xfrm>
            <a:off x="1571760" y="4000680"/>
            <a:ext cx="7072200" cy="19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 Antiqua"/>
              </a:rPr>
              <a:t>Цель: научиться правильно писать буквы О и А на конце наречий</a:t>
            </a:r>
            <a:endParaRPr b="0" lang="en-US" sz="3200" spc="-1" strike="noStrike">
              <a:solidFill>
                <a:srgbClr val="ffffe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214280" y="857160"/>
          <a:ext cx="6286680" cy="5237280"/>
        </p:xfrm>
        <a:graphic>
          <a:graphicData uri="http://schemas.openxmlformats.org/drawingml/2006/table">
            <a:tbl>
              <a:tblPr/>
              <a:tblGrid>
                <a:gridCol w="3143520"/>
                <a:gridCol w="31431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едк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зредк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ух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осух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пра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пра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прав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ле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лев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зано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нов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7715160" y="4572000"/>
            <a:ext cx="1197000" cy="20001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28440" y="285840"/>
            <a:ext cx="293364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Гипотез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28400" y="1000080"/>
            <a:ext cx="871524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0680" algn="ctr"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Book Antiqu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Слова с приставками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в-, на-, за-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пишутся с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-о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 на конце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0680" algn="ctr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Book Antiqu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а слова с приставками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из-, до-, с-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пишутся с -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а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на конце слова</a:t>
            </a:r>
            <a:br>
              <a:rPr sz="3200"/>
            </a:b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394920"/>
            <a:ext cx="777384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33"/>
                </a:solidFill>
                <a:latin typeface="Bookman Old Style"/>
              </a:rPr>
              <a:t>Подтвердите выведенное правило примерам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57120" y="1571760"/>
            <a:ext cx="8786880" cy="45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160"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Слев</a:t>
            </a:r>
            <a:r>
              <a:rPr b="1" i="1" lang="ru-RU" sz="5400" spc="-1" strike="noStrike">
                <a:solidFill>
                  <a:srgbClr val="e70000"/>
                </a:solidFill>
                <a:latin typeface="Book Antiqua"/>
              </a:rPr>
              <a:t>а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, изредк</a:t>
            </a:r>
            <a:r>
              <a:rPr b="1" i="1" lang="ru-RU" sz="5400" spc="-1" strike="noStrike">
                <a:solidFill>
                  <a:srgbClr val="e70000"/>
                </a:solidFill>
                <a:latin typeface="Book Antiqua"/>
              </a:rPr>
              <a:t>а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,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 дочист</a:t>
            </a:r>
            <a:r>
              <a:rPr b="1" i="1" lang="ru-RU" sz="5400" spc="-1" strike="noStrike">
                <a:solidFill>
                  <a:srgbClr val="e70000"/>
                </a:solidFill>
                <a:latin typeface="Book Antiqua"/>
              </a:rPr>
              <a:t>а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7160"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запрост</a:t>
            </a:r>
            <a:r>
              <a:rPr b="1" i="1" lang="ru-RU" sz="5400" spc="-1" strike="noStrike">
                <a:solidFill>
                  <a:srgbClr val="e70000"/>
                </a:solidFill>
                <a:latin typeface="Book Antiqua"/>
              </a:rPr>
              <a:t>о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, вправ</a:t>
            </a:r>
            <a:r>
              <a:rPr b="1" i="1" lang="ru-RU" sz="5400" spc="-1" strike="noStrike">
                <a:solidFill>
                  <a:srgbClr val="e70000"/>
                </a:solidFill>
                <a:latin typeface="Book Antiqua"/>
              </a:rPr>
              <a:t>о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, напевн</a:t>
            </a:r>
            <a:r>
              <a:rPr b="1" i="1" lang="ru-RU" sz="5400" spc="-1" strike="noStrike">
                <a:solidFill>
                  <a:srgbClr val="e70000"/>
                </a:solidFill>
                <a:latin typeface="Book Antiqua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20:14:47Z</dcterms:created>
  <dc:creator>User</dc:creator>
  <dc:description/>
  <dc:language>en-US</dc:language>
  <cp:lastModifiedBy>User</cp:lastModifiedBy>
  <dcterms:modified xsi:type="dcterms:W3CDTF">2014-03-04T17:36:00Z</dcterms:modified>
  <cp:revision>24</cp:revision>
  <dc:subject/>
  <dc:title>Буквы о, а на конце наречий</dc:title>
</cp:coreProperties>
</file>