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4846-AB6E-4BDC-9DD0-4E848C4449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1ADFD-BCC1-4658-85A3-7A35066ABF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C455B-DE4A-4CF1-AFC3-36B0A80D98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23DF-3D9F-4DB0-9362-00E9B4158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24B-6D08-41E3-8DE1-52E177FF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B1E-4E87-4C26-BD68-3FD9DD61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B90-0BC9-4E40-B071-8DDECFA2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F4E-A09A-47E4-B92E-7D4190DC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F1D-575B-48F5-A3A6-0A2B3BE5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D1-B67A-4BAA-B53E-4603B2B5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042-7AEB-4B5A-933B-BFFAA58B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188-3E70-412A-9E05-5614EED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D05-4F57-490C-A89B-4B8CFE8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68F-0EE1-4DAF-9CDA-106E9978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73F-E89D-4C81-8CB2-32A190E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676-0909-47B4-A9C8-7D91C2E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67142A-551A-484C-A2D9-B391CEC751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1682640" y="279360"/>
            <a:ext cx="6858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Дульдургин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3786120"/>
            <a:ext cx="620712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5440" y="6637320"/>
            <a:ext cx="4071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ленова Н.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6" descr="сканирование0004.jpg"/>
          <p:cNvPicPr/>
          <p:nvPr/>
        </p:nvPicPr>
        <p:blipFill>
          <a:blip r:embed="rId3"/>
          <a:stretch/>
        </p:blipFill>
        <p:spPr>
          <a:xfrm>
            <a:off x="5826240" y="4065480"/>
            <a:ext cx="25714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138320" y="1136520"/>
            <a:ext cx="60861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ят на звонк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ьно звенят и шумя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627200" y="2298600"/>
            <a:ext cx="6541920" cy="1535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539720" y="3851280"/>
            <a:ext cx="75250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стоит им упасть со звон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ни теряют свой звонкий голо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лушаются и только шумя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1627200" y="5230800"/>
            <a:ext cx="6754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канирование0004.jpg"/>
          <p:cNvPicPr/>
          <p:nvPr/>
        </p:nvPicPr>
        <p:blipFill>
          <a:blip r:embed="rId1"/>
          <a:stretch/>
        </p:blipFill>
        <p:spPr>
          <a:xfrm>
            <a:off x="2325600" y="851040"/>
            <a:ext cx="4994280" cy="5565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897360" y="1208160"/>
            <a:ext cx="85716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Б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40240" y="2565360"/>
            <a:ext cx="92844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111480" y="3922560"/>
            <a:ext cx="121428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Ж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040360" y="1208160"/>
            <a:ext cx="71424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183280" y="2565360"/>
            <a:ext cx="92844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326200" y="3922560"/>
            <a:ext cx="928440" cy="1227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111400" y="1422360"/>
            <a:ext cx="100008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111400" y="2708280"/>
            <a:ext cx="92880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111400" y="5923080"/>
            <a:ext cx="135720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Ш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6183360" y="5851440"/>
            <a:ext cx="114300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6469200" y="1065240"/>
            <a:ext cx="114300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683400" y="2565360"/>
            <a:ext cx="954000" cy="1227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сканирование0002.jpg"/>
          <p:cNvPicPr/>
          <p:nvPr/>
        </p:nvPicPr>
        <p:blipFill>
          <a:blip r:embed="rId2"/>
          <a:stretch/>
        </p:blipFill>
        <p:spPr>
          <a:xfrm>
            <a:off x="2968560" y="0"/>
            <a:ext cx="6786720" cy="7029360"/>
          </a:xfrm>
          <a:prstGeom prst="rect">
            <a:avLst/>
          </a:prstGeom>
          <a:ln w="0">
            <a:noFill/>
          </a:ln>
        </p:spPr>
      </p:pic>
      <p:sp>
        <p:nvSpPr>
          <p:cNvPr id="71" name="Овал 4"/>
          <p:cNvSpPr/>
          <p:nvPr/>
        </p:nvSpPr>
        <p:spPr>
          <a:xfrm>
            <a:off x="468360" y="351000"/>
            <a:ext cx="2857320" cy="29286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Щ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611520" y="851040"/>
            <a:ext cx="1500120" cy="14544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468760" y="1136520"/>
            <a:ext cx="1428840" cy="14544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182760" y="3279600"/>
            <a:ext cx="1714680" cy="14544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5040360" y="2922480"/>
            <a:ext cx="1143000" cy="14544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254640" y="2994120"/>
            <a:ext cx="1214640" cy="14544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3"/>
          <a:stretch/>
        </p:blipFill>
        <p:spPr>
          <a:xfrm>
            <a:off x="152280" y="5078520"/>
            <a:ext cx="4486320" cy="11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1</cp:lastModifiedBy>
  <dcterms:modified xsi:type="dcterms:W3CDTF">2012-04-01T09:26:19Z</dcterms:modified>
  <cp:revision>11</cp:revision>
  <dc:subject/>
  <dc:title>Слайд 1</dc:title>
</cp:coreProperties>
</file>