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36A-7ADD-42C8-83C5-C2097CCB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833-84AA-45E4-A8CB-C6A30DA2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9C1465-B041-4AD3-99C6-6A556411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ED028D-A9EA-433D-A66E-8B7345B4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3266E1-2970-4A4A-B62C-1FC4524A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A2A527-3396-43A5-B711-80BD0E67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06B17B-8605-43B3-BED7-73E2B780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639EAB-E007-4D29-ADB8-27D4997C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451F04-B9E7-4DFB-8501-CEEB3CC1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507D0F-4A7E-4942-ADD1-F4817596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52403D-7289-4815-9C9C-9B45E032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E72E87-13A5-4619-85A7-66576F70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C40-08B1-4BD7-AE3B-6DF484E5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4D7F87-6DA7-4252-BFFF-C5A5CD82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082AD3-FA51-49D7-A948-18DDC927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9CEBCA-F610-4912-B7E3-467174C7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450B78-ECD3-4C1D-951E-9F46BFE0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BEDDEA-D03A-4A5E-8F3D-7FB3434F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08C00E-35DD-4F11-9F79-ACA5A840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4E14D6-2312-489D-9BA9-9CB710C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B60AC9-5BFB-41EF-ADFD-0C582E86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241B21-BB28-4D4F-873E-AD52C9AA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BAE8DB-6C3F-4EF4-A1FA-7E801C6B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934-5FDF-425F-9981-E219EE97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049AA3-11A8-43EC-860D-0570EA9E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D51EF-44DB-4701-9AEE-B80FC2F9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3A1AE-D014-44AF-90E5-E8B3DC9E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92EA4-D3EC-4639-B37A-3BD48F2B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05605-5CEB-4BED-9922-9ECC89CC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763E5-4B24-4338-9765-FBB49F81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E87DD-DC78-4FF6-9356-0B2C0B6A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26C3B-EACD-4B4A-AA1B-F2661818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D6B56-21EE-4F43-8938-1A8852AA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40325-E1DA-49EA-9E48-E6CB5430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2044-BD0D-4BFA-A698-0347D2B8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9FCDE-12F3-420B-8E97-D582884D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11E8F-52B0-4435-B08A-7F06A609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27453-1737-4C83-B860-906B2E75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7B536-CBD1-41FE-9A2E-AFE5E463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78645-242E-40CC-BD23-80990BB8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E024D-0A44-469B-8E8C-B8C736F7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111C2-5DE2-4467-86E8-C177100C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63B56-186E-4C9E-92F3-C94723F2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E670A-0719-4A70-99F2-26A9AFC9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60B4F-77ED-4533-BB29-67AACDD9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698C-E31F-4ECA-B973-326B3454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545A5-628C-4FF8-8612-71FCAE84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3B05A-C8A0-44B9-9E64-C7F71B93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2302F-4FFC-4F0B-8076-2EBF0918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2AF51-47AC-47ED-BB55-4CDC1DFF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73D21-ACFA-4A63-A5CA-958CAED5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E2DA-793F-4232-A861-C015A7BC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E84F-9361-43A5-B644-EA4F368F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2F3D-ECD1-49CC-B71F-E22E5D40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E1A9-908E-4813-A3B1-FCB63EEE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A702-116C-48F4-AEF8-38126F6D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511-86B2-4A81-BCED-2B235A29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D6D5-D9B9-45E9-AC00-ED595540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D40B-230C-4369-8497-3EEA8AD3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B80F-B358-4620-8BC8-5BB07767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2A56-7DC8-44AE-ABF3-46F6F40D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0CA3-CB59-4F2D-854B-4A5F9C14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53173-9756-4109-81EC-DF6A9993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A727F-5441-4D06-BB31-CDE0AFA3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4F141-09FC-4D08-AB39-B936DDDE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62C01-7F08-4749-892D-EC4FC29C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1195E-B1FD-42B7-B162-9D6DCB34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7DB-01D7-4BF0-BECF-D2B2C2C7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0E2CE-B761-4B43-9D3D-BA27BE99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3567E-7106-4D1C-83C8-84E86BCF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E3CD3-D2C1-4FE8-8643-5AD7A1E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A598A-FEF3-44E6-9154-FC0356CD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A7E1B-79CD-4EA9-95B8-A1A3AEA2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68C01-2E11-446C-90D0-D953C739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5BEFF-2302-4B47-8321-BC0E2507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11617-ED25-423D-B5D0-6251228C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1A0CE-D772-42D4-BEB6-29B0383B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4501F-883C-4273-A9B7-F5BC6359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4FA-B6AC-400E-A729-A0912562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FFB7B-72E6-4FF9-BD9F-4A120A24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05A0E-A96E-49A8-803A-A30DAC18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4D171-27C5-4F57-8099-D3AACB2D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3BB2B-219B-4F9A-8787-9A6DFA93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2A993-92AD-4E77-A39A-59AF36BF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1148-23A2-4027-8CFB-C3E70D75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51B81-38B5-49D7-A7E9-C5A949FD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F259-F926-4DA7-A9CA-3E6EBF34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7F58E-DC41-49E7-A973-384BC645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D3DF5-05EA-48C4-BE38-FC011447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B68-8D61-4315-B823-76201886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770F-D1FC-4558-B68D-DB5ED5EE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E0208-2366-4E44-92F4-19FB1F7E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CAB0-E766-4839-A3C8-0E0AA78E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186D6-AF9C-41DE-8559-662C3252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B4831-6D5C-4C08-9884-C21C68FD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455B5-0B2A-4541-9DEB-CC2B3865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63488-F9C8-49EB-907A-610C3B1E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0C1C7-3949-40D3-8F04-FC89C948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C70C-CDF1-4367-AB6E-9FF5EBBB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0ED75-7762-48B2-966E-CCF2CDB3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8BE-87DC-4BB7-8E0E-9CC751BE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BD5D3-A239-441B-AFC6-2522C43D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6BEC7-A8D6-4BC5-80F6-10B028F8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64968-A806-432D-AAC2-854D2A84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37BD9-61C8-4AE0-B158-0943F370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1129D-617A-4C73-852E-D614D798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BFDDC-83D3-4182-8D65-498F3977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97AED-CD16-4AE5-95B5-864A00C9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F0DB6-751F-4D6D-9741-D95EF1E8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DB2B4-FFD3-4E20-A6F8-F99B880A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3DE9-8105-41EA-AAF4-8C8CB8C7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600-3636-4B9D-87EB-D0A396C3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31B34-71DA-4CFE-9C00-09BA82C9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17075-912E-45EC-A439-CB60D56E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9E0D1-6DBD-4064-9E41-9342C35C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788C1-C957-426D-8671-E5D5FDD5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EC225-4C4E-4905-85AF-629C36BE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83725-B678-469A-A991-5E61D45F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05541C-DC97-4E4B-B5D2-09B5FE0B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6A400-5215-4B0C-B12C-C1F4F1FF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3E2B4-C554-47F9-A8D8-44CCFBE7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7904C-4888-4971-8E97-06A4D355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9E1-09E4-4412-8DF5-9C32DE6A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7B770-D1D5-4396-AD60-0DCB0DC4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75CAC-184C-48E8-B625-6BC55A8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F52E6-682D-4F4E-B20E-FB0C085C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C4A358-C49D-449A-A15B-D1E2E75B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56B7D-2A82-4023-BBE1-408EBAF8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12716-4345-44B4-BDF3-E99F6527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C888B-7FEA-46A0-8895-747038CD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54099-D828-436A-81FC-18290C46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51C06-2ABC-40C7-971F-17D13111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880C9-CF28-4A45-89D0-42C6D349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511-A16F-43A7-9BCA-5B1E8165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CBF00-71CC-4BB4-AC4B-3BA4190F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8BA3C-F2B3-4A62-ACC1-97C40AAF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85333-8F2E-461E-8215-59007155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DF768-6B49-4472-98FD-65B4E596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910B8-309D-4532-B5F7-DD504008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13D5-493F-4884-A51B-AA5B79DA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1A4DB-BE35-4808-B290-B9413F5F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A8577-A865-4F38-ADA8-71ACC447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2B0FEC-C0B6-4A65-A9C6-70913CE7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7A993D-88DD-4224-A9A1-06A576CA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E6A0-7349-41C6-B045-9C7AA53FAE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DBFE-B6C3-473E-8A1D-AD2A2FD275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08C1-BABC-4CF4-8FA3-96D188E17D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7DC2-E0E4-4AEC-822C-D1788D840F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F29B-2615-4ED4-BF63-B9FBCB8725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81EF-61B0-4E18-934C-6EFC7E83AC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9E97-73EB-4ED6-B339-B15342DC5B8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1095-0F96-4F30-8F84-C58149425C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07B-01DC-46AB-A9C7-835E8775F0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E6C4-B87B-43D2-B6E8-9B953335BB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7F69-0823-40E0-8E47-07C2DBD1D8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5833-FF29-4C98-8DD1-C32C537E2C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AutoShape 2" descr=""/>
          <p:cNvPicPr/>
          <p:nvPr/>
        </p:nvPicPr>
        <p:blipFill>
          <a:blip r:embed="rId1"/>
          <a:stretch/>
        </p:blipFill>
        <p:spPr>
          <a:xfrm>
            <a:off x="689040" y="573120"/>
            <a:ext cx="8229600" cy="292572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2285640" y="3714480"/>
            <a:ext cx="61722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МБДОУ детский сад №1«Солнышко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у.Тохой  Селенгинский район  РБ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Воспитатель: Доржиева Светлана Тогочиев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8" name="Picture 4" descr="F:\DCIM\428PHOTO\SAM_0151.JPG"/>
          <p:cNvPicPr/>
          <p:nvPr/>
        </p:nvPicPr>
        <p:blipFill>
          <a:blip r:embed="rId2"/>
          <a:stretch/>
        </p:blipFill>
        <p:spPr>
          <a:xfrm>
            <a:off x="0" y="214200"/>
            <a:ext cx="2928960" cy="2095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0" name="Содержимое 3" descr="F:\DCIM\428PHOTO\SAM_0052.JPG"/>
          <p:cNvPicPr/>
          <p:nvPr/>
        </p:nvPicPr>
        <p:blipFill>
          <a:blip r:embed="rId1"/>
          <a:stretch/>
        </p:blipFill>
        <p:spPr>
          <a:xfrm>
            <a:off x="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2" name="Picture 2" descr="F:\DCIM\428PHOTO\SAM_0058.JPG"/>
          <p:cNvPicPr/>
          <p:nvPr/>
        </p:nvPicPr>
        <p:blipFill>
          <a:blip r:embed="rId1"/>
          <a:stretch/>
        </p:blipFill>
        <p:spPr>
          <a:xfrm>
            <a:off x="284040" y="212760"/>
            <a:ext cx="8859960" cy="6645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4" name="Picture 2" descr="C:\Users\дс№1Тохой\Desktop\ясли\IMG_20150305_101158.jpg"/>
          <p:cNvPicPr/>
          <p:nvPr/>
        </p:nvPicPr>
        <p:blipFill>
          <a:blip r:embed="rId1"/>
          <a:stretch/>
        </p:blipFill>
        <p:spPr>
          <a:xfrm>
            <a:off x="428760" y="0"/>
            <a:ext cx="8215200" cy="6799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6" name="Picture 2" descr="F:\DCIM\428PHOTO\SAM_0149.JPG"/>
          <p:cNvPicPr/>
          <p:nvPr/>
        </p:nvPicPr>
        <p:blipFill>
          <a:blip r:embed="rId1"/>
          <a:stretch/>
        </p:blipFill>
        <p:spPr>
          <a:xfrm>
            <a:off x="285840" y="0"/>
            <a:ext cx="8717040" cy="6537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8" name="Picture 2" descr="F:\DCIM\428PHOTO\SAM_0145.JPG"/>
          <p:cNvPicPr/>
          <p:nvPr/>
        </p:nvPicPr>
        <p:blipFill>
          <a:blip r:embed="rId1"/>
          <a:stretch/>
        </p:blipFill>
        <p:spPr>
          <a:xfrm>
            <a:off x="285840" y="338040"/>
            <a:ext cx="8692920" cy="65199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0" name="Picture 2" descr="F:\DCIM\428PHOTO\SAM_0142.JPG"/>
          <p:cNvPicPr/>
          <p:nvPr/>
        </p:nvPicPr>
        <p:blipFill>
          <a:blip r:embed="rId1"/>
          <a:stretch/>
        </p:blipFill>
        <p:spPr>
          <a:xfrm>
            <a:off x="2142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2" name="Picture 2" descr="F:\DCIM\428PHOTO\SAM_0141.JPG"/>
          <p:cNvPicPr/>
          <p:nvPr/>
        </p:nvPicPr>
        <p:blipFill>
          <a:blip r:embed="rId1"/>
          <a:stretch/>
        </p:blipFill>
        <p:spPr>
          <a:xfrm>
            <a:off x="355680" y="0"/>
            <a:ext cx="8788320" cy="65912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571680" y="150840"/>
            <a:ext cx="8431200" cy="6323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285840" y="374760"/>
            <a:ext cx="8645400" cy="64832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274680" y="214200"/>
            <a:ext cx="8346960" cy="6259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9250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РАСШИРИТЬ ПРЕДСТАВЛЕНИЯ ДЕТЕЙ О РУССКИХ НАРОДНЫХ СКАЗКАХ, ПРИВИВАТЬ ЛЮБОВЬ И ИНТЕРЕС К РУССКОМУ НАРОДНОМУ ТВОРЧЕСТВУ.</a:t>
            </a:r>
            <a:br>
              <a:rPr sz="32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90" name="Прямоугольник 4" descr=""/>
          <p:cNvPicPr/>
          <p:nvPr/>
        </p:nvPicPr>
        <p:blipFill>
          <a:blip r:embed="rId1"/>
          <a:stretch/>
        </p:blipFill>
        <p:spPr>
          <a:xfrm>
            <a:off x="1139760" y="858960"/>
            <a:ext cx="6431040" cy="258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F:\DCIM\428PHOTO\SAM_0153.JPG"/>
          <p:cNvPicPr/>
          <p:nvPr/>
        </p:nvPicPr>
        <p:blipFill>
          <a:blip r:embed="rId2"/>
          <a:stretch/>
        </p:blipFill>
        <p:spPr>
          <a:xfrm>
            <a:off x="5000760" y="3592440"/>
            <a:ext cx="3854160" cy="3265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7650000" cy="114624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Повышение интереса детей к художественной литератур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Повышение компетентности членов семьи в вопросах воспитания грамотного читателя, речевого   развития ребё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Возрождение домашнего чт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Позитивные изменения в речи де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Обобщение и распространение семейного опы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1" name="Прямоугольник 3" descr=""/>
          <p:cNvPicPr/>
          <p:nvPr/>
        </p:nvPicPr>
        <p:blipFill>
          <a:blip r:embed="rId2"/>
          <a:stretch/>
        </p:blipFill>
        <p:spPr>
          <a:xfrm>
            <a:off x="2017800" y="2968560"/>
            <a:ext cx="377640" cy="920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1760" y="2071440"/>
            <a:ext cx="792468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857160" y="713880"/>
            <a:ext cx="7693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В проекте принимали участие все дети группы. У детей повысился уровень знаний русских народных сказок, расширился кругозор, речь детей стала более насыщенной и выразительной. Родители проявили инициативу и творчество в реализации проект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ru-RU" sz="4400" spc="-1" strike="noStrike">
                <a:solidFill>
                  <a:srgbClr val="eb6e5a"/>
                </a:solidFill>
                <a:latin typeface="Century Schoolbook"/>
              </a:rPr>
              <a:t>СПАСИБО ЗА ВНИМАНИЕ !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35" name="Picture 4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757224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785880"/>
            <a:ext cx="7467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5c01"/>
                </a:solidFill>
                <a:latin typeface="Century Schoolbook"/>
              </a:rPr>
              <a:t>ЗАДАЧИ:</a:t>
            </a:r>
            <a:br>
              <a:rPr sz="29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- формировать у детей знания о русских народных сказк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- воспитывать интерес к русскому народному творчеств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- прививать любовь к книг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- развивать речь, активизировать словарный запа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- развивать творчество, фантазию, воображ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- укреплять взаимоотношения с родителя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4" name="Picture 4" descr="F:\DCIM\428PHOTO\SAM_0154.JPG"/>
          <p:cNvPicPr/>
          <p:nvPr/>
        </p:nvPicPr>
        <p:blipFill>
          <a:blip r:embed="rId1"/>
          <a:stretch/>
        </p:blipFill>
        <p:spPr>
          <a:xfrm>
            <a:off x="6000840" y="0"/>
            <a:ext cx="263520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57160" y="857160"/>
            <a:ext cx="792504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6e5a"/>
                </a:solidFill>
                <a:latin typeface="Century Schoolbook"/>
              </a:rPr>
              <a:t>АКТУАЛЬНОСТЬ ДАННОГО ПРОЕКТА</a:t>
            </a: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 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7786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Century Schoolbook"/>
              </a:rPr>
              <a:t>- Сказка близка ребенку по мироощущению, ведь, у него эмоционально — чувственное восприятие мира. Ему еще не понятна логика взрослых рассуждений. А сказка и не учит напрямую. В ней есть только волшебные образы, которыми ребенок наслаждается, определяя свои симпатии. В сказке  есть четкая граница: это — Добро, а это — Зло, этот персонаж — плохой, а этот — хороший.  И малыш знает, что Кощей обязательно будет побежден и добро победит. Это упорядочивает сложные чувства ребенка, а благополучный конец позволяет поверить в то, что в будущем и он сделает что — то хороше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AutoShape 2" descr=""/>
          <p:cNvPicPr/>
          <p:nvPr/>
        </p:nvPicPr>
        <p:blipFill>
          <a:blip r:embed="rId1"/>
          <a:stretch/>
        </p:blipFill>
        <p:spPr>
          <a:xfrm>
            <a:off x="762120" y="865080"/>
            <a:ext cx="7924680" cy="27068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456840" y="2214360"/>
            <a:ext cx="746748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5c01"/>
                </a:solidFill>
                <a:latin typeface="Century Schoolbook"/>
              </a:rPr>
              <a:t>- формулировка цели и задач проект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5c01"/>
                </a:solidFill>
                <a:latin typeface="Century Schoolbook"/>
              </a:rPr>
              <a:t>- составление плана реализации проекта «Русские народные сказки»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5c01"/>
                </a:solidFill>
                <a:latin typeface="Century Schoolbook"/>
              </a:rPr>
              <a:t>- чтение русских народных сказок дома и в саду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5c01"/>
                </a:solidFill>
                <a:latin typeface="Century Schoolbook"/>
              </a:rPr>
              <a:t>- рассматривание иллюстраций в книгах «Русские народные сказки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6e5a"/>
                </a:solidFill>
                <a:latin typeface="Century Schoolbook"/>
              </a:rPr>
              <a:t>- знакомство с русскими народными сказками в группе и дом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6e5a"/>
                </a:solidFill>
                <a:latin typeface="Century Schoolbook"/>
              </a:rPr>
              <a:t>- просмотр мультфильмов по сказка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6e5a"/>
                </a:solidFill>
                <a:latin typeface="Century Schoolbook"/>
              </a:rPr>
              <a:t>- чтение стихов про героев сказок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6e5a"/>
                </a:solidFill>
                <a:latin typeface="Century Schoolbook"/>
              </a:rPr>
              <a:t>- инсценировка  русских народных сказок с использованием различных видов  театров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6e5a"/>
                </a:solidFill>
                <a:latin typeface="Century Schoolbook"/>
              </a:rPr>
              <a:t>- разучивание потешек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6e5a"/>
                </a:solidFill>
                <a:latin typeface="Century Schoolbook"/>
              </a:rPr>
              <a:t>- дидактические игры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6e5a"/>
                </a:solidFill>
                <a:latin typeface="Century Schoolbook"/>
              </a:rPr>
              <a:t>- рассматривание альбома: «Сказки — загадки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6e5a"/>
                </a:solidFill>
                <a:latin typeface="Century Schoolbook"/>
              </a:rPr>
              <a:t>- загадывание загадок по сказка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6e5a"/>
                </a:solidFill>
                <a:latin typeface="Century Schoolbook"/>
              </a:rPr>
              <a:t>- рассматривание альбомов сказок, потешек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6e5a"/>
                </a:solidFill>
                <a:latin typeface="Century Schoolbook"/>
              </a:rPr>
              <a:t>- подвижные игры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01" name="Прямоугольник 3" descr=""/>
          <p:cNvPicPr/>
          <p:nvPr/>
        </p:nvPicPr>
        <p:blipFill>
          <a:blip r:embed="rId1"/>
          <a:stretch/>
        </p:blipFill>
        <p:spPr>
          <a:xfrm>
            <a:off x="1646280" y="639720"/>
            <a:ext cx="5284800" cy="927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71320" y="571680"/>
            <a:ext cx="7467480" cy="60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- раскрашивание персонажей  сказо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- выполнение совместной аппликации по сказке «Колоб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- выполнение совместной лепки по сказке «Репка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- строительство теремка, его заселение «жителями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- составление сказок из куб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- выкладывание сказок из пазлов;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- настольные игр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- выставка книг по русским народным сказка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- инсценирование сказки «Теремок», «Репка» с музыкальным сопровождени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6840" y="199980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- выставка поделок «Мой любимый герой»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- выставки книг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- изготовление альбомов, дидактических игр, театров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06" name="Прямоугольник 3" descr=""/>
          <p:cNvPicPr/>
          <p:nvPr/>
        </p:nvPicPr>
        <p:blipFill>
          <a:blip r:embed="rId1"/>
          <a:stretch/>
        </p:blipFill>
        <p:spPr>
          <a:xfrm>
            <a:off x="1347840" y="573120"/>
            <a:ext cx="6448320" cy="920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8" name="Picture 2" descr="F:\DCIM\428PHOTO\SAM_0048.JPG"/>
          <p:cNvPicPr/>
          <p:nvPr/>
        </p:nvPicPr>
        <p:blipFill>
          <a:blip r:embed="rId1"/>
          <a:stretch/>
        </p:blipFill>
        <p:spPr>
          <a:xfrm>
            <a:off x="214200" y="214200"/>
            <a:ext cx="8631360" cy="6473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6:44:31Z</dcterms:created>
  <dc:creator>user</dc:creator>
  <dc:description/>
  <dc:language>en-US</dc:language>
  <cp:lastModifiedBy>Эржена Нимаева</cp:lastModifiedBy>
  <dcterms:modified xsi:type="dcterms:W3CDTF">2015-04-06T13:35:25Z</dcterms:modified>
  <cp:revision>73</cp:revision>
  <dc:subject/>
  <dc:title>ПРЕДМЕТНО-ПРОСТРАНСТВЕННАЯ РАЗВИВАЮЩАЯ СРЕДА В ГРУППЕ В СООТВЕТСТВИИ С ФГОС</dc:title>
</cp:coreProperties>
</file>