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372-2049-48E6-B69F-14F382D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981-ADA2-4507-805E-CDDE5675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DB4-E7C2-4F88-A253-8CDCD746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7BE-6210-4F55-8FEE-48DA987D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EA15-66AE-4BC4-AE66-79F57418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ADDC-006C-4460-A42C-0A449837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83ED-134F-4935-B6A8-E104D8B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8A9-91D8-4857-8726-047A0FC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2909-CC80-49E0-930C-95A892CB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FE8F-6630-4F3F-BC72-8199C2B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50FC-2007-4035-9E46-FBA2893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225-4493-4638-AF29-FDE9402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E384-8898-40DA-BE1F-175A5F3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A52-CFCE-402B-AC99-A208344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EAD-3A05-4695-817F-8E70B0D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89C4-C728-4E07-8363-BA2F9D6A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472-563A-4D4B-A102-59DC1934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594-17BA-49A5-A88E-66B87E1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298-5625-419D-ACE2-BCF995CC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509-F434-4433-BDA6-70C8956B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703-BCD6-43B5-9AA1-62EC8AC6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B4A-C1AE-4717-9767-2F1E8BE6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CDD-2C83-40DE-A0CB-6DD6CF1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57F-55D7-40EB-836D-511C581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C3ED-5E2A-4AFF-B595-0F70C721F0D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3A5-F8DA-49F6-B1CA-FABC4CDCB10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Заголовок 5"/>
          <p:cNvSpPr/>
          <p:nvPr/>
        </p:nvSpPr>
        <p:spPr>
          <a:xfrm>
            <a:off x="1143000" y="2057400"/>
            <a:ext cx="672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182c4b"/>
                </a:solidFill>
                <a:latin typeface="Times New Roman"/>
                <a:ea typeface="Times New Roman"/>
              </a:rPr>
              <a:t>Урок математики в 5 классе</a:t>
            </a:r>
            <a:endParaRPr b="0" lang="en-US" sz="4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82c4b"/>
                </a:solidFill>
                <a:latin typeface="Century Gothic"/>
              </a:rPr>
              <a:t>Проценты</a:t>
            </a:r>
            <a:endParaRPr b="0" lang="en-US" sz="5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63760" y="5446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2c4b"/>
                </a:solidFill>
                <a:latin typeface="Palatino Linotype"/>
              </a:rPr>
              <a:t>Муниципальное общеобразовательное казённое учреждение Фабричная основная общеобразовательная школа пгт Лальск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91120" y="4571640"/>
            <a:ext cx="441936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Марьинская Т.Ю.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602320"/>
            <a:ext cx="12556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998640" y="1219320"/>
            <a:ext cx="7238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из вас выскажет мнение о пройденном уроке, вот фразы, с которых вы можете начать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я научился…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урок дал мне для жизни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40320" y="1981080"/>
            <a:ext cx="3705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426960" y="1663560"/>
            <a:ext cx="8113680" cy="95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>
            <a:grayscl/>
          </a:blip>
          <a:srcRect l="73790" t="0" r="0" b="58937"/>
          <a:stretch/>
        </p:blipFill>
        <p:spPr>
          <a:xfrm>
            <a:off x="5359320" y="2743200"/>
            <a:ext cx="25574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295280" y="33526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anova73.ru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osti.ru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toryof.ru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fit4mama.ru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48info.ru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1143000" y="12304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.Я.Виленкин, В.И.Жохов, А.С.Чесноков, С.И.Шварцбурд. Математика.6 класс М,:Мнемозина. 2009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.В.Выговская. Поурочные разработки по математике. 6 класс.-М.:Вако.2008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62120" y="1066680"/>
            <a:ext cx="761976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одну сотую часть от каждого числа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00       800        2600        70               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3         6,3         180,5          9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отую часть каждой  величины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рубль    1м     1км    1ц       1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3970440" cy="1492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838080" y="40068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к как 1% равен сотой части величины, то вся величина равн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0%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976480" y="320760"/>
            <a:ext cx="25909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685800" y="1219320"/>
            <a:ext cx="8229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Запишите в виде десятичной дроби: 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1%               9%                  63%      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158%            7,2%                0,3%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38080" y="3105000"/>
            <a:ext cx="7675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Запишите в процентах десятичные дроби: 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0,84             0,09                5,69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0,094           3,478              30,6 </a:t>
            </a:r>
            <a:endParaRPr b="0" lang="en-US" sz="3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685800" y="1066680"/>
            <a:ext cx="770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вейная фабрика выпустила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00 костюмов. Из них 32%  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ют костюмы нового фасона.  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костюмов нового фасона  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устила фабрика?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08880" y="695160"/>
            <a:ext cx="950760" cy="1432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1298520" y="695160"/>
            <a:ext cx="10908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752480" y="1252440"/>
            <a:ext cx="58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 решить на проценты задачу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упайте  так, а  не иначе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чинайте решенье с того –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вайте цену одного…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надо процентов, тогд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найдете умножением без труда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636480" y="1447920"/>
            <a:ext cx="739152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Поднимает руки класс – это «раз»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Повернулась голова – это «два»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уки вниз, вперед смотри – это «три»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уки в стороны по – шире развернули на «четыре»,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 силой их к плечам прижать – это «пять»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сем ребятам надо сесть – это «шесть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327720" y="152280"/>
            <a:ext cx="340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023120" y="914400"/>
            <a:ext cx="721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ите самостоятельно задания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561, 1562,1566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20800" y="2819520"/>
            <a:ext cx="3619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838080" y="2743200"/>
            <a:ext cx="723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 №1598,1599,1612(а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Подготовить творческую работу по одной из предложенных тем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з истории процентов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оценты в окружающем нас мире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Если есть возможность работать на компьютере, то подготовьте презентацию по теме «Проценты»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думайте и оформите  с решением свою задачу (задачи) на  проценты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328680"/>
            <a:ext cx="37339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tuana</dc:creator>
  <dc:description/>
  <dc:language>en-US</dc:language>
  <cp:lastModifiedBy>Tatuana</cp:lastModifiedBy>
  <dcterms:modified xsi:type="dcterms:W3CDTF">2015-04-05T05:35:28Z</dcterms:modified>
  <cp:revision>28</cp:revision>
  <dc:subject/>
  <dc:title>Урок по теме «Сумма углов треугольника» – геометрия 7 класс Л.С.Атанасяна.</dc:title>
</cp:coreProperties>
</file>