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48F-A49F-4BFB-8856-823DB1F2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BAF-05C8-478F-9461-07A07053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552-1726-41CB-A2DA-67F5F0DD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0C1-C005-4A41-8176-46E3519E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4E48-6D29-4F6A-91A5-DB5EE073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77A-A0CB-4675-A303-FE66573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DC4D-B51E-4E70-97DC-96D8FDB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462-4900-413B-BA38-DA1F66F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D99D-BA74-4F2B-9997-04ECD534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4C5-CA31-4110-A068-BB68A337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CE4-A4F4-4BEC-9F38-7F3A24E0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6E2-12D0-494C-A739-347B8F8C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AE2-3E54-4C35-AC02-44D3650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18F-A020-434F-9221-0D04B4F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0BD-9D70-46B8-B1AC-BD9A3E5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9C57-E5F1-4C9A-BFF9-C412CDEA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A98C-E2B7-4A05-A56D-F4E72657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CF6-25F5-4BB2-9880-7313A2C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B1A-92DC-47CC-BE4C-33FB93A8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576-251A-4849-8851-2285151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C5B-69A1-4FB5-8637-D1AAEEC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CE5-C780-419C-BCA9-2D54734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017-C473-43D6-8061-97A0505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7A2-2463-4ABE-8D45-972591A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8A04-B7E9-4C39-8AB7-000A43498C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268-3BAF-41D1-A111-648A3ADD37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131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Propisi"/>
              </a:rPr>
              <a:t>Двадцать  седьмое  ноября</a:t>
            </a:r>
            <a:r>
              <a:rPr b="1" lang="ru-RU" sz="6000" spc="-1" strike="noStrike">
                <a:solidFill>
                  <a:srgbClr val="000000"/>
                </a:solidFill>
                <a:latin typeface="Propis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3141360"/>
            <a:ext cx="76960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0" y="3992400"/>
            <a:ext cx="9144000" cy="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ая соединительная линия 6"/>
          <p:cNvSpPr/>
          <p:nvPr/>
        </p:nvSpPr>
        <p:spPr>
          <a:xfrm>
            <a:off x="36360" y="3284640"/>
            <a:ext cx="910764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Monotype Corsiva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703dff"/>
                </a:solidFill>
                <a:latin typeface="Monotype Corsiva"/>
              </a:rPr>
              <a:t>Безударный глас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Monotype Corsiva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703dff"/>
                </a:solidFill>
                <a:latin typeface="Monotype Corsiva"/>
              </a:rPr>
              <a:t>Стоп!   Писать опасн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</a:rPr>
              <a:t>Чтоб развеять все сомнения, мы советуем работать по алгоритму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ерить безударную гласную в корне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слово, выясни его знач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ь ударение, определи позицию безударной гласной в слов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 несколько родственных с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 корень и подчеркни безударную гласную в слов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бери проверочное слово, в котором безударный слышится   яс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ни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оверяемом и проверочных слов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шется одна и та же гласная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7640" y="620640"/>
            <a:ext cx="1166724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авильно написать безударную гласну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________________слова, надо _____________________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так, чтобы _______________________________­­­­­­­­­­­­­­­­­­­­­­­­­­­­­­­­­­­­­­­­­­­­­­­­­­­­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стал ________________________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дарная гласная в корне слова это- ___________________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ва для справок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фограмма, корне, безударны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ить, удар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3680" y="620640"/>
            <a:ext cx="850500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авильно написать безударную гласну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кор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, надо </a:t>
            </a: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измен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 так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</a:t>
            </a: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безудар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к стал </a:t>
            </a: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ударны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дарная гласная в корне слова это- </a:t>
            </a: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орфограм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ва для справок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фограмма, корне, безударны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ить, удар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1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ы работали н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опасными» местами в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овах: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крыли секреты грамотного письма безударных гласных в слабой пози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лись помогать «бедняжкам» гласным с помощью ударения, подбора однокоренных сл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яли занимательные зада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яли  интерес к изучению родного язы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493080" y="252360"/>
            <a:ext cx="172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0082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104, упр. 1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104 правило наизу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желанию доп. задание в рабочей тетради стр. 55   Упр. 13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smotrimultiki.ru/screenshot/1887_v_strane_nevyuchennyh_urokov_1.jpg"/>
          <p:cNvPicPr/>
          <p:nvPr/>
        </p:nvPicPr>
        <p:blipFill>
          <a:blip r:embed="rId1"/>
          <a:stretch/>
        </p:blipFill>
        <p:spPr>
          <a:xfrm>
            <a:off x="250920" y="189000"/>
            <a:ext cx="7265880" cy="53067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ая соединительная линия 4"/>
          <p:cNvSpPr/>
          <p:nvPr/>
        </p:nvSpPr>
        <p:spPr>
          <a:xfrm flipH="1">
            <a:off x="826560" y="2389320"/>
            <a:ext cx="1008360" cy="118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>
            <a:off x="826920" y="2421000"/>
            <a:ext cx="100836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http://xrest.ru/images/collection/00611/070/original.jpg"/>
          <p:cNvPicPr/>
          <p:nvPr/>
        </p:nvPicPr>
        <p:blipFill>
          <a:blip r:embed="rId2"/>
          <a:stretch/>
        </p:blipFill>
        <p:spPr>
          <a:xfrm>
            <a:off x="3882960" y="4578480"/>
            <a:ext cx="526104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3481560" y="1125360"/>
            <a:ext cx="185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т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ер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ябр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п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ец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530440" y="3859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Словарны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727520" y="1268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20908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0082"/>
                </a:solidFill>
                <a:uFillTx/>
                <a:latin typeface="Comic Sans MS"/>
              </a:rPr>
              <a:t>Слова с безударной гласной в кор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1341360"/>
            <a:ext cx="4818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ела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еч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яс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езн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ж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ё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 flipH="1">
            <a:off x="3987720" y="1320840"/>
            <a:ext cx="216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 flipH="1">
            <a:off x="3751200" y="2133720"/>
            <a:ext cx="21600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10"/>
          <p:cNvSpPr/>
          <p:nvPr/>
        </p:nvSpPr>
        <p:spPr>
          <a:xfrm flipH="1">
            <a:off x="3879720" y="2924280"/>
            <a:ext cx="216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Прямая соединительная линия 11"/>
          <p:cNvSpPr/>
          <p:nvPr/>
        </p:nvSpPr>
        <p:spPr>
          <a:xfrm flipH="1">
            <a:off x="3643200" y="3645000"/>
            <a:ext cx="216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Прямая соединительная линия 12"/>
          <p:cNvSpPr/>
          <p:nvPr/>
        </p:nvSpPr>
        <p:spPr>
          <a:xfrm flipH="1">
            <a:off x="3903480" y="4437000"/>
            <a:ext cx="215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Прямая соединительная линия 13"/>
          <p:cNvSpPr/>
          <p:nvPr/>
        </p:nvSpPr>
        <p:spPr>
          <a:xfrm flipH="1">
            <a:off x="3579840" y="5229360"/>
            <a:ext cx="21600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5e24"/>
                </a:solidFill>
                <a:latin typeface="Comic Sans MS"/>
              </a:rPr>
              <a:t>«Правописание безударной гласной </a:t>
            </a:r>
            <a:br>
              <a:rPr sz="4400"/>
            </a:br>
            <a:r>
              <a:rPr b="0" lang="ru-RU" sz="4400" spc="-1" strike="noStrike">
                <a:solidFill>
                  <a:srgbClr val="245e24"/>
                </a:solidFill>
                <a:latin typeface="Comic Sans MS"/>
              </a:rPr>
              <a:t>в корне слов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5229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4067280" y="0"/>
            <a:ext cx="345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0082"/>
                </a:solidFill>
                <a:latin typeface="Times New Roman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195640" y="5373720"/>
            <a:ext cx="626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иться правильно писать слова с безударным гласным в корне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79280" y="692280"/>
          <a:ext cx="7848720" cy="45766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544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СТ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ЧТО ИЗМЕН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е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жд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ез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ё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ч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814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яс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4396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24000" y="13582800"/>
          <a:ext cx="7848360" cy="43909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СТ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ЧТО ИЗМЕН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е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жд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ез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ё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ч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яс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49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79280" y="692280"/>
          <a:ext cx="8353440" cy="4943520"/>
        </p:xfrm>
        <a:graphic>
          <a:graphicData uri="http://schemas.openxmlformats.org/drawingml/2006/table">
            <a:tbl>
              <a:tblPr/>
              <a:tblGrid>
                <a:gridCol w="2784600"/>
                <a:gridCol w="2784600"/>
                <a:gridCol w="2784240"/>
              </a:tblGrid>
              <a:tr h="55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СТ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ЧТО ИЗМЕН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ел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ел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 row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езударный гласный стал ударны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ы его стали 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ыш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640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жд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ж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ез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ё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ч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ч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я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яск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24000" y="13582800"/>
          <a:ext cx="7848360" cy="43909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СТ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ЧТО ИЗМЕН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18720">
                      <a:solidFill>
                        <a:srgbClr val="ff99cc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е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1872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жд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ез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ё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ч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яс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49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2600" y="1773360"/>
            <a:ext cx="9051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проверит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зударную гласную в корне слова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мы должны изменить слово так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безударный гласны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ал ударным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00960" y="590400"/>
            <a:ext cx="36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b050"/>
                </a:solidFill>
                <a:uFillTx/>
                <a:latin typeface="Comic Sans MS"/>
              </a:rPr>
              <a:t>ВЫВОД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3-11-27T03:08:32Z</dcterms:modified>
  <cp:revision>70</cp:revision>
  <dc:subject/>
  <dc:title>PowerPoint Presentation</dc:title>
</cp:coreProperties>
</file>