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165-FDC6-43AC-BFF4-CF4778DE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0BE0-D0F5-423A-9FCC-04F432AC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667-25EE-4A3C-8A8D-D98F9EA7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C71-3C6C-4963-A442-7A7D70F1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4E02-B9A8-408F-B895-009FE42C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9FA0-F13F-4DFC-AB5A-4D2B64EB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34C6-7B92-4420-BA93-E042CDE1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D61C-5F4D-4D85-A0BD-95E5CA4B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A38D-7CEF-413A-B5C3-C3B1275B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11FF-C19C-4DF6-8A49-7F3C66E9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0BC6-0749-490A-8B93-D8777884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7E2-D629-4A60-B972-4D22D3C9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FC87-0D87-482D-A5F5-60D3C6AA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6499-EABA-4731-8E18-7332803C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87DB-D5C6-4972-A356-7D790C9B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4CAF-AF3B-4C16-AE38-E9917495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4BAF-55E4-42CE-BEA8-1EB2A676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F73E-2B6F-4A41-A53D-0C155DA3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FB86-E76D-499D-A42C-7BB1AAF3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2B3-3DF3-45AE-BD96-78D32B71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C09-BA64-4E66-B9D4-03952CE4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561-E6D4-4370-A0AB-AF057825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E2D-DF0C-4E06-A5EA-6E7FA5C1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7C8-B472-4696-8DE8-DC57AD3A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601A-4E15-46AE-B102-B3B2C512826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B736-07B7-4549-88E5-E03A84869F0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ГРУППА № 2</a:t>
            </a: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воспитатели : Голова Е.А.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Прибыткова В.А.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Г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ПОСЧИТАЙ ФРУКТЫ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етям раздаются фрукты (яблоко, груша, банан,апельсин,лимон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2433600"/>
            <a:ext cx="3776760" cy="244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05480" y="2433600"/>
            <a:ext cx="3776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ети считают количество косточек на фрукта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5800" y="2433600"/>
            <a:ext cx="3776760" cy="244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05480" y="2433600"/>
            <a:ext cx="3776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сле подсчета косточек, дети находят цифру, соответствующую количеству косточек на фрукт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800" y="2433600"/>
            <a:ext cx="3776760" cy="244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05480" y="2433600"/>
            <a:ext cx="3776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17:18:01Z</dcterms:created>
  <dc:creator>Вичка</dc:creator>
  <dc:description/>
  <dc:language>en-US</dc:language>
  <cp:lastModifiedBy>Вичка</cp:lastModifiedBy>
  <dcterms:modified xsi:type="dcterms:W3CDTF">2014-11-13T17:32:27Z</dcterms:modified>
  <cp:revision>3</cp:revision>
  <dc:subject/>
  <dc:title>ИГРА</dc:title>
</cp:coreProperties>
</file>