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FD7-C9AA-40D0-A3F7-5B9B23C4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A33-1D82-4DDE-8F09-8D4C809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61E-7A54-45F5-AE09-12018274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98D-9859-4A71-91F1-202572D5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33B-682D-476D-AB3D-965D994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B60-8B49-4762-9E21-83E9C2E6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CD2-19D0-4BAF-A264-7B49E7EC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586-F95A-4DD3-A1F8-FF7602C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CC7-D212-4AA2-82A5-E9480EA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F89-C655-45CA-A2C1-F59C6A8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3FC-86BA-4546-8B41-B078607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3AA-29E4-4001-AF6F-9C76243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C4B-DBE6-49F9-931F-456940B4D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циальная роль и социальный статус челове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962520"/>
            <a:ext cx="7086600" cy="20574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териалы для подготовки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: Джебко Г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«Сахаптин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ровский район,  Красноярский кр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380880"/>
            <a:ext cx="7391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 темы «Социальная ро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нятие «социальная рол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уктура социальной р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роли человека в обществе (ролевой набо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левое ожидание и ролевое испол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левое единство и ролевой кофли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е санкции и их значение в обществен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304920"/>
            <a:ext cx="6095880" cy="16761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циальная ро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это то, что ожид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данном обществе от всякого челове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нимающего определенное ме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оциальной системе (ожидаемое поведе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3160" y="239868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руктура социальной р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124080"/>
            <a:ext cx="5486400" cy="289584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типа повед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ответствующего данной ро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 поведен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цен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ыполнения предписанной ро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анкц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социальные последствия 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иного действия (моральные, юридическ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итические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380880"/>
            <a:ext cx="5181480" cy="2971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сь мир – теат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нем женщины, мужчины – все акт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них есть выходы, у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каждый не одну играет р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 действий в пьесе 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Младенец, школьник, юноша, любовн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олдат, судья, стар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7238880" cy="7621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окупность ролей, выполняемых  человеком, назы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ролевым набо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7162560" cy="14479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основным социальным ролям относят ро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труженика, собственника, потребителя, члена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685800"/>
            <a:ext cx="2819520" cy="9907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Ролев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жи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685800"/>
            <a:ext cx="2819160" cy="9907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Роле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057400"/>
            <a:ext cx="3505320" cy="10666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не соответ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жидан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657600"/>
            <a:ext cx="3733560" cy="144792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ЛЕ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фл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5562720"/>
            <a:ext cx="3504960" cy="8380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219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971440" y="609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257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жны побуждать человека к определенному типу по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457200"/>
            <a:ext cx="7696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 темы «Социальный стату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нятие «социальный стату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тусный на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социального стату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 предписанны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 достигаемый (приобрете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 и личный стату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стиж и автори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8600"/>
            <a:ext cx="8153280" cy="15238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циальный стату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это положение человека в обще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торое он занимает в соответствии со своим возрастом, пол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ессией, происхождением, уровнем доходов,  семейным поло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т. д, предоставляющее определенные права и обяза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914040" y="3809520"/>
            <a:ext cx="1066680" cy="205740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452160 h 2057400"/>
              <a:gd name="textAreaBottom" fmla="*/ 16052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1240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кольник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057400" y="342864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419076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1219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267080"/>
            <a:ext cx="9144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981080" y="304776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учащий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лодой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56386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лен спортивнойсе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962520"/>
            <a:ext cx="2514600" cy="99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тусный на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3048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971800"/>
            <a:ext cx="2666880" cy="2286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ый стат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76720" y="380880"/>
            <a:ext cx="2438280" cy="7621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6880" y="121932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1143000"/>
            <a:ext cx="1295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057400"/>
            <a:ext cx="2743200" cy="167652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едписа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057400"/>
            <a:ext cx="2743200" cy="167652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Достигаем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396252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57200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ци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594360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525780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464832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о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962520"/>
            <a:ext cx="2057400" cy="3808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867280"/>
            <a:ext cx="2438640" cy="53352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йное поло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685800"/>
            <a:ext cx="281952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685800"/>
            <a:ext cx="2819520" cy="609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и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371600"/>
            <a:ext cx="3124440" cy="2438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жение, кото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 заним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обществе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дстав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ой соци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447920"/>
            <a:ext cx="2971800" cy="25146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жени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лой соци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ппе, его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оответств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л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ч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343400"/>
            <a:ext cx="3352680" cy="19810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ести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ризнание общест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зиц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нимаемых группами 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дьми в общест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4343400"/>
            <a:ext cx="3352680" cy="19810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Автор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ризнание общест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чных и деловых кач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hapta</cp:lastModifiedBy>
  <dcterms:modified xsi:type="dcterms:W3CDTF">2010-12-17T07:5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