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D0D-D0DA-4AA8-A0F8-86DE210E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92C-DFE1-49E5-A75F-245B3B21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19F-467B-4494-8AF6-F2A5E40F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025-41A6-4111-A896-DB812C91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E8A-9220-4867-9ADD-00770693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48C-A16C-4B82-A19F-64DB45DB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87B-4E3B-476C-AD9F-0867080E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96A-C644-4387-A3E9-D6CFC236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2AD-6774-42A0-8CF1-84072306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C92-713A-4997-ADEB-625946E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A9A-56E5-4C05-AA17-3C155CF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4C8-58D4-484E-BBC4-4717ED6B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12E-FF23-4801-AFD6-2D828D60E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01080" cy="544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528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плекс упражнений для разм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382920" cy="253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8000" y="54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я в груп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4464000" cy="222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0687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9:00:39Z</dcterms:created>
  <dc:creator>cg</dc:creator>
  <dc:description/>
  <dc:language>en-US</dc:language>
  <cp:lastModifiedBy>Teacher</cp:lastModifiedBy>
  <dcterms:modified xsi:type="dcterms:W3CDTF">2013-10-03T04:03:10Z</dcterms:modified>
  <cp:revision>2</cp:revision>
  <dc:subject/>
  <dc:title>Слайд 1</dc:title>
</cp:coreProperties>
</file>