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C6E-D7FD-4703-8F44-DD5DAE8E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6D8-7F3D-4F60-B1A8-3F2154E5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B94AA-5A0C-49E6-9B44-DF95A74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716D2-DC88-44F4-9213-001CD4AB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F246B-1A05-4953-B77D-3658A558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2A38E-A263-4358-8BCA-F5B982E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A66E2-0E89-4D6B-9AD1-962792C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73D9C-2F11-4D79-B077-8C6F00F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B2815-16B6-4D4D-9103-C27BBC76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D1B88-BE74-4209-82EE-704D47D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93920-0A5F-43AB-B650-C9C1A5D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41A-623D-4AE7-BD4A-F5F9C341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59B-5106-4686-89B4-D10D06FE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75A1-8415-4D88-9C4F-0FF9B2F9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195-1165-4F20-A462-4AB336D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C478-F890-423E-B06A-B6BB260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563B-132F-4200-A4BB-45595212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D43D-3094-4611-881A-9FBEAD48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42D-4E5F-442A-92D3-EF7FE20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F725-80A4-4724-853E-ED45AA6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118-F0C2-439C-94D9-FF63E72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7734-9A69-4BCB-8996-6D80AA6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FAC-10E1-4C17-9572-5450570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799-8590-484C-BF9D-1F08747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33D-C905-4747-875F-A1DC8AB8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58FB-B3F8-4EEC-BE7D-5248B664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B323-2684-445D-8E2D-B823A6C7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4A8A-A150-4706-BAD5-48BDACD0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0D0A-489B-49EB-9FEF-7190543B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6340-6E82-4632-A42F-807C1E4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7B00-7A98-43CE-93AD-095D1FDB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97A-5B8C-431A-A4F7-794292E5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1CFA-AB56-4542-BCBC-9E66692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61DC-2E50-49CD-A905-8DF48AE5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AB0B-F86A-446E-AB5D-CD66F7B3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A945-E87E-497F-BA2A-7420D2A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F22C-257A-4242-A194-52D53CA8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681A-65F4-426E-9AF0-10E7B4BC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2D10-B833-45B9-94DC-76D07718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8DCFF-F246-4BF2-A33D-01BCC261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B884-DD4F-4562-9B3C-9C53C86D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641E-1FDF-49C6-9CAD-72ED330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F73-B809-4C64-BC72-6E96B19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7BDC-A083-41F6-8F2D-0F269A89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222A-CC9E-4575-AEF0-BCB9A9B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DB64-DF06-427D-A927-4EC3FAA5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BE62-3131-46E0-BCBE-2236818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67A8-4BBB-4016-ACB6-2791562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FFB6-D24F-4D0C-860F-20A88AC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C7E88-D873-4B7B-9620-79CECD1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F86B-3CC3-4A53-8437-C7A139BD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5213-3089-4220-A175-6CAAD65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BA41-3783-4C64-9C2A-A69D4A73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910-AFC6-4B9B-8BED-B3B28090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7262-9367-4F4A-AC35-AB422B7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02AA-9D7E-4FA6-A545-FE70915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9ACD-73A3-43C4-8ACD-40292B6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4AF7-6010-4800-9A33-2198F04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4C0C-BEF7-49DB-A667-6D067056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4AE7-724C-4A18-AD1D-5DDB8A6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26BD-F5C5-4646-9F95-8259FB25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0DBAB-507A-47AA-8EAA-262B58D1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0359-EFD3-4A63-B35F-7605F5F8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EBB2-D800-4066-A7DF-93D5F316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05F-C6C6-4F60-9A8C-64680BF6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C994-2C58-43CC-986F-2FE3E65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5453-08B2-4DEB-A8B0-A7EE5B1F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8631-4BF4-4D52-B6CD-F890FFDA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5D37-50D5-484F-8C41-94390B96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54FD0-0A21-4242-9DE6-4662412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9AC1-7950-4B11-B909-8C7F7331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D889-C04D-49B9-A909-2282F4C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808C-952F-4C36-9D24-72895D5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759C-219D-4BF6-AEE4-C1D7D7B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93FF-B6CB-4500-A179-4DE0C4D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121-4226-41DA-83EC-1A968A1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6DE3-086B-4F2B-A756-95E5CF02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EA23B-6B45-4A19-A7A3-2123808E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662C-9109-4E7B-ABF7-9FFAA982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E26A-5594-4E8D-A0AD-CF302417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2D8C8-4BFF-49E1-B456-D8A8B4F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FC96-9FC9-4899-A12E-B022B32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D30CF-B00E-471B-9D56-5ED29609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F076-EDE6-423A-BE29-76C7B25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8945-FCDE-4129-BC36-F341B1AA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FB59-44BA-462B-B13A-D7E0FE3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D85-CA86-4678-8997-A2859DC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71AE-9C8A-4AE6-834C-00B42E36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D4BF-2684-4CB0-931E-485D387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FACB-39CC-4FE8-B744-4D9C46E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B37E-C33B-4A0E-A7D4-559BE0A5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7EE0-1DC7-4E42-AEF3-602BB92B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3FA3-1F3B-4F76-B17C-FBBB9179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27000-0EDA-4087-8E32-873827C8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E9F9-39D7-4091-8295-9409319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83B7C-6742-4C9D-BEC6-28B2A65D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B60B-533B-4315-B4C7-EB537FC6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C2B-66C4-40FB-B3C0-1A79682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20D1-F925-419A-9E2C-B1746FF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C2D4-7764-42FC-8D2E-E95177D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F3C7-1E9C-4E1A-AC1B-028767E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7E519-1078-4EEA-A138-45A31C6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B49FD-3201-4FB3-BD10-CE1C3837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3A2DB-95DA-4D6D-A0AC-13C69FA0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BEE6-706C-499D-9D08-0CCFADCA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7CD2E-F8B7-4178-9D1A-1A2E4ECC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5ACB7-DBF5-4DC5-95DC-46DC232B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C486-397B-45D2-A845-7A2E40D2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23AB-1A37-4B9F-8234-F33C7BB8FD87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732-EA84-4753-AC5C-12C67FEF76F7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B42-B712-4AB9-A191-A74CBBD012E6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B38A-B36E-4DF3-92BB-D71DC067771A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B8C5-791D-4097-BBC6-840C5EDE8A3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82D-097A-4AE1-B268-1341B1B1B788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CCAC-1E67-4F25-9940-FD9AA007D486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E2E9-88D2-4C6B-8DCF-2AB577B48A3A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0396-4045-4ACE-87D7-909528186930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9 класс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учебник под редакцией Р. Н. Бунеева и Е. В. Бунеевой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учитель русского языка и литературы Осинцева Лариса Анатольевна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МБОУ «Основная  общеобразовательная      школа №10»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г. Таштагола, Кемеровской области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44440" y="1646280"/>
            <a:ext cx="8613720" cy="4437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80520" y="333360"/>
            <a:ext cx="84582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Franklin Gothic Book"/>
              </a:rPr>
              <a:t>Какой союз соединяет части сложносочиненного предложения: соединительный, разделительный, противительный? Какое значение выражается при помощи этого союза?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539640" y="5300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юз соединительный И  выражает врем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союз НО вы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304920" y="1884240"/>
            <a:ext cx="8845560" cy="41990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80520" y="764640"/>
            <a:ext cx="84582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f6d"/>
                </a:solidFill>
                <a:latin typeface="Franklin Gothic Book"/>
              </a:rPr>
              <a:t>1. Укажите   правильное   объяснение   постановки   запятой или  её отсутствия   в предложении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304920" y="2054160"/>
            <a:ext cx="8540640" cy="40291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520" y="1052640"/>
            <a:ext cx="8458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Варианты ответов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378000" y="1438200"/>
            <a:ext cx="8467560" cy="4780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80520" y="54900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Использованная литература и Интернет - источники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обобщить и систематизировать материал о сложносочинённых предложениях; совершенствовать пунктуационные навыки в предложениях данного типа; 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формировать позитивное отношение к исследовательской работе; совершенствовать речевую деятельность школьников;  воспитывать любовь к родному языку; воспитывать гуманное отношение к людям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79200" y="469800"/>
            <a:ext cx="886320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9159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1 Плывут паутины над сонным жнивьём, краснеют рябины под каждым окном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     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БСП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2.Наступила ненастная осень, и караваны птиц потянулись в теплые края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     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ССП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3.Солнце дарит ягодам тепло и наливает их сладким соком.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              </a:t>
            </a: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ПП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95120" y="55440"/>
            <a:ext cx="8961480" cy="18464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256500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     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Наступила ненастная осень, и караваны птиц потянулись в теплые края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Два простых предложения равноправны по смыслу и связаны сочинительным союзом и. Это предложение сложносочинённое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12760" y="3133800"/>
            <a:ext cx="8632800" cy="2949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80520" y="54900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1a3f6d"/>
                </a:solidFill>
                <a:latin typeface="Franklin Gothic Book"/>
              </a:rPr>
              <a:t>Синтаксический разбор предложения</a:t>
            </a:r>
            <a:endParaRPr b="0" lang="en-US" sz="33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1a3f6d"/>
                </a:solidFill>
                <a:latin typeface="Franklin Gothic Book"/>
              </a:rPr>
              <a:t>Зацвела ива, и пчёлы вылетели за первым взятком, а на полянах робко показались подснежники.</a:t>
            </a:r>
            <a:endParaRPr b="0" lang="en-US" sz="33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12760" y="1695600"/>
            <a:ext cx="8827920" cy="53211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476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f6d"/>
                </a:solidFill>
                <a:latin typeface="Franklin Gothic Book"/>
              </a:rPr>
              <a:t>Группы сочинительных союзов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52280" y="2846520"/>
            <a:ext cx="8637840" cy="2963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80520" y="620640"/>
            <a:ext cx="84582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f6d"/>
                </a:solidFill>
                <a:latin typeface="Franklin Gothic Book"/>
              </a:rPr>
              <a:t>Разделительные союзы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 – СОЧИНИТЕЛЬНЫЕ СОЮЗЫ, служащие в ПРОСТЫХ и СЛОЖНЫХ предложениях для выражения отношений разделения, взаимоисключения, чередования действий, событий (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или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либ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или...,или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либо...,либ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то...,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не то...,не 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 и др.)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82520" y="3840120"/>
            <a:ext cx="8663040" cy="22431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80520" y="765000"/>
            <a:ext cx="8458200" cy="28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f6d"/>
                </a:solidFill>
                <a:latin typeface="Franklin Gothic Book"/>
              </a:rPr>
              <a:t>Противительные союзы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 – СОЧИНИТЕЛЬНЫЕ СОЮЗЫ, служащие в ПРОСТЫХ и СЛОЖНЫХ предложениях для выражения отношений противопоставления, несоответствия, различия (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а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н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да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 (в значении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н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)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однак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за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а 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, </a:t>
            </a:r>
            <a:r>
              <a:rPr b="0" i="1" lang="ru-RU" sz="2400" spc="-1" strike="noStrike">
                <a:solidFill>
                  <a:srgbClr val="1a3f6d"/>
                </a:solidFill>
                <a:latin typeface="Franklin Gothic Book"/>
              </a:rPr>
              <a:t>а не то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</a:rPr>
              <a:t> и др.)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82520" y="542880"/>
            <a:ext cx="8663040" cy="2389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458200" cy="43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Запишем предложения, выделим в них грамматические основы, определим, какая смысловая связь существует между простыми предложениями в составе сложносочинённых, с помощью каких союзов она выражается. </a:t>
            </a:r>
            <a:r>
              <a:rPr b="0" lang="ru-RU" sz="2200" spc="-1" strike="noStrike" u="sng">
                <a:solidFill>
                  <a:srgbClr val="1a3f6d"/>
                </a:solidFill>
                <a:uFillTx/>
                <a:latin typeface="Franklin Gothic Book"/>
              </a:rPr>
              <a:t>(попробуем переставить предложения местами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Сучок хрустнул, и ветка обломилась. 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(последовательность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В ёлках нависла синяя тишина, а плакучие берёзы опустили вниз свои зелёные косы. 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(сопоставление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То тихо откроется калитка, то скрипнет дверь.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1a3f6d"/>
                </a:solidFill>
                <a:latin typeface="Franklin Gothic Book"/>
              </a:rPr>
              <a:t>(чередование)</a:t>
            </a: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4:02:35Z</dcterms:created>
  <dc:creator>Лариса</dc:creator>
  <dc:description/>
  <dc:language>en-US</dc:language>
  <cp:lastModifiedBy>Лариса</cp:lastModifiedBy>
  <dcterms:modified xsi:type="dcterms:W3CDTF">2011-08-11T04:53:36Z</dcterms:modified>
  <cp:revision>30</cp:revision>
  <dc:subject/>
  <dc:title>Сложносочинённое предложение</dc:title>
</cp:coreProperties>
</file>