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D64-D43E-4BA6-87BD-3D0D3562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607-EB89-4D83-999F-7692C5FC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0EB-C8E4-4912-BBCD-78B5D5EA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188-76E0-4807-8C67-B7BAD32D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FA03-B4BD-4A41-BCFA-0E24FA6C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430C-8AE9-42F6-B4B0-F0DEBFCA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AADE-DC86-4758-B66E-3E5BA7E1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6636-73A1-462A-95DC-214E7D7D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6107-BC22-433D-B3D6-98B629C1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B026-CFD6-4D05-9F23-B1577E6C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4C62-5899-49BE-8975-2B0BD4B6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BF2-C563-41C4-9086-E79E40DF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E0F8-AB00-4ABA-9AF5-7C549F16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9B60-0E64-4C09-A714-1E12540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6215-76FD-4A79-BD37-724897F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0DCF-A2D8-42C5-8B51-35EA1562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6648-F417-4765-B9C4-FF94991B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C25-17AD-4BE8-B055-EFB5E011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A2E-AF51-4C68-9843-778CD5BD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E63-1330-48E9-9698-400699AC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003-A635-4B93-9AEA-8DEFF0F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274-B465-4680-A567-D9C0DAD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457-8018-4F3D-81BF-CEB8DD7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D9B-C21D-43BA-80AB-1824F681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0AD4-7B2B-478B-B751-1603A039CC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2B09-E220-4426-B2E3-C6A42FE76A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Мастер-класс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«Технология изготовления головоломки для детей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младшего школьного возраста»</a:t>
            </a: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Методическая разработка поэтапного выполнения творческого проекта в период летней практики (на базе школьных учебных мастерских) учениками 5-х классов</a:t>
            </a:r>
            <a:br>
              <a:rPr sz="1400"/>
            </a:b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Возраст учащихся -10-11 лет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 Автор и составитель- Тихонов С.П., учитель технологии МОУ Кумылженской СОШ №1 им. Знаменского А.Д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таница Кумылженская 2013 г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Пиление заготовки термолобзиком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иление выполняется при помощи термолобзи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ска закреплена струбциной к верстак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иление производится строго по линии разм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457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Пиление заготовки термолобзиком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иление выполняется при помощи термолобзи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ска закреплена струбциной к верстак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иление производится строго по линии разм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Готовые изделия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азовые разме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лина-15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Ширина-1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олщина-2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52280" y="17524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Головоломка для школьни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оловоломка в разобранном вид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ля её сборки надо установить все детали по мест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ремя (контрольное) для сборки-5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едназначается для учеников 1-4 класс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Головоломки для школьни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оловоломки в разобранном вид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ля их сборки надо установить все детали по мест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ремя (контрольное) для сборки-5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едназначается для учеников 1-4 класс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52280" y="16765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Головоломка для школьников.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 выполнении практических работ необходимо строго соблюдать правила техники безопас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ле выполнения основных операций головоломку шлифуют при помощи наждачной бумаги последовательно, сначала с шкуркой крупнозернистой, затем с мелкозернис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ле шлифовальных работ, поверхность заготовки покрывают лак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оизводят сушку деталей в течение 48 час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бник Технологии для 5-х классов. Под редакцией Симоненко В.Д. М. Изд. «Вентана-Граф» 2010 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бник «Дерево». Автор Федотов Г.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д. Эксмо-Пресс. Москва.2002 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втор методического материала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ихонов С.П.,учитель технологии МКОУ Кумылженской СОШ №1 им.Знаменского А.Д. Кумылженский р-н, Волгоградская об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 составлении презентации использованы фотографии авто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281952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Автор методического материала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ихонов С.П.,учитель технологии Муниципального казённого образовательного учреждения Кумылженской средней общеобразовательной школы № 1 имени Знаменского А.Д. Кумылженский район, Волгоградская обла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705720" y="10666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57200" y="480060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858000" y="480060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505320" y="464832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112160" y="297180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228600" y="34290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Базовый материал и инструменты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оска соснов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ожовка по дерев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убан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шпи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пильни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аранда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гольни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ждачная бума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152280" y="1752480"/>
            <a:ext cx="449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Разметка заготов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зметка выполняется при помощи линейки и карандаша. Базовые разме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лина-15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Ширина-1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олщина-2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52280" y="1752480"/>
            <a:ext cx="449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Строгание заготов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рогание выполняется при помощи рубан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готовка должна быть прочно закреплена в столярных тиск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0440" y="1677960"/>
            <a:ext cx="42591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Разметка заготов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зметка выполняется при помощи угольника и карандаша. Базовые разме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лина-15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Ширина-1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олщина-2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52280" y="1752480"/>
            <a:ext cx="4419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Закрепление заготов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крепление выполняется при помощи струбцин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оска закреплена струбциной к верстак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сто крепления струбцины 150-250 мм от  линии разм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52280" y="1752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Пиление заготов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иление выполняется при помощи ножовк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оска закреплена струбциной к верстак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иление производится строго по линии разм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28600" y="1752480"/>
            <a:ext cx="4419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Разметка заготов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полнение рисунка центральной фигур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зметка выполняется при помощи шаблонов и карандаш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4572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Этапы выполнения проекта. </a:t>
            </a:r>
            <a:br>
              <a:rPr sz="3200"/>
            </a:b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Разметка заготов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зметка выполняется при помощи шаблонов и карандаш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полнение рисунка произвольных размер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8:18:42Z</dcterms:created>
  <dc:creator>1</dc:creator>
  <dc:description/>
  <dc:language>en-US</dc:language>
  <cp:lastModifiedBy>1</cp:lastModifiedBy>
  <dcterms:modified xsi:type="dcterms:W3CDTF">2013-04-05T16:52:2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