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8BEF7-E9A9-4D6D-A411-8C68D0D0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A9FBE-275C-4A6A-A2FD-1D45F5A8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1C65F-EB5E-4A63-B236-8BF65262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B47EA-7DC3-4017-B0F9-9307905C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D364-A33F-486E-8F23-55A230FC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3339-AEA6-44FA-A051-5264E1E0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6C7C-1079-4838-8FD3-093F5657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018E-BA48-4FC2-8E26-3ECFF2D5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208D-27DF-4E8C-92B6-C5C84117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32C2-C9D5-41AE-A1BC-F1BC2FC5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9DA1-B4CD-41C3-80D1-6F0850A5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9F580-1821-4D8D-B342-C9759A12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707E-9110-47A4-9B2A-E6B9673C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D828-94D0-41C9-9A4B-AC79B025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088C-6926-4D28-904A-07A5D11E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A55B-993D-4FAD-BC5F-1F2460BB1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C247-CFD4-4759-958B-C5FE1467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DF41D-DDF5-4C6E-9657-8C1CD396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85C1B-2A55-48A2-B180-B21DEDE8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50B11-F6FA-474B-8D6F-726830DB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26E36-F43D-4E62-B477-C11C00D9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5A1FD-3F0E-4082-A110-8125E7C2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AEDA5-E9E2-46AF-8CD0-FA477D70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5C1F7-2E94-4686-8E25-E69EE7D5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D9A71-C055-46FD-B0B8-4F358F4E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EA8BD-3BE5-40AB-88CC-968BEEC8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2A6E2-0F4A-4660-9678-360956E9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99514-6B6F-4277-9963-2E9A4A12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03F3C-F164-4653-B381-C8FDE006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A0197-D7AF-4EFE-8538-BA8D0B6C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FCF99-0DB9-4404-AC5F-25F7EE3D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E2262-5578-4D85-9679-61AD487C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F6100-F21B-458B-8556-385E4B01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74791-E113-4575-8B57-941CC582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77BC0-1FC4-4A30-9D44-81BD507F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E0703-B7E1-45B3-8D02-96B8D353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6FA22-3B66-4E13-900E-F6CF6432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6CC79-0DBB-4EAA-9626-998E657F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7F3BA-8856-4F8D-BEA1-1255CBB3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EB724-471A-43E4-AB21-1F55B460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9B7C7-7425-4937-805D-1125D693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A1EF6-46BD-49E2-9189-1D1A8E52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E394F-1DF6-4379-A6AC-9679B7A8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9601E-65F5-4059-9D83-21DE253E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A8C33-4A5F-4B3B-B130-2256DEE8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F2F8B-340D-451F-AC92-424496F4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F1435-8792-46B0-808D-E5B65697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D70BA-7DF1-45CA-8345-2DC5E970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1E9D-405A-4C6A-B2CC-9FDCA2421CD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7B84-AFE9-46D0-A857-88CA5549555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5C8F-EE45-4FA0-83AA-DD47C053406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47D3-4228-4432-BFDA-280705EA799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8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ru-RU" sz="7800" spc="-1" strike="noStrike">
                <a:solidFill>
                  <a:srgbClr val="e5e5ff"/>
                </a:solidFill>
                <a:latin typeface="Garamond"/>
              </a:rPr>
              <a:t>О ЧЕМ РАССКАЗЫВАЮТ ГЕРБЫ?”</a:t>
            </a:r>
            <a:br>
              <a:rPr sz="2800"/>
            </a:br>
            <a:r>
              <a:rPr b="1" lang="ru-RU" sz="7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учитель изо Калашникова С.Н.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МБОУ СОШ №14 «Зеленый шум»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г. Волжский, Волгоградская область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Garamond"/>
              </a:rPr>
              <a:t>что  такое герб?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это композиция из различных символов, которая отражает степень знатности рода, основные занятия и заслуги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a886e0"/>
                </a:solidFill>
                <a:latin typeface="Garamond"/>
              </a:rPr>
              <a:t>Основой всякого герба считается щит – как поле для изображения эмблемы</a:t>
            </a:r>
            <a:endParaRPr b="1" lang="en-US" sz="2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468360" y="11253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ряжск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6516720" y="105264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ерманск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227640" y="36194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ранцузски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539640" y="364500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тальянск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3357720" y="20001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ански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3132000" y="2637000"/>
            <a:ext cx="216000" cy="431640"/>
          </a:xfrm>
          <a:prstGeom prst="rect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1828800" cy="1938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"/>
          <p:cNvPicPr/>
          <p:nvPr/>
        </p:nvPicPr>
        <p:blipFill>
          <a:blip r:embed="rId2"/>
          <a:stretch/>
        </p:blipFill>
        <p:spPr>
          <a:xfrm>
            <a:off x="611280" y="4076640"/>
            <a:ext cx="1695240" cy="20192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4" descr=""/>
          <p:cNvPicPr/>
          <p:nvPr/>
        </p:nvPicPr>
        <p:blipFill>
          <a:blip r:embed="rId3"/>
          <a:stretch/>
        </p:blipFill>
        <p:spPr>
          <a:xfrm>
            <a:off x="3214800" y="2571840"/>
            <a:ext cx="2357280" cy="2571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5" descr=""/>
          <p:cNvPicPr/>
          <p:nvPr/>
        </p:nvPicPr>
        <p:blipFill>
          <a:blip r:embed="rId4"/>
          <a:stretch/>
        </p:blipFill>
        <p:spPr>
          <a:xfrm>
            <a:off x="6429240" y="4000680"/>
            <a:ext cx="1876680" cy="2095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" descr=""/>
          <p:cNvPicPr/>
          <p:nvPr/>
        </p:nvPicPr>
        <p:blipFill>
          <a:blip r:embed="rId5"/>
          <a:stretch/>
        </p:blipFill>
        <p:spPr>
          <a:xfrm>
            <a:off x="6429240" y="1500120"/>
            <a:ext cx="197172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3"/>
          <p:cNvGraphicFramePr/>
          <p:nvPr/>
        </p:nvGraphicFramePr>
        <p:xfrm>
          <a:off x="250920" y="1484280"/>
          <a:ext cx="2762280" cy="16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84280"/>
                    <a:ext cx="2762280" cy="16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6"/>
          <p:cNvGraphicFramePr/>
          <p:nvPr/>
        </p:nvGraphicFramePr>
        <p:xfrm>
          <a:off x="3232080" y="1484280"/>
          <a:ext cx="2678040" cy="17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32080" y="1484280"/>
                    <a:ext cx="267804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7"/>
          <p:cNvGraphicFramePr/>
          <p:nvPr/>
        </p:nvGraphicFramePr>
        <p:xfrm>
          <a:off x="2484360" y="3284640"/>
          <a:ext cx="4175280" cy="31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3284640"/>
                    <a:ext cx="41752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Rectangle 9"/>
          <p:cNvSpPr/>
          <p:nvPr/>
        </p:nvSpPr>
        <p:spPr>
          <a:xfrm>
            <a:off x="228600" y="1890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886e0"/>
                </a:solidFill>
                <a:latin typeface="Arial"/>
              </a:rPr>
              <a:t>геральдические фиг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50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(изображения человека, животных, растений, кораблей, построек, предметов быта, оружия, а также фантастических животных (дракон, единорог, гриф и др.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7" name="Picture 5" descr="негеральд"/>
          <p:cNvPicPr/>
          <p:nvPr/>
        </p:nvPicPr>
        <p:blipFill>
          <a:blip r:embed="rId1"/>
          <a:stretch/>
        </p:blipFill>
        <p:spPr>
          <a:xfrm>
            <a:off x="3511440" y="2820960"/>
            <a:ext cx="2175120" cy="2986200"/>
          </a:xfrm>
          <a:prstGeom prst="rect">
            <a:avLst/>
          </a:prstGeom>
          <a:ln w="0">
            <a:noFill/>
          </a:ln>
        </p:spPr>
      </p:pic>
      <p:sp>
        <p:nvSpPr>
          <p:cNvPr id="218" name="Oval 6"/>
          <p:cNvSpPr/>
          <p:nvPr/>
        </p:nvSpPr>
        <p:spPr>
          <a:xfrm>
            <a:off x="5580000" y="3357720"/>
            <a:ext cx="358920" cy="93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val 7"/>
          <p:cNvSpPr/>
          <p:nvPr/>
        </p:nvSpPr>
        <p:spPr>
          <a:xfrm>
            <a:off x="3276720" y="3357720"/>
            <a:ext cx="358560" cy="93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4572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886e0"/>
                </a:solidFill>
                <a:latin typeface="Arial"/>
              </a:rPr>
              <a:t>Негеральдические фиг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3"/>
          <p:cNvSpPr/>
          <p:nvPr/>
        </p:nvSpPr>
        <p:spPr>
          <a:xfrm>
            <a:off x="755640" y="1125360"/>
            <a:ext cx="50472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403280" y="11253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имвол богатства, справедливости верности и постоян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755640" y="1844640"/>
            <a:ext cx="504720" cy="649440"/>
          </a:xfrm>
          <a:prstGeom prst="rect">
            <a:avLst/>
          </a:prstGeom>
          <a:solidFill>
            <a:srgbClr val="c4c4c4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1403280" y="1916280"/>
            <a:ext cx="46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имвол невинности и чистоты (серебр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1403280" y="285264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имвол мужества, неустрашимости и храбр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755640" y="2708280"/>
            <a:ext cx="504720" cy="64944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755640" y="3573360"/>
            <a:ext cx="504720" cy="649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755640" y="4365720"/>
            <a:ext cx="504720" cy="64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12"/>
          <p:cNvSpPr/>
          <p:nvPr/>
        </p:nvSpPr>
        <p:spPr>
          <a:xfrm>
            <a:off x="714240" y="5286240"/>
            <a:ext cx="505080" cy="64944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1403280" y="3716280"/>
            <a:ext cx="46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имвол красоты и велич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1403280" y="4508640"/>
            <a:ext cx="46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имвол изобилия и надеж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1428840" y="54291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имвол мудрости, скромности, учености и печа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8"/>
          <p:cNvSpPr/>
          <p:nvPr/>
        </p:nvSpPr>
        <p:spPr>
          <a:xfrm>
            <a:off x="4572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886e0"/>
                </a:solidFill>
                <a:latin typeface="Arial"/>
              </a:rPr>
              <a:t>Символическое значение цв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1015560"/>
            <a:ext cx="8352000" cy="53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d050"/>
                </a:solidFill>
                <a:latin typeface="Garamond"/>
              </a:rPr>
              <a:t>Дуб, медведь – сила сопротивления, терп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ЛЕВ –ЦАРСТВЕННОЕ ЖИВОТНОЕ –ЭМБЛЕМА КОРО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d050"/>
                </a:solidFill>
                <a:latin typeface="Garamond"/>
              </a:rPr>
              <a:t>Факел, раскрытая книга – зн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d050"/>
                </a:solidFill>
                <a:latin typeface="Garamond"/>
              </a:rPr>
              <a:t>Пчела – трудолюб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d050"/>
                </a:solidFill>
                <a:latin typeface="Garamond"/>
              </a:rPr>
              <a:t>Дракон – могуществ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d050"/>
                </a:solidFill>
                <a:latin typeface="Garamond"/>
              </a:rPr>
              <a:t>Рука – храбр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d050"/>
                </a:solidFill>
                <a:latin typeface="Garamond"/>
              </a:rPr>
              <a:t>Орел – побе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d050"/>
                </a:solidFill>
                <a:latin typeface="Garamond"/>
              </a:rPr>
              <a:t>Лев – символ власти, царского тро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886e0"/>
                </a:solidFill>
                <a:latin typeface="Arial"/>
              </a:rPr>
              <a:t>Символическое значение изображ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A:\GerbVolg.gif"/>
          <p:cNvPicPr/>
          <p:nvPr/>
        </p:nvPicPr>
        <p:blipFill>
          <a:blip r:embed="rId1"/>
          <a:stretch/>
        </p:blipFill>
        <p:spPr>
          <a:xfrm>
            <a:off x="2627280" y="1413000"/>
            <a:ext cx="4019760" cy="5019480"/>
          </a:xfrm>
          <a:prstGeom prst="rect">
            <a:avLst/>
          </a:prstGeom>
          <a:ln w="0">
            <a:noFill/>
          </a:ln>
        </p:spPr>
      </p:pic>
      <p:sp>
        <p:nvSpPr>
          <p:cNvPr id="237" name="WordArt 7"/>
          <p:cNvSpPr txBox="1"/>
          <p:nvPr/>
        </p:nvSpPr>
        <p:spPr>
          <a:xfrm>
            <a:off x="900000" y="692280"/>
            <a:ext cx="7632720" cy="36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ерб Волжског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09:27:41Z</dcterms:created>
  <dc:creator>NIk</dc:creator>
  <dc:description/>
  <dc:language>en-US</dc:language>
  <cp:lastModifiedBy>калашникофф</cp:lastModifiedBy>
  <dcterms:modified xsi:type="dcterms:W3CDTF">2012-05-31T07:37:38Z</dcterms:modified>
  <cp:revision>72</cp:revision>
  <dc:subject/>
  <dc:title>Слайд 1</dc:title>
</cp:coreProperties>
</file>