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6.png" ContentType="image/png"/>
  <Override PartName="/ppt/media/image31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2.jpeg" ContentType="image/jpeg"/>
  <Override PartName="/ppt/media/image3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35B7-D16C-40B6-BF49-11692E70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B9B5-A868-441B-9A94-B31A570F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206A-115A-46C0-9B0A-6E3EA601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E501-E7BE-464E-B509-91A1CDC5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E28C-E949-42D5-8E3D-E589E1E1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19B5-ABEC-4B65-B056-C1D3946A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D57C-AE57-44F2-A54B-86293B03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D9F9-78B1-4684-B5EF-2E315876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22DE-E03B-4648-9526-78EBA427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A280-AE5F-4E8B-A331-9FA7CC3B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4B7E-1DA2-4CE1-8EB4-3387CE3B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A485-8F29-4F26-94BE-6B7B3850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B17D-DC87-440B-9D4F-15F4DD055A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C:\Users\иван\Documents\Наталья\искусство\Новая папка\levitan101март.jpg"/>
          <p:cNvPicPr/>
          <p:nvPr/>
        </p:nvPicPr>
        <p:blipFill>
          <a:blip r:embed="rId1"/>
          <a:srcRect l="0" t="6427" r="0" b="6427"/>
          <a:stretch/>
        </p:blipFill>
        <p:spPr>
          <a:xfrm>
            <a:off x="990720" y="304920"/>
            <a:ext cx="7089480" cy="5154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54100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Люблю природу      русскую. Весн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иван\Downloads\384595.jpg"/>
          <p:cNvPicPr/>
          <p:nvPr/>
        </p:nvPicPr>
        <p:blipFill>
          <a:blip r:embed="rId1"/>
          <a:stretch/>
        </p:blipFill>
        <p:spPr>
          <a:xfrm>
            <a:off x="468360" y="243000"/>
            <a:ext cx="8351640" cy="62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иван\Downloads\m-591099.jpg"/>
          <p:cNvPicPr/>
          <p:nvPr/>
        </p:nvPicPr>
        <p:blipFill>
          <a:blip r:embed="rId1"/>
          <a:stretch/>
        </p:blipFill>
        <p:spPr>
          <a:xfrm>
            <a:off x="365040" y="549360"/>
            <a:ext cx="852192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иван\Downloads\2977.jpg"/>
          <p:cNvPicPr/>
          <p:nvPr/>
        </p:nvPicPr>
        <p:blipFill>
          <a:blip r:embed="rId1"/>
          <a:stretch/>
        </p:blipFill>
        <p:spPr>
          <a:xfrm>
            <a:off x="324000" y="295200"/>
            <a:ext cx="8424720" cy="631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Отрывок из рассказа А.П. Чехова «Весной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С земли еще не сошел снег, а в душу уже просится весна. Земля холодна, грязь со снегом хлюпает под ногами, но как кругом все весело, ласково, приветлив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здух так ясен и прозрачен, что если взобраться на голубятню или колокольню, то, кажется, увидишь всю вселенную от края до кр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лнце светит ярко, и лучи его, играя и улыбаясь, купаются в лужах вместе с воробь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чка надувается и темнеет; она уже проснулась и не сегодня – завтра заревет. Деревья голы, но уже живут, дышат.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3352320"/>
            <a:ext cx="6858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нег не сошел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есна просится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учи, играя и улыбаясь, купаю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29b1c4fd619b"/>
          <p:cNvPicPr/>
          <p:nvPr/>
        </p:nvPicPr>
        <p:blipFill>
          <a:blip r:embed="rId1"/>
          <a:stretch/>
        </p:blipFill>
        <p:spPr>
          <a:xfrm>
            <a:off x="2362320" y="152280"/>
            <a:ext cx="48481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лицетворение -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рисвоение свойств одушевлённых предметов неодушевлённым. Весьма часто олицетворение применяется при изображении природы, которая наделяется теми или иными человеческими чер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560" y="1294920"/>
            <a:ext cx="7010280" cy="399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Обобщение материала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kniga02"/>
          <p:cNvPicPr/>
          <p:nvPr/>
        </p:nvPicPr>
        <p:blipFill>
          <a:blip r:embed="rId1"/>
          <a:srcRect l="8518" t="0" r="8475" b="0"/>
          <a:stretch/>
        </p:blipFill>
        <p:spPr>
          <a:xfrm>
            <a:off x="152280" y="0"/>
            <a:ext cx="2808360" cy="30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5366880"/>
            <a:ext cx="8569440" cy="14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7200" spc="-1" strike="noStrike">
                <a:solidFill>
                  <a:srgbClr val="7030a0"/>
                </a:solidFill>
                <a:latin typeface="Arial"/>
              </a:rPr>
              <a:t>Конкурс чтец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иван\Downloads\0000074897-preview.jpg"/>
          <p:cNvPicPr/>
          <p:nvPr/>
        </p:nvPicPr>
        <p:blipFill>
          <a:blip r:embed="rId1"/>
          <a:stretch/>
        </p:blipFill>
        <p:spPr>
          <a:xfrm>
            <a:off x="1905120" y="457200"/>
            <a:ext cx="6473880" cy="53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651280" y="274320"/>
            <a:ext cx="331308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000" spc="-1" strike="noStrike">
                <a:solidFill>
                  <a:srgbClr val="93540a"/>
                </a:solidFill>
                <a:latin typeface="Arial"/>
              </a:rPr>
              <a:t>Ф.И. Тютчев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4c376b"/>
                </a:solidFill>
                <a:latin typeface="Arial"/>
              </a:rPr>
              <a:t> «Зима недаром злится…»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4c376b"/>
                </a:solidFill>
                <a:latin typeface="Arial"/>
              </a:rPr>
              <a:t>«Весенние воды»</a:t>
            </a:r>
            <a:r>
              <a:rPr b="1" i="1" lang="ru-RU" sz="4400" spc="-1" strike="noStrike">
                <a:solidFill>
                  <a:srgbClr val="4c376b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Users\иван\Downloads\Tutchev.jpg"/>
          <p:cNvPicPr/>
          <p:nvPr/>
        </p:nvPicPr>
        <p:blipFill>
          <a:blip r:embed="rId1"/>
          <a:stretch/>
        </p:blipFill>
        <p:spPr>
          <a:xfrm>
            <a:off x="284040" y="209520"/>
            <a:ext cx="493560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867280" y="274680"/>
            <a:ext cx="309744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3540a"/>
                </a:solidFill>
                <a:latin typeface="Arial"/>
              </a:rPr>
              <a:t>А. Плещеев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4c376b"/>
                </a:solidFill>
                <a:latin typeface="Arial"/>
              </a:rPr>
              <a:t> «Весна»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4c376b"/>
                </a:solidFill>
                <a:latin typeface="Arial"/>
              </a:rPr>
              <a:t>«Сельская песенка»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4c376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Users\иван\Downloads\Алексей_Николаевич_Плещеев.jpg"/>
          <p:cNvPicPr/>
          <p:nvPr/>
        </p:nvPicPr>
        <p:blipFill>
          <a:blip r:embed="rId1"/>
          <a:stretch/>
        </p:blipFill>
        <p:spPr>
          <a:xfrm>
            <a:off x="324000" y="189000"/>
            <a:ext cx="4895640" cy="646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13716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Задачи урока:</a:t>
            </a:r>
            <a:br>
              <a:rPr sz="32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едметные УУД:  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подвести итог работы над разделом, вспомнить пройденные произведения   и  их авторов, продолжить практиковаться  выразительно читать, проверить свои знания полученные при изучении темы, развивать речь.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Личностные УУД: 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умение удерживать учебную задачу, ценностное  эмоциональное отношение к произведениям искусства.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Метапредметные УУД: 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умение находить способы решения поставленной цели , умение планировать, контролировать и оценивать  свои действия, умение провести рефлексию своих действий на уроке.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оммуникативные УУД: 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готовность слушать собеседника и вести диалог, признавать возможность существования различных точек зрения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508720" y="274680"/>
            <a:ext cx="34560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3540a"/>
                </a:solidFill>
                <a:latin typeface="Arial"/>
              </a:rPr>
              <a:t>А. Блок</a:t>
            </a: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4c376b"/>
                </a:solidFill>
                <a:latin typeface="Arial"/>
              </a:rPr>
              <a:t>«На лугу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иван\Downloads\blok.jpg"/>
          <p:cNvPicPr/>
          <p:nvPr/>
        </p:nvPicPr>
        <p:blipFill>
          <a:blip r:embed="rId1"/>
          <a:stretch/>
        </p:blipFill>
        <p:spPr>
          <a:xfrm>
            <a:off x="539640" y="260280"/>
            <a:ext cx="5157720" cy="626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579640" y="274680"/>
            <a:ext cx="331308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93540a"/>
                </a:solidFill>
                <a:latin typeface="Arial"/>
              </a:rPr>
              <a:t>С. Маршак</a:t>
            </a: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4c376b"/>
                </a:solidFill>
                <a:latin typeface="Arial"/>
              </a:rPr>
              <a:t> </a:t>
            </a:r>
            <a:br>
              <a:rPr sz="4400"/>
            </a:br>
            <a:r>
              <a:rPr b="1" i="1" lang="ru-RU" sz="4400" spc="-1" strike="noStrike">
                <a:solidFill>
                  <a:srgbClr val="4c376b"/>
                </a:solidFill>
                <a:latin typeface="Arial"/>
              </a:rPr>
              <a:t>«Снег уже теперь не тот…» 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Users\иван\Downloads\маршак.jpg"/>
          <p:cNvPicPr/>
          <p:nvPr/>
        </p:nvPicPr>
        <p:blipFill>
          <a:blip r:embed="rId1"/>
          <a:stretch/>
        </p:blipFill>
        <p:spPr>
          <a:xfrm>
            <a:off x="682560" y="237960"/>
            <a:ext cx="4861080" cy="643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ФИЗМИНУТК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Users\иван\Documents\Наталья\картинки\sport010.jpg"/>
          <p:cNvPicPr/>
          <p:nvPr/>
        </p:nvPicPr>
        <p:blipFill>
          <a:blip r:embed="rId1"/>
          <a:stretch/>
        </p:blipFill>
        <p:spPr>
          <a:xfrm>
            <a:off x="324000" y="1268280"/>
            <a:ext cx="8135640" cy="534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43400" y="456840"/>
            <a:ext cx="464832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00"/>
                </a:solidFill>
                <a:latin typeface="Arial"/>
              </a:rPr>
              <a:t>ИГРА</a:t>
            </a:r>
            <a:br>
              <a:rPr sz="8800"/>
            </a:br>
            <a:r>
              <a:rPr b="1" i="1" lang="ru-RU" sz="3600" spc="-1" strike="noStrike">
                <a:solidFill>
                  <a:srgbClr val="7030a0"/>
                </a:solidFill>
                <a:latin typeface="Arial"/>
              </a:rPr>
              <a:t>Подберите к </a:t>
            </a:r>
            <a:br>
              <a:rPr sz="3600"/>
            </a:br>
            <a:r>
              <a:rPr b="1" i="1" lang="ru-RU" sz="3600" spc="-1" strike="noStrike">
                <a:solidFill>
                  <a:srgbClr val="7030a0"/>
                </a:solidFill>
                <a:latin typeface="Arial"/>
              </a:rPr>
              <a:t>картинкам </a:t>
            </a:r>
            <a:br>
              <a:rPr sz="3600"/>
            </a:br>
            <a:r>
              <a:rPr b="1" i="1" lang="ru-RU" sz="3600" spc="-1" strike="noStrike">
                <a:solidFill>
                  <a:srgbClr val="7030a0"/>
                </a:solidFill>
                <a:latin typeface="Arial"/>
              </a:rPr>
              <a:t>  строчки из</a:t>
            </a:r>
            <a:br>
              <a:rPr sz="3600"/>
            </a:br>
            <a:r>
              <a:rPr b="1" i="1" lang="ru-RU" sz="3600" spc="-1" strike="noStrike">
                <a:solidFill>
                  <a:srgbClr val="7030a0"/>
                </a:solidFill>
                <a:latin typeface="Arial"/>
              </a:rPr>
              <a:t> изученных</a:t>
            </a:r>
            <a:br>
              <a:rPr sz="3600"/>
            </a:br>
            <a:r>
              <a:rPr b="1" i="1" lang="ru-RU" sz="3600" spc="-1" strike="noStrike">
                <a:solidFill>
                  <a:srgbClr val="7030a0"/>
                </a:solidFill>
                <a:latin typeface="Arial"/>
              </a:rPr>
              <a:t> стихотвор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Users\иван\Documents\Наталья\картинки\sport010.jpg"/>
          <p:cNvPicPr/>
          <p:nvPr/>
        </p:nvPicPr>
        <p:blipFill>
          <a:blip r:embed="rId1"/>
          <a:stretch/>
        </p:blipFill>
        <p:spPr>
          <a:xfrm>
            <a:off x="304920" y="3581280"/>
            <a:ext cx="4038480" cy="3000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kniga02"/>
          <p:cNvPicPr/>
          <p:nvPr/>
        </p:nvPicPr>
        <p:blipFill>
          <a:blip r:embed="rId2"/>
          <a:srcRect l="8518" t="0" r="8475" b="0"/>
          <a:stretch/>
        </p:blipFill>
        <p:spPr>
          <a:xfrm>
            <a:off x="250920" y="333360"/>
            <a:ext cx="2808360" cy="30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Users\иван\Downloads\5606.jpg"/>
          <p:cNvPicPr/>
          <p:nvPr/>
        </p:nvPicPr>
        <p:blipFill>
          <a:blip r:embed="rId1"/>
          <a:stretch/>
        </p:blipFill>
        <p:spPr>
          <a:xfrm>
            <a:off x="1332000" y="452520"/>
            <a:ext cx="6119640" cy="63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C:\Users\иван\Downloads\0_12c8f_bfd66758_-1-L.jpg"/>
          <p:cNvPicPr/>
          <p:nvPr/>
        </p:nvPicPr>
        <p:blipFill>
          <a:blip r:embed="rId1"/>
          <a:stretch/>
        </p:blipFill>
        <p:spPr>
          <a:xfrm>
            <a:off x="324000" y="351000"/>
            <a:ext cx="8351640" cy="62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Users\иван\Downloads\1264597980_16.jpg"/>
          <p:cNvPicPr/>
          <p:nvPr/>
        </p:nvPicPr>
        <p:blipFill>
          <a:blip r:embed="rId1"/>
          <a:stretch/>
        </p:blipFill>
        <p:spPr>
          <a:xfrm>
            <a:off x="611280" y="311040"/>
            <a:ext cx="8064360" cy="621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Users\иван\Downloads\lastochra_der.jpg"/>
          <p:cNvPicPr/>
          <p:nvPr/>
        </p:nvPicPr>
        <p:blipFill>
          <a:blip r:embed="rId1"/>
          <a:stretch/>
        </p:blipFill>
        <p:spPr>
          <a:xfrm>
            <a:off x="1258920" y="334800"/>
            <a:ext cx="669780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1191269140_c4121"/>
          <p:cNvPicPr/>
          <p:nvPr/>
        </p:nvPicPr>
        <p:blipFill>
          <a:blip r:embed="rId1"/>
          <a:srcRect l="0" t="0" r="0" b="12180"/>
          <a:stretch/>
        </p:blipFill>
        <p:spPr>
          <a:xfrm>
            <a:off x="4788000" y="692280"/>
            <a:ext cx="3168720" cy="49687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997360"/>
            <a:ext cx="346716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kniga02"/>
          <p:cNvPicPr/>
          <p:nvPr/>
        </p:nvPicPr>
        <p:blipFill>
          <a:blip r:embed="rId2"/>
          <a:srcRect l="8518" t="0" r="8475" b="0"/>
          <a:stretch/>
        </p:blipFill>
        <p:spPr>
          <a:xfrm>
            <a:off x="755640" y="260280"/>
            <a:ext cx="2808360" cy="30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Найди лишнее слово.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1) снег</a:t>
            </a:r>
            <a:br>
              <a:rPr sz="4000"/>
            </a:b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2) солнце</a:t>
            </a:r>
            <a:br>
              <a:rPr sz="4000"/>
            </a:b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3) сосулька </a:t>
            </a:r>
            <a:br>
              <a:rPr sz="4000"/>
            </a:b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4) листоп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kniga02"/>
          <p:cNvPicPr/>
          <p:nvPr/>
        </p:nvPicPr>
        <p:blipFill>
          <a:blip r:embed="rId1"/>
          <a:srcRect l="8518" t="0" r="8475" b="0"/>
          <a:stretch/>
        </p:blipFill>
        <p:spPr>
          <a:xfrm>
            <a:off x="609480" y="2133720"/>
            <a:ext cx="2808360" cy="28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400" y="1066680"/>
            <a:ext cx="7696080" cy="28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2d050"/>
                </a:solidFill>
                <a:latin typeface="Arial"/>
              </a:rPr>
              <a:t>Читательская размин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kniga02"/>
          <p:cNvPicPr/>
          <p:nvPr/>
        </p:nvPicPr>
        <p:blipFill>
          <a:blip r:embed="rId1"/>
          <a:srcRect l="8518" t="0" r="8475" b="0"/>
          <a:stretch/>
        </p:blipFill>
        <p:spPr>
          <a:xfrm>
            <a:off x="324000" y="260280"/>
            <a:ext cx="2808000" cy="3044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kniga52"/>
          <p:cNvPicPr/>
          <p:nvPr/>
        </p:nvPicPr>
        <p:blipFill>
          <a:blip r:embed="rId2"/>
          <a:stretch/>
        </p:blipFill>
        <p:spPr>
          <a:xfrm>
            <a:off x="2387520" y="3500280"/>
            <a:ext cx="549756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Arial"/>
              </a:rPr>
              <a:t>4) листоп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Users\иван\Downloads\1183129391_1.jpg"/>
          <p:cNvPicPr/>
          <p:nvPr/>
        </p:nvPicPr>
        <p:blipFill>
          <a:blip r:embed="rId1"/>
          <a:stretch/>
        </p:blipFill>
        <p:spPr>
          <a:xfrm>
            <a:off x="900000" y="1268280"/>
            <a:ext cx="700884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Кто написал стихотворение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«В бурю»?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1) С. Маршак</a:t>
            </a:r>
            <a:br>
              <a:rPr sz="4000"/>
            </a:b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2) Ф. Тютчев</a:t>
            </a:r>
            <a:br>
              <a:rPr sz="4000"/>
            </a:b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3) А. Плещеев</a:t>
            </a:r>
            <a:br>
              <a:rPr sz="4000"/>
            </a:b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4) Е. Благинин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kniga02"/>
          <p:cNvPicPr/>
          <p:nvPr/>
        </p:nvPicPr>
        <p:blipFill>
          <a:blip r:embed="rId1"/>
          <a:srcRect l="8518" t="0" r="8475" b="0"/>
          <a:stretch/>
        </p:blipFill>
        <p:spPr>
          <a:xfrm>
            <a:off x="228600" y="1600200"/>
            <a:ext cx="347328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3) А. Плеще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Users\иван\Downloads\Алексей_Николаевич_Плещеев.jpg"/>
          <p:cNvPicPr/>
          <p:nvPr/>
        </p:nvPicPr>
        <p:blipFill>
          <a:blip r:embed="rId1"/>
          <a:stretch/>
        </p:blipFill>
        <p:spPr>
          <a:xfrm>
            <a:off x="2556000" y="1247760"/>
            <a:ext cx="4248000" cy="56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О чём говорится в стихотворении Ф. Тютчева «Зима недаром злится…»?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dd7e0e"/>
                </a:solidFill>
                <a:latin typeface="Arial"/>
              </a:rPr>
              <a:t>1) о борьбе зимы с весной</a:t>
            </a:r>
            <a:br>
              <a:rPr sz="4000"/>
            </a:br>
            <a:r>
              <a:rPr b="1" i="1" lang="ru-RU" sz="4000" spc="-1" strike="noStrike">
                <a:solidFill>
                  <a:srgbClr val="dd7e0e"/>
                </a:solidFill>
                <a:latin typeface="Arial"/>
              </a:rPr>
              <a:t>2) о борьбе весны с летом</a:t>
            </a:r>
            <a:br>
              <a:rPr sz="4000"/>
            </a:br>
            <a:r>
              <a:rPr b="1" i="1" lang="ru-RU" sz="4000" spc="-1" strike="noStrike">
                <a:solidFill>
                  <a:srgbClr val="dd7e0e"/>
                </a:solidFill>
                <a:latin typeface="Arial"/>
              </a:rPr>
              <a:t>3) о борьбе зимы с осенью</a:t>
            </a:r>
            <a:br>
              <a:rPr sz="4000"/>
            </a:br>
            <a:r>
              <a:rPr b="1" i="1" lang="ru-RU" sz="4000" spc="-1" strike="noStrike">
                <a:solidFill>
                  <a:srgbClr val="dd7e0e"/>
                </a:solidFill>
                <a:latin typeface="Arial"/>
              </a:rPr>
              <a:t>4) о борьбе весны с осен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d7e0e"/>
                </a:solidFill>
                <a:latin typeface="Arial"/>
              </a:rPr>
              <a:t>1) о борьбе зимы с вес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:\Users\иван\Downloads\cf61caff586aa5061c8fa74e0ae118d3e96bb453.jpg"/>
          <p:cNvPicPr/>
          <p:nvPr/>
        </p:nvPicPr>
        <p:blipFill>
          <a:blip r:embed="rId1"/>
          <a:stretch/>
        </p:blipFill>
        <p:spPr>
          <a:xfrm>
            <a:off x="755640" y="1074600"/>
            <a:ext cx="7777080" cy="562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b55475"/>
                </a:solidFill>
                <a:latin typeface="Arial"/>
              </a:rPr>
              <a:t>О чём говорится в стихотворении </a:t>
            </a:r>
            <a:br>
              <a:rPr sz="4000"/>
            </a:br>
            <a:r>
              <a:rPr b="1" i="1" lang="ru-RU" sz="4000" spc="-1" strike="noStrike">
                <a:solidFill>
                  <a:srgbClr val="b55475"/>
                </a:solidFill>
                <a:latin typeface="Arial"/>
              </a:rPr>
              <a:t>А. Плещеева «Сельская песенка»?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1) об отлёте птиц</a:t>
            </a:r>
            <a:br>
              <a:rPr sz="4000"/>
            </a:b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2) о прилёте птиц</a:t>
            </a:r>
            <a:br>
              <a:rPr sz="4000"/>
            </a:b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3) о разливе рек</a:t>
            </a:r>
            <a:br>
              <a:rPr sz="4000"/>
            </a:b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4) о таянии сне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kniga02"/>
          <p:cNvPicPr/>
          <p:nvPr/>
        </p:nvPicPr>
        <p:blipFill>
          <a:blip r:embed="rId1"/>
          <a:srcRect l="8518" t="0" r="8475" b="0"/>
          <a:stretch/>
        </p:blipFill>
        <p:spPr>
          <a:xfrm>
            <a:off x="395280" y="2666880"/>
            <a:ext cx="2808360" cy="366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b55475"/>
                </a:solidFill>
                <a:latin typeface="Arial"/>
              </a:rPr>
              <a:t>2) о прилёте птиц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C:\Users\иван\Downloads\fl_24.jpg"/>
          <p:cNvPicPr/>
          <p:nvPr/>
        </p:nvPicPr>
        <p:blipFill>
          <a:blip r:embed="rId1"/>
          <a:stretch/>
        </p:blipFill>
        <p:spPr>
          <a:xfrm>
            <a:off x="971640" y="981000"/>
            <a:ext cx="71294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Закончи четверостишие А. Блока.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ff00ff"/>
                </a:solidFill>
                <a:latin typeface="Arial"/>
              </a:rPr>
              <a:t>…Чу, слышен голос звонкий.</a:t>
            </a:r>
            <a:br>
              <a:rPr sz="3600"/>
            </a:br>
            <a:r>
              <a:rPr b="1" i="1" lang="ru-RU" sz="3600" spc="-1" strike="noStrike">
                <a:solidFill>
                  <a:srgbClr val="ff00ff"/>
                </a:solidFill>
                <a:latin typeface="Arial"/>
              </a:rPr>
              <a:t>Не это ли весна?</a:t>
            </a:r>
            <a:br>
              <a:rPr sz="3600"/>
            </a:br>
            <a:r>
              <a:rPr b="1" i="1" lang="ru-RU" sz="3600" spc="-1" strike="noStrike">
                <a:solidFill>
                  <a:srgbClr val="ff00ff"/>
                </a:solidFill>
                <a:latin typeface="Arial"/>
              </a:rPr>
              <a:t>Нет, это звонко, тонко</a:t>
            </a:r>
            <a:br>
              <a:rPr sz="3600"/>
            </a:br>
            <a:r>
              <a:rPr b="1" i="1" lang="ru-RU" sz="3600" spc="-1" strike="noStrike">
                <a:solidFill>
                  <a:srgbClr val="ff00ff"/>
                </a:solidFill>
                <a:latin typeface="Arial"/>
              </a:rPr>
              <a:t>В ручье…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344e6d"/>
                </a:solidFill>
                <a:latin typeface="Arial"/>
              </a:rPr>
              <a:t>1) блестит луна</a:t>
            </a:r>
            <a:br>
              <a:rPr sz="3600"/>
            </a:br>
            <a:r>
              <a:rPr b="1" i="1" lang="ru-RU" sz="3600" spc="-1" strike="noStrike">
                <a:solidFill>
                  <a:srgbClr val="344e6d"/>
                </a:solidFill>
                <a:latin typeface="Arial"/>
              </a:rPr>
              <a:t>2) журчит вода</a:t>
            </a:r>
            <a:br>
              <a:rPr sz="3600"/>
            </a:br>
            <a:r>
              <a:rPr b="1" i="1" lang="ru-RU" sz="3600" spc="-1" strike="noStrike">
                <a:solidFill>
                  <a:srgbClr val="344e6d"/>
                </a:solidFill>
                <a:latin typeface="Arial"/>
              </a:rPr>
              <a:t>3) журчит волна</a:t>
            </a:r>
            <a:br>
              <a:rPr sz="3600"/>
            </a:br>
            <a:r>
              <a:rPr b="1" i="1" lang="ru-RU" sz="3600" spc="-1" strike="noStrike">
                <a:solidFill>
                  <a:srgbClr val="344e6d"/>
                </a:solidFill>
                <a:latin typeface="Arial"/>
              </a:rPr>
              <a:t>4) блестит зв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kniga02"/>
          <p:cNvPicPr/>
          <p:nvPr/>
        </p:nvPicPr>
        <p:blipFill>
          <a:blip r:embed="rId1"/>
          <a:srcRect l="8518" t="0" r="8475" b="0"/>
          <a:stretch/>
        </p:blipFill>
        <p:spPr>
          <a:xfrm>
            <a:off x="5029200" y="3200400"/>
            <a:ext cx="3641760" cy="32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44e6d"/>
                </a:solidFill>
                <a:latin typeface="Arial"/>
              </a:rPr>
              <a:t>3) журчит вол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Users\иван\Downloads\18045704020187.jpg"/>
          <p:cNvPicPr/>
          <p:nvPr/>
        </p:nvPicPr>
        <p:blipFill>
          <a:blip r:embed="rId1"/>
          <a:stretch/>
        </p:blipFill>
        <p:spPr>
          <a:xfrm>
            <a:off x="442800" y="1176480"/>
            <a:ext cx="8016840" cy="54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-360"/>
            <a:ext cx="82915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ставь пропущенное слово в четверостишие.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ff00ff"/>
                </a:solidFill>
                <a:latin typeface="Arial"/>
              </a:rPr>
              <a:t>Всё чернее с каждым днем</a:t>
            </a:r>
            <a:br>
              <a:rPr sz="3200"/>
            </a:br>
            <a:r>
              <a:rPr b="1" i="1" lang="ru-RU" sz="3200" spc="-1" strike="noStrike">
                <a:solidFill>
                  <a:srgbClr val="ff00ff"/>
                </a:solidFill>
                <a:latin typeface="Arial"/>
              </a:rPr>
              <a:t>Стёжки и дорожки.</a:t>
            </a:r>
            <a:br>
              <a:rPr sz="3200"/>
            </a:br>
            <a:r>
              <a:rPr b="1" i="1" lang="ru-RU" sz="3200" spc="-1" strike="noStrike">
                <a:solidFill>
                  <a:srgbClr val="ff00ff"/>
                </a:solidFill>
                <a:latin typeface="Arial"/>
              </a:rPr>
              <a:t>И на вербах …</a:t>
            </a:r>
            <a:br>
              <a:rPr sz="3200"/>
            </a:br>
            <a:r>
              <a:rPr b="1" i="1" lang="ru-RU" sz="3200" spc="-1" strike="noStrike">
                <a:solidFill>
                  <a:srgbClr val="ff00ff"/>
                </a:solidFill>
                <a:latin typeface="Arial"/>
              </a:rPr>
              <a:t>Светятся серёжки.</a:t>
            </a:r>
            <a:br>
              <a:rPr sz="24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48320" y="4076640"/>
            <a:ext cx="403848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1) ярко </a:t>
            </a:r>
            <a:br>
              <a:rPr sz="3600"/>
            </a:b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2) огоньками</a:t>
            </a:r>
            <a:br>
              <a:rPr sz="3600"/>
            </a:b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3) золотом</a:t>
            </a:r>
            <a:br>
              <a:rPr sz="3600"/>
            </a:b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4) серебр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kniga02"/>
          <p:cNvPicPr/>
          <p:nvPr/>
        </p:nvPicPr>
        <p:blipFill>
          <a:blip r:embed="rId1"/>
          <a:srcRect l="8518" t="0" r="8475" b="0"/>
          <a:stretch/>
        </p:blipFill>
        <p:spPr>
          <a:xfrm>
            <a:off x="250920" y="4005360"/>
            <a:ext cx="2808360" cy="28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Гори,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олнце, ярче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Лето будет жарче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А зима теплее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А весна милее!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kniga02"/>
          <p:cNvPicPr/>
          <p:nvPr/>
        </p:nvPicPr>
        <p:blipFill>
          <a:blip r:embed="rId1"/>
          <a:srcRect l="8518" t="0" r="8475" b="0"/>
          <a:stretch/>
        </p:blipFill>
        <p:spPr>
          <a:xfrm>
            <a:off x="304920" y="295200"/>
            <a:ext cx="3581280" cy="29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Arial"/>
              </a:rPr>
              <a:t>4) сереб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C:\Users\иван\Downloads\0_82_8238_1206535519.jpg"/>
          <p:cNvPicPr/>
          <p:nvPr/>
        </p:nvPicPr>
        <p:blipFill>
          <a:blip r:embed="rId1"/>
          <a:stretch/>
        </p:blipFill>
        <p:spPr>
          <a:xfrm>
            <a:off x="900000" y="1314360"/>
            <a:ext cx="7559640" cy="55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абота в групп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38224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6000"/>
          </a:bodyPr>
          <a:p>
            <a:pPr marL="88920" indent="-8892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1 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ставьте по  опорным словам рассказ о вес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2 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берите пословицы о вес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3 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гадайте загадки о вес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1447920" y="4284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2362320" y="2035080"/>
            <a:ext cx="445140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52280" y="914400"/>
          <a:ext cx="8763120" cy="5746680"/>
        </p:xfrm>
        <a:graphic>
          <a:graphicData uri="http://schemas.openxmlformats.org/drawingml/2006/table">
            <a:tbl>
              <a:tblPr/>
              <a:tblGrid>
                <a:gridCol w="8763120"/>
              </a:tblGrid>
              <a:tr h="786600">
                <a:tc>
                  <a:txBody>
                    <a:bodyPr lIns="46800" rIns="46800" tIns="0" bIns="0" anchor="t">
                      <a:noAutofit/>
                    </a:bodyPr>
                    <a:p>
                      <a:pPr marL="142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  <a:ea typeface="Times New Roman"/>
                        </a:rPr>
                        <a:t>Апрель с водой,   май с травой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2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6600">
                <a:tc>
                  <a:txBody>
                    <a:bodyPr lIns="46800" rIns="46800" tIns="0" bIns="0" anchor="t">
                      <a:noAutofit/>
                    </a:bodyPr>
                    <a:p>
                      <a:pPr marL="142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  <a:ea typeface="Times New Roman"/>
                        </a:rPr>
                        <a:t>Весенний день   год кормит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2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6600">
                <a:tc>
                  <a:txBody>
                    <a:bodyPr lIns="46800" rIns="46800" tIns="0" bIns="0" anchor="t">
                      <a:noAutofit/>
                    </a:bodyPr>
                    <a:p>
                      <a:pPr marL="142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  <a:ea typeface="Times New Roman"/>
                        </a:rPr>
                        <a:t>Весенний день –    что ласковое слов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2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  <a:ea typeface="Calibri"/>
                        </a:rPr>
                        <a:t>  </a:t>
                      </a: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  <a:ea typeface="Calibri"/>
                        </a:rPr>
                        <a:t>Февраль силён метелью, а март – капелью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46800" rIns="46800" tIns="0" bIns="0" anchor="t">
                      <a:noAutofit/>
                    </a:bodyPr>
                    <a:p>
                      <a:pPr marL="142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  <a:ea typeface="Times New Roman"/>
                        </a:rPr>
                        <a:t>Вода с гор потекла –   весну принесла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2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5640">
                <a:tc>
                  <a:txBody>
                    <a:bodyPr lIns="46800" rIns="46800" tIns="0" bIns="0" anchor="t">
                      <a:noAutofit/>
                    </a:bodyPr>
                    <a:p>
                      <a:pPr marL="142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  <a:ea typeface="Times New Roman"/>
                        </a:rPr>
                        <a:t>Где в апреле река,  там в июле лужиц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2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  <a:ea typeface="Calibri"/>
                        </a:rPr>
                        <a:t>   </a:t>
                      </a: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  <a:ea typeface="Calibri"/>
                        </a:rPr>
                        <a:t>Марток – надевай  двое порто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Box 2"/>
          <p:cNvSpPr/>
          <p:nvPr/>
        </p:nvSpPr>
        <p:spPr>
          <a:xfrm>
            <a:off x="1676520" y="2286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ОСЛОВ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519600" cy="53449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"/>
          <p:cNvSpPr/>
          <p:nvPr/>
        </p:nvSpPr>
        <p:spPr>
          <a:xfrm>
            <a:off x="1676520" y="22860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Рассказ о вес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4114800"/>
            <a:ext cx="74678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2d050"/>
                </a:solidFill>
                <a:latin typeface="Arial"/>
              </a:rPr>
              <a:t>                          </a:t>
            </a:r>
            <a:r>
              <a:rPr b="1" i="1" lang="ru-RU" sz="6600" spc="-1" strike="noStrike">
                <a:solidFill>
                  <a:srgbClr val="ff0000"/>
                </a:solidFill>
                <a:latin typeface="Arial"/>
              </a:rPr>
              <a:t>Подведе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Arial"/>
              </a:rPr>
              <a:t>итого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C:\Users\иван\Downloads\proffesor.jpg"/>
          <p:cNvPicPr/>
          <p:nvPr/>
        </p:nvPicPr>
        <p:blipFill>
          <a:blip r:embed="rId1"/>
          <a:stretch/>
        </p:blipFill>
        <p:spPr>
          <a:xfrm>
            <a:off x="3962520" y="380880"/>
            <a:ext cx="5181480" cy="3651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kniga02"/>
          <p:cNvPicPr/>
          <p:nvPr/>
        </p:nvPicPr>
        <p:blipFill>
          <a:blip r:embed="rId2"/>
          <a:srcRect l="8518" t="0" r="8475" b="0"/>
          <a:stretch/>
        </p:blipFill>
        <p:spPr>
          <a:xfrm>
            <a:off x="457200" y="380880"/>
            <a:ext cx="3373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440" y="2437920"/>
            <a:ext cx="3962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стр. 124 </a:t>
            </a:r>
            <a:br>
              <a:rPr sz="40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задание 5</a:t>
            </a: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(нарисуй иллюстрацию к стих. о весне, сделай подпись словами текста) </a:t>
            </a:r>
            <a:br>
              <a:rPr sz="4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44720" y="333000"/>
            <a:ext cx="40417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b0f0"/>
                </a:solidFill>
                <a:latin typeface="Arial"/>
              </a:rPr>
              <a:t>Домашнее </a:t>
            </a:r>
            <a:br>
              <a:rPr sz="4800"/>
            </a:br>
            <a:r>
              <a:rPr b="1" i="1" lang="ru-RU" sz="4800" spc="-1" strike="noStrike">
                <a:solidFill>
                  <a:srgbClr val="00b0f0"/>
                </a:solidFill>
                <a:latin typeface="Arial"/>
              </a:rPr>
              <a:t>             задание</a:t>
            </a:r>
            <a:br>
              <a:rPr sz="4800"/>
            </a:br>
            <a:br>
              <a:rPr sz="5400"/>
            </a:b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kniga02"/>
          <p:cNvPicPr/>
          <p:nvPr/>
        </p:nvPicPr>
        <p:blipFill>
          <a:blip r:embed="rId1"/>
          <a:srcRect l="8518" t="0" r="8475" b="0"/>
          <a:stretch/>
        </p:blipFill>
        <p:spPr>
          <a:xfrm>
            <a:off x="468360" y="333360"/>
            <a:ext cx="2808360" cy="2257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иван\Downloads\47f24180-ab70-6b75-00ef-997aabf20902.jpg"/>
          <p:cNvPicPr/>
          <p:nvPr/>
        </p:nvPicPr>
        <p:blipFill>
          <a:blip r:embed="rId2"/>
          <a:stretch/>
        </p:blipFill>
        <p:spPr>
          <a:xfrm>
            <a:off x="4648320" y="2854440"/>
            <a:ext cx="4356000" cy="369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304812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                                   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kniga02"/>
          <p:cNvPicPr/>
          <p:nvPr/>
        </p:nvPicPr>
        <p:blipFill>
          <a:blip r:embed="rId1"/>
          <a:srcRect l="8518" t="0" r="8475" b="0"/>
          <a:stretch/>
        </p:blipFill>
        <p:spPr>
          <a:xfrm>
            <a:off x="179280" y="333360"/>
            <a:ext cx="2433600" cy="2638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2"/>
          <a:stretch/>
        </p:blipFill>
        <p:spPr>
          <a:xfrm>
            <a:off x="1714680" y="1285920"/>
            <a:ext cx="628632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0000"/>
                </a:solidFill>
                <a:latin typeface="Arial"/>
              </a:rPr>
              <a:t>ВЕСН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2" descr="Осина_2.png"/>
          <p:cNvPicPr/>
          <p:nvPr/>
        </p:nvPicPr>
        <p:blipFill>
          <a:blip r:embed="rId1"/>
          <a:stretch/>
        </p:blipFill>
        <p:spPr>
          <a:xfrm>
            <a:off x="-219240" y="128520"/>
            <a:ext cx="2895840" cy="26877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3" descr="Осина_2.png"/>
          <p:cNvPicPr/>
          <p:nvPr/>
        </p:nvPicPr>
        <p:blipFill>
          <a:blip r:embed="rId2"/>
          <a:stretch/>
        </p:blipFill>
        <p:spPr>
          <a:xfrm>
            <a:off x="5072040" y="-19080"/>
            <a:ext cx="4084560" cy="38354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Осина_2.png"/>
          <p:cNvPicPr/>
          <p:nvPr/>
        </p:nvPicPr>
        <p:blipFill>
          <a:blip r:embed="rId3"/>
          <a:stretch/>
        </p:blipFill>
        <p:spPr>
          <a:xfrm>
            <a:off x="-304920" y="3173400"/>
            <a:ext cx="4221360" cy="36846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Осина_2.png"/>
          <p:cNvPicPr/>
          <p:nvPr/>
        </p:nvPicPr>
        <p:blipFill>
          <a:blip r:embed="rId4"/>
          <a:stretch/>
        </p:blipFill>
        <p:spPr>
          <a:xfrm>
            <a:off x="4718160" y="3718080"/>
            <a:ext cx="422424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5345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Гонимы вешними лучам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С окрестных гор уже снег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Сбежали мутными ручьям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На потопленные луг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Улыбкой ясною приро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Сквозь сон встречает утро года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704880" y="13716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333399"/>
                </a:solidFill>
                <a:uFillTx/>
                <a:latin typeface="Arial"/>
              </a:rPr>
              <a:t>Вешними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- весенни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677880" y="22860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333399"/>
                </a:solidFill>
                <a:uFillTx/>
                <a:latin typeface="Arial"/>
              </a:rPr>
              <a:t>С окрестных 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- находящихся вокр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617400" y="36576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333399"/>
                </a:solidFill>
                <a:uFillTx/>
                <a:latin typeface="Arial"/>
              </a:rPr>
              <a:t>Мутными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– непрозрачными, нечисты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571680" y="50292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333399"/>
                </a:solidFill>
                <a:uFillTx/>
                <a:latin typeface="Arial"/>
              </a:rPr>
              <a:t>Потопленные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– погрузившиеся под в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1143000" y="3808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иван\Downloads\19636042_1204725540_lazarenko_vt_vesna.jpg"/>
          <p:cNvPicPr/>
          <p:nvPr/>
        </p:nvPicPr>
        <p:blipFill>
          <a:blip r:embed="rId1"/>
          <a:stretch/>
        </p:blipFill>
        <p:spPr>
          <a:xfrm>
            <a:off x="415800" y="549360"/>
            <a:ext cx="841860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иван\Downloads\d0b2d0b5d181d0bdd0b0.jpg"/>
          <p:cNvPicPr/>
          <p:nvPr/>
        </p:nvPicPr>
        <p:blipFill>
          <a:blip r:embed="rId1"/>
          <a:stretch/>
        </p:blipFill>
        <p:spPr>
          <a:xfrm>
            <a:off x="539640" y="458640"/>
            <a:ext cx="7993080" cy="599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4-01T21:03:40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