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5.jpeg" ContentType="image/jpe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1EC-B0EB-4310-A362-B8E420CF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E02-EC2E-4CC6-B6A9-D22445F5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BF2-E7FF-47F5-90E5-CF186C82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BE8-AEB5-4D48-9B84-58FF942D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228C-DBA4-46C4-B307-4AEC93A9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3A1A-ECB7-4E52-AA81-1A9DB345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7280-2D6E-4E22-B451-3A19051E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290A-A2A4-42EE-A607-9CE6DAC7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0FDA-C05C-4EF1-AD69-7489040C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D765-51EE-4644-8A9D-D6874043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C194-948D-436C-AD18-1F48335A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36D-AE3A-49D6-8059-DE2B817F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0DC5-0354-4123-8591-AD5C095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1D84-2626-4A43-99BB-8E9CB0A1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24AC-863A-459B-90E0-542D4FBC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AF2E-A170-4549-8E81-582F2A81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C76E-C8D7-4B37-B4EA-3B27F054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57A-88C1-4528-BB58-69640C80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628-2632-4CBA-A68A-A12AF589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E7A-790A-4401-A7D5-53E21FF5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51E-27B2-4C86-8366-D60F8308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781-0DF1-4F63-AFA6-4EE8D694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D6D-0E66-4B42-A71A-82BC2DEA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16F-EB0E-402D-A7D8-F0254700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D689-3A15-454D-88AD-9D35697A1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23A1-CFA5-4E58-9DB5-D8557CDA80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0716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Австрал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1979640" y="1700280"/>
            <a:ext cx="5545080" cy="3744720"/>
            <a:chOff x="1979640" y="1700280"/>
            <a:chExt cx="5545080" cy="3744720"/>
          </a:xfrm>
        </p:grpSpPr>
        <p:sp>
          <p:nvSpPr>
            <p:cNvPr id="101" name="AutoShape 6"/>
            <p:cNvSpPr/>
            <p:nvPr/>
          </p:nvSpPr>
          <p:spPr>
            <a:xfrm>
              <a:off x="1979640" y="1700280"/>
              <a:ext cx="5545080" cy="37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7"/>
            <p:cNvSpPr/>
            <p:nvPr/>
          </p:nvSpPr>
          <p:spPr>
            <a:xfrm>
              <a:off x="6278040" y="2760120"/>
              <a:ext cx="26640" cy="727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8"/>
            <p:cNvSpPr/>
            <p:nvPr/>
          </p:nvSpPr>
          <p:spPr>
            <a:xfrm>
              <a:off x="6278040" y="2760120"/>
              <a:ext cx="26640" cy="727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9"/>
            <p:cNvSpPr/>
            <p:nvPr/>
          </p:nvSpPr>
          <p:spPr>
            <a:xfrm>
              <a:off x="6304680" y="2833200"/>
              <a:ext cx="55080" cy="489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0"/>
            <p:cNvSpPr/>
            <p:nvPr/>
          </p:nvSpPr>
          <p:spPr>
            <a:xfrm>
              <a:off x="6304680" y="2833200"/>
              <a:ext cx="55080" cy="48960"/>
            </a:xfrm>
            <a:prstGeom prst="pie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1"/>
            <p:cNvSpPr/>
            <p:nvPr/>
          </p:nvSpPr>
          <p:spPr>
            <a:xfrm>
              <a:off x="6998400" y="2857680"/>
              <a:ext cx="109080" cy="4680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2"/>
            <p:cNvSpPr/>
            <p:nvPr/>
          </p:nvSpPr>
          <p:spPr>
            <a:xfrm>
              <a:off x="6998400" y="2857680"/>
              <a:ext cx="109080" cy="46800"/>
            </a:xfrm>
            <a:prstGeom prst="pie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3"/>
            <p:cNvSpPr/>
            <p:nvPr/>
          </p:nvSpPr>
          <p:spPr>
            <a:xfrm>
              <a:off x="6112080" y="3098520"/>
              <a:ext cx="192600" cy="1195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4"/>
            <p:cNvSpPr/>
            <p:nvPr/>
          </p:nvSpPr>
          <p:spPr>
            <a:xfrm>
              <a:off x="6112080" y="3098520"/>
              <a:ext cx="192600" cy="119520"/>
            </a:xfrm>
            <a:prstGeom prst="pie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5"/>
            <p:cNvSpPr/>
            <p:nvPr/>
          </p:nvSpPr>
          <p:spPr>
            <a:xfrm>
              <a:off x="6636960" y="3917880"/>
              <a:ext cx="361440" cy="4341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6"/>
            <p:cNvSpPr/>
            <p:nvPr/>
          </p:nvSpPr>
          <p:spPr>
            <a:xfrm>
              <a:off x="6636960" y="3917880"/>
              <a:ext cx="361440" cy="434160"/>
            </a:xfrm>
            <a:prstGeom prst="pie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7"/>
            <p:cNvSpPr/>
            <p:nvPr/>
          </p:nvSpPr>
          <p:spPr>
            <a:xfrm>
              <a:off x="6278040" y="4278240"/>
              <a:ext cx="470880" cy="3625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6278040" y="4278240"/>
              <a:ext cx="470880" cy="362520"/>
            </a:xfrm>
            <a:prstGeom prst="pie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9"/>
            <p:cNvSpPr/>
            <p:nvPr/>
          </p:nvSpPr>
          <p:spPr>
            <a:xfrm>
              <a:off x="5528880" y="2230920"/>
              <a:ext cx="83520" cy="946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0"/>
            <p:cNvSpPr/>
            <p:nvPr/>
          </p:nvSpPr>
          <p:spPr>
            <a:xfrm>
              <a:off x="5528880" y="2230920"/>
              <a:ext cx="83520" cy="946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1"/>
            <p:cNvSpPr/>
            <p:nvPr/>
          </p:nvSpPr>
          <p:spPr>
            <a:xfrm>
              <a:off x="5777280" y="2350440"/>
              <a:ext cx="83520" cy="727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2"/>
            <p:cNvSpPr/>
            <p:nvPr/>
          </p:nvSpPr>
          <p:spPr>
            <a:xfrm>
              <a:off x="5777280" y="2350440"/>
              <a:ext cx="83520" cy="727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23"/>
            <p:cNvSpPr/>
            <p:nvPr/>
          </p:nvSpPr>
          <p:spPr>
            <a:xfrm>
              <a:off x="5694840" y="2375280"/>
              <a:ext cx="56520" cy="478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24"/>
            <p:cNvSpPr/>
            <p:nvPr/>
          </p:nvSpPr>
          <p:spPr>
            <a:xfrm>
              <a:off x="5694840" y="2375280"/>
              <a:ext cx="56520" cy="47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5"/>
            <p:cNvSpPr/>
            <p:nvPr/>
          </p:nvSpPr>
          <p:spPr>
            <a:xfrm>
              <a:off x="5639760" y="2303640"/>
              <a:ext cx="83160" cy="4680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6"/>
            <p:cNvSpPr/>
            <p:nvPr/>
          </p:nvSpPr>
          <p:spPr>
            <a:xfrm>
              <a:off x="5639760" y="2303640"/>
              <a:ext cx="83160" cy="46800"/>
            </a:xfrm>
            <a:prstGeom prst="pie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27"/>
            <p:cNvSpPr/>
            <p:nvPr/>
          </p:nvSpPr>
          <p:spPr>
            <a:xfrm>
              <a:off x="5917680" y="2398680"/>
              <a:ext cx="28080" cy="7380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8"/>
            <p:cNvSpPr/>
            <p:nvPr/>
          </p:nvSpPr>
          <p:spPr>
            <a:xfrm>
              <a:off x="5917680" y="2398680"/>
              <a:ext cx="28080" cy="73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9"/>
            <p:cNvSpPr/>
            <p:nvPr/>
          </p:nvSpPr>
          <p:spPr>
            <a:xfrm>
              <a:off x="5861160" y="2448000"/>
              <a:ext cx="56520" cy="4680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>
              <a:off x="5861160" y="2448000"/>
              <a:ext cx="56520" cy="46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1"/>
            <p:cNvSpPr/>
            <p:nvPr/>
          </p:nvSpPr>
          <p:spPr>
            <a:xfrm>
              <a:off x="5306400" y="2062800"/>
              <a:ext cx="140040" cy="1432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32"/>
            <p:cNvSpPr/>
            <p:nvPr/>
          </p:nvSpPr>
          <p:spPr>
            <a:xfrm>
              <a:off x="5306400" y="2062800"/>
              <a:ext cx="140040" cy="143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5252400" y="2062800"/>
              <a:ext cx="28080" cy="223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5252400" y="2062800"/>
              <a:ext cx="28080" cy="22320"/>
            </a:xfrm>
            <a:prstGeom prst="pie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5140800" y="2158200"/>
              <a:ext cx="249120" cy="12060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5140800" y="2158200"/>
              <a:ext cx="249120" cy="120600"/>
            </a:xfrm>
            <a:prstGeom prst="pie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4753080" y="2085120"/>
              <a:ext cx="552960" cy="4586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4753080" y="2085120"/>
              <a:ext cx="552960" cy="458640"/>
            </a:xfrm>
            <a:prstGeom prst="pie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9"/>
            <p:cNvSpPr/>
            <p:nvPr/>
          </p:nvSpPr>
          <p:spPr>
            <a:xfrm>
              <a:off x="5280840" y="2472480"/>
              <a:ext cx="25560" cy="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40"/>
            <p:cNvSpPr/>
            <p:nvPr/>
          </p:nvSpPr>
          <p:spPr>
            <a:xfrm>
              <a:off x="5280840" y="2472480"/>
              <a:ext cx="25560" cy="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41"/>
            <p:cNvSpPr/>
            <p:nvPr/>
          </p:nvSpPr>
          <p:spPr>
            <a:xfrm>
              <a:off x="2980440" y="2544120"/>
              <a:ext cx="2491560" cy="1662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2"/>
            <p:cNvSpPr/>
            <p:nvPr/>
          </p:nvSpPr>
          <p:spPr>
            <a:xfrm>
              <a:off x="2980440" y="2544120"/>
              <a:ext cx="2491560" cy="16624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3"/>
            <p:cNvSpPr/>
            <p:nvPr/>
          </p:nvSpPr>
          <p:spPr>
            <a:xfrm>
              <a:off x="5945760" y="2519640"/>
              <a:ext cx="53640" cy="24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4"/>
            <p:cNvSpPr/>
            <p:nvPr/>
          </p:nvSpPr>
          <p:spPr>
            <a:xfrm>
              <a:off x="5945760" y="2519640"/>
              <a:ext cx="53640" cy="244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5"/>
            <p:cNvSpPr/>
            <p:nvPr/>
          </p:nvSpPr>
          <p:spPr>
            <a:xfrm>
              <a:off x="4032720" y="2567880"/>
              <a:ext cx="83160" cy="489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4032720" y="2567880"/>
              <a:ext cx="83160" cy="4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4421520" y="3990600"/>
              <a:ext cx="82080" cy="24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4421520" y="3990600"/>
              <a:ext cx="82080" cy="244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4919040" y="4278240"/>
              <a:ext cx="221400" cy="1688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4919040" y="4278240"/>
              <a:ext cx="221400" cy="168840"/>
            </a:xfrm>
            <a:prstGeom prst="pie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6360120" y="4641120"/>
              <a:ext cx="1080" cy="7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6360120" y="4641120"/>
              <a:ext cx="1080" cy="7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53"/>
            <p:cNvSpPr/>
            <p:nvPr/>
          </p:nvSpPr>
          <p:spPr>
            <a:xfrm>
              <a:off x="6332040" y="4641120"/>
              <a:ext cx="56520" cy="24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6332040" y="4641120"/>
              <a:ext cx="56520" cy="244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WordArt 56"/>
          <p:cNvSpPr txBox="1"/>
          <p:nvPr/>
        </p:nvSpPr>
        <p:spPr>
          <a:xfrm>
            <a:off x="900000" y="6021360"/>
            <a:ext cx="75344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ffffb7"/>
                </a:solidFill>
                <a:latin typeface="Arial"/>
              </a:rPr>
              <a:t>Презентация выполнена учителем географии Криволаповой Оксаной Леонидовной</a:t>
            </a:r>
            <a:endParaRPr b="1" lang="en-US" sz="1400" spc="1" strike="noStrike">
              <a:ln w="0">
                <a:noFill/>
              </a:ln>
              <a:solidFill>
                <a:srgbClr val="ffffb7"/>
              </a:solidFill>
              <a:latin typeface="Arial"/>
              <a:ea typeface="Arial"/>
            </a:endParaRPr>
          </a:p>
        </p:txBody>
      </p:sp>
      <p:pic>
        <p:nvPicPr>
          <p:cNvPr id="151" name="Picture 60" descr="125px-Australian_Coat_of_Arms"/>
          <p:cNvPicPr/>
          <p:nvPr/>
        </p:nvPicPr>
        <p:blipFill>
          <a:blip r:embed="rId1"/>
          <a:stretch/>
        </p:blipFill>
        <p:spPr>
          <a:xfrm>
            <a:off x="324000" y="3394080"/>
            <a:ext cx="2663640" cy="20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1" descr="135px-Flag_of_Australia"/>
          <p:cNvPicPr/>
          <p:nvPr/>
        </p:nvPicPr>
        <p:blipFill>
          <a:blip r:embed="rId2"/>
          <a:stretch/>
        </p:blipFill>
        <p:spPr>
          <a:xfrm>
            <a:off x="250920" y="1413000"/>
            <a:ext cx="29527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5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4391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0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опрос: Выгодно ли экономико-географическое положение страны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родные богатства Австрал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ана располагает крупными запасами полезных ископаем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место – железная руда, бокси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место – свинец, цин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место – марганцевая и вольфрамовая ру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место – каменный уго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уда вывозится железная руда Австралии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стр. 58 справочное пособие «Социально-экономическая география мира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мышлен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опрос: Если страна располагает перечисленными ресурсами, то какие отрасли обрабатывающей промышленности получили здесь наибольшее развитие? Где размещены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работа с картами атласа, стр. 40, нанесите на контурную карту центры обрабатывающих отрасле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Picture 5" descr="gro1"/>
          <p:cNvPicPr/>
          <p:nvPr/>
        </p:nvPicPr>
        <p:blipFill>
          <a:blip r:embed="rId1"/>
          <a:stretch/>
        </p:blipFill>
        <p:spPr>
          <a:xfrm>
            <a:off x="468360" y="549360"/>
            <a:ext cx="5761080" cy="431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gro3"/>
          <p:cNvPicPr/>
          <p:nvPr/>
        </p:nvPicPr>
        <p:blipFill>
          <a:blip r:embed="rId2"/>
          <a:stretch/>
        </p:blipFill>
        <p:spPr>
          <a:xfrm>
            <a:off x="1763640" y="1484280"/>
            <a:ext cx="4692600" cy="3519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gro4"/>
          <p:cNvPicPr/>
          <p:nvPr/>
        </p:nvPicPr>
        <p:blipFill>
          <a:blip r:embed="rId3"/>
          <a:stretch/>
        </p:blipFill>
        <p:spPr>
          <a:xfrm>
            <a:off x="2340000" y="2565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1064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лавная сфера деятельности: Сельское хозя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9" descr="180px-Sheep_shearing"/>
          <p:cNvPicPr/>
          <p:nvPr/>
        </p:nvPicPr>
        <p:blipFill>
          <a:blip r:embed="rId4"/>
          <a:stretch/>
        </p:blipFill>
        <p:spPr>
          <a:xfrm>
            <a:off x="6012000" y="2492280"/>
            <a:ext cx="25444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15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115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15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1155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115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115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15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155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115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115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кологические 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астрофически быстро исчезают лесные масси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ие виды животных оказались под угрозой исчезнов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ироко распространена эрозия поч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исходит деградация кормовых угод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грязнение воздуха предприятиями горно-рудной промышл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Итог урок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907560"/>
            <a:ext cx="800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стралия является одной из развитых государств мира, так к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олагает значительными запасами природных ресурсов, в том числе полезными ископаемыми, при небольшом количестве насе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ностью удовлетворяет потребности в сельском хозяйстве и продовольств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ирок приток иностранного капитала (англичане прислали сюда капиталистические отношения, навыки, традиции, квалифицированные рабочие рук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смотря на огромные долги, Австралия продолжает процветать и с каждым годом добивается всё новых и новых результатов в эконом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ить параграф 51 на стр. 243 – 246, в контурной карте выполнить задания №3 и №4 (стр. 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765000"/>
            <a:ext cx="3927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стралия в прошлом была колони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ликобрита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ма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а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лланд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Великобрит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200px-Koala_climbing_tree"/>
          <p:cNvPicPr/>
          <p:nvPr/>
        </p:nvPicPr>
        <p:blipFill>
          <a:blip r:embed="rId1"/>
          <a:stretch/>
        </p:blipFill>
        <p:spPr>
          <a:xfrm>
            <a:off x="395280" y="260280"/>
            <a:ext cx="2540160" cy="250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109_18"/>
          <p:cNvPicPr/>
          <p:nvPr/>
        </p:nvPicPr>
        <p:blipFill>
          <a:blip r:embed="rId2"/>
          <a:stretch/>
        </p:blipFill>
        <p:spPr>
          <a:xfrm>
            <a:off x="395280" y="2781360"/>
            <a:ext cx="211284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i1"/>
          <p:cNvPicPr/>
          <p:nvPr/>
        </p:nvPicPr>
        <p:blipFill>
          <a:blip r:embed="rId3"/>
          <a:stretch/>
        </p:blipFill>
        <p:spPr>
          <a:xfrm>
            <a:off x="4067280" y="4941720"/>
            <a:ext cx="2325600" cy="1735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iCA3RKRM3"/>
          <p:cNvPicPr/>
          <p:nvPr/>
        </p:nvPicPr>
        <p:blipFill>
          <a:blip r:embed="rId4"/>
          <a:stretch/>
        </p:blipFill>
        <p:spPr>
          <a:xfrm>
            <a:off x="5999040" y="0"/>
            <a:ext cx="2460600" cy="21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рисунок"/>
          <p:cNvPicPr/>
          <p:nvPr/>
        </p:nvPicPr>
        <p:blipFill>
          <a:blip r:embed="rId5"/>
          <a:stretch/>
        </p:blipFill>
        <p:spPr>
          <a:xfrm>
            <a:off x="6192720" y="2205000"/>
            <a:ext cx="2951280" cy="1974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ken3"/>
          <p:cNvPicPr/>
          <p:nvPr/>
        </p:nvPicPr>
        <p:blipFill>
          <a:blip r:embed="rId6"/>
          <a:stretch/>
        </p:blipFill>
        <p:spPr>
          <a:xfrm>
            <a:off x="2916360" y="18900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utk1"/>
          <p:cNvPicPr/>
          <p:nvPr/>
        </p:nvPicPr>
        <p:blipFill>
          <a:blip r:embed="rId7"/>
          <a:stretch/>
        </p:blipFill>
        <p:spPr>
          <a:xfrm>
            <a:off x="395280" y="4365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8"/>
          <a:stretch/>
        </p:blipFill>
        <p:spPr>
          <a:xfrm>
            <a:off x="2771640" y="2276640"/>
            <a:ext cx="3453120" cy="2519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9"/>
          <a:stretch/>
        </p:blipFill>
        <p:spPr>
          <a:xfrm>
            <a:off x="6732720" y="3860640"/>
            <a:ext cx="20541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276280"/>
            <a:ext cx="39276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числите штаты Австрал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17960" y="692280"/>
            <a:ext cx="3927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есть штато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овый Южный Уэльс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Виктория, 3.Квинсленд, 4.Южная Австралия, 5.Западная Австралия, 6.Тас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ие животные изображены на государственном гербе стра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ус эму и кенгу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овите форму правления государ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деративная парламентская демокра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60280"/>
            <a:ext cx="3927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и природными ресурсами Австралия выгодно отличается от других материк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дайте один отв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езные ру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ды цветных метал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дроэнергоресур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тезианские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сные ресур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ртезианские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каком году и кем был принят закон, уравнивающий аборигенов во всех прав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1967 году голосами подавляющего большинства населения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ие страны являются основными торговыми партнёрами Австрал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17960" y="692280"/>
            <a:ext cx="3927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пония, США, Страны ЕС (Европейский Союз), АСЕАН (Ассоциация государств Юго-Восточной Азии), Новая Зеландия, Тайвань, Южная Кор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0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и 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ая Австралию, показать её привлекательность и неповторимость, её красоту и велич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вить причины экономического и политического лидерства страны на мировом уров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ть применять имеющиеся знания в поисках решения проблемных ситу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ывать чувство уважения, интереса, бережного отношения к окружающему ми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6215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олица – город Канбер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6" name="Picture 4" descr="Melbourne_along_Yarra_River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692316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стралийский Союз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838080" y="1341360"/>
            <a:ext cx="76215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орода стра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eng7"/>
          <p:cNvPicPr/>
          <p:nvPr/>
        </p:nvPicPr>
        <p:blipFill>
          <a:blip r:embed="rId1"/>
          <a:stretch/>
        </p:blipFill>
        <p:spPr>
          <a:xfrm>
            <a:off x="1763640" y="1341360"/>
            <a:ext cx="5975280" cy="448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map11"/>
          <p:cNvPicPr/>
          <p:nvPr/>
        </p:nvPicPr>
        <p:blipFill>
          <a:blip r:embed="rId2"/>
          <a:stretch/>
        </p:blipFill>
        <p:spPr>
          <a:xfrm>
            <a:off x="2556000" y="1484280"/>
            <a:ext cx="4467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abo2"/>
          <p:cNvPicPr/>
          <p:nvPr/>
        </p:nvPicPr>
        <p:blipFill>
          <a:blip r:embed="rId1"/>
          <a:stretch/>
        </p:blipFill>
        <p:spPr>
          <a:xfrm>
            <a:off x="395280" y="333360"/>
            <a:ext cx="4619520" cy="3465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abo11"/>
          <p:cNvPicPr/>
          <p:nvPr/>
        </p:nvPicPr>
        <p:blipFill>
          <a:blip r:embed="rId2"/>
          <a:stretch/>
        </p:blipFill>
        <p:spPr>
          <a:xfrm>
            <a:off x="0" y="3068640"/>
            <a:ext cx="4692600" cy="3521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eng1"/>
          <p:cNvPicPr/>
          <p:nvPr/>
        </p:nvPicPr>
        <p:blipFill>
          <a:blip r:embed="rId3"/>
          <a:stretch/>
        </p:blipFill>
        <p:spPr>
          <a:xfrm>
            <a:off x="4356000" y="549360"/>
            <a:ext cx="4260960" cy="3195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eng5"/>
          <p:cNvPicPr/>
          <p:nvPr/>
        </p:nvPicPr>
        <p:blipFill>
          <a:blip r:embed="rId4"/>
          <a:stretch/>
        </p:blipFill>
        <p:spPr>
          <a:xfrm>
            <a:off x="4284720" y="3141720"/>
            <a:ext cx="461952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ренные жители Австрали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5119560" cy="3462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900000" y="544500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сновном страна заселена европейцами (среди них большинство англичане и ирландцы - 95%), азиаты составляют 4%, аборигены - 1%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/>
          <a:stretch/>
        </p:blipFill>
        <p:spPr>
          <a:xfrm>
            <a:off x="5607000" y="907920"/>
            <a:ext cx="3211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8:08:30Z</dcterms:created>
  <dc:creator>SSS</dc:creator>
  <dc:description/>
  <dc:language>en-US</dc:language>
  <cp:lastModifiedBy>Windows User</cp:lastModifiedBy>
  <dcterms:modified xsi:type="dcterms:W3CDTF">2015-04-11T21:30:55Z</dcterms:modified>
  <cp:revision>28</cp:revision>
  <dc:subject/>
  <dc:title>Австралия </dc:title>
</cp:coreProperties>
</file>