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881B-603F-4EA8-A263-03417F55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A6F-EEDA-4F08-93A5-3964B72D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5D88-7F91-4781-A351-72867A41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26EA-41A9-48E8-BAA5-35800399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09D-58D3-413F-AA69-8446C7D4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F9B9-E13C-41D7-8CEE-D2146334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168-6D39-4C70-8A9B-9000CB8D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BA28-8811-4150-8500-D3FFB8CE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77ED-FB1D-4BF7-830C-C7FEA2E7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0695-B60F-430C-9113-28BB26A3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BB30-92FF-4642-A846-70FBFE1F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C456-796F-4C25-A967-465C706E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3101-9278-4C71-93FC-E8BFE67E4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2/66/404/66404768_04.jpg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roza.ru/pics/2008/02/24/154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" TargetMode="External"/><Relationship Id="rId2" Type="http://schemas.openxmlformats.org/officeDocument/2006/relationships/hyperlink" Target="http://images.yandex.ru/yandsearch?rpt=simage&amp;ed" TargetMode="External"/><Relationship Id="rId3" Type="http://schemas.openxmlformats.org/officeDocument/2006/relationships/hyperlink" Target="http://images.yandex.ru/yandsearch?rpt=simage&amp;ed" TargetMode="External"/><Relationship Id="rId4" Type="http://schemas.openxmlformats.org/officeDocument/2006/relationships/hyperlink" Target="http://images.yandex.ru/yandsearch?rpt=simage&amp;ed" TargetMode="External"/><Relationship Id="rId5" Type="http://schemas.openxmlformats.org/officeDocument/2006/relationships/hyperlink" Target="http://images.yandex.ru/yandsearch?rpt=simage&amp;ed" TargetMode="External"/><Relationship Id="rId6" Type="http://schemas.openxmlformats.org/officeDocument/2006/relationships/hyperlink" Target="http://www.museum-21.ru/files/15/gema/DSC02758+.jpg" TargetMode="External"/><Relationship Id="rId7" Type="http://schemas.openxmlformats.org/officeDocument/2006/relationships/hyperlink" Target="http://www.museum-21.ru/files/15/gema/DSC02758+.jpg" TargetMode="External"/><Relationship Id="rId8" Type="http://schemas.openxmlformats.org/officeDocument/2006/relationships/hyperlink" Target="http://www.museum-21.ru/files/15/gema/DSC02758+.jpg" TargetMode="External"/><Relationship Id="rId9" Type="http://schemas.openxmlformats.org/officeDocument/2006/relationships/hyperlink" Target="http://www.museum-21.ru/files/15/gema/DSC02758+.jpg" TargetMode="External"/><Relationship Id="rId10" Type="http://schemas.openxmlformats.org/officeDocument/2006/relationships/hyperlink" Target="http://www.museum-21.ru/files/15/gema/DSC02758+.jpg" TargetMode="External"/><Relationship Id="rId11" Type="http://schemas.openxmlformats.org/officeDocument/2006/relationships/hyperlink" Target="http://www.museum-21.ru/files/15/gema/DSC02758+.jpg" TargetMode="External"/><Relationship Id="rId12" Type="http://schemas.openxmlformats.org/officeDocument/2006/relationships/hyperlink" Target="http://www.museum-21.ru/files/15/gema/DSC02755+.jpg" TargetMode="External"/><Relationship Id="rId13" Type="http://schemas.openxmlformats.org/officeDocument/2006/relationships/hyperlink" Target="http://www.museum-21.ru/files/15/gema/DSC02755+.jpg" TargetMode="External"/><Relationship Id="rId14" Type="http://schemas.openxmlformats.org/officeDocument/2006/relationships/hyperlink" Target="http://www.museum-21.ru/files/15/gema/DSC02755+.jpg" TargetMode="External"/><Relationship Id="rId15" Type="http://schemas.openxmlformats.org/officeDocument/2006/relationships/hyperlink" Target="http://www.museum-21.ru/files/15/gema/DSC02755+.jpg" TargetMode="External"/><Relationship Id="rId16" Type="http://schemas.openxmlformats.org/officeDocument/2006/relationships/hyperlink" Target="http://www.museum-21.ru/files/15/gema/DSC02755+.jpg" TargetMode="External"/><Relationship Id="rId17" Type="http://schemas.openxmlformats.org/officeDocument/2006/relationships/hyperlink" Target="http://www.museum-21.ru/files/15/gema/DSC02755+.jpg" TargetMode="External"/><Relationship Id="rId18" Type="http://schemas.openxmlformats.org/officeDocument/2006/relationships/hyperlink" Target="http://afisha.yandex.ru/media/events/images/c03ce2481ffcc958e1a90f5adcfb7c3f.jpg" TargetMode="External"/><Relationship Id="rId19" Type="http://schemas.openxmlformats.org/officeDocument/2006/relationships/hyperlink" Target="http://afisha.yandex.ru/media/events/images/c03ce2481ffcc958e1a90f5adcfb7c3f.jpg" TargetMode="External"/><Relationship Id="rId20" Type="http://schemas.openxmlformats.org/officeDocument/2006/relationships/hyperlink" Target="http://afisha.yandex.ru/media/events/images/c03ce2481ffcc958e1a90f5adcfb7c3f.jpg" TargetMode="External"/><Relationship Id="rId21" Type="http://schemas.openxmlformats.org/officeDocument/2006/relationships/hyperlink" Target="http://afisha.yandex.ru/media/events/images/c03ce2481ffcc958e1a90f5adcfb7c3f.jpg" TargetMode="External"/><Relationship Id="rId22" Type="http://schemas.openxmlformats.org/officeDocument/2006/relationships/hyperlink" Target="http://afisha.yandex.ru/media/events/images/c03ce2481ffcc958e1a90f5adcfb7c3f.jpg" TargetMode="External"/><Relationship Id="rId23" Type="http://schemas.openxmlformats.org/officeDocument/2006/relationships/hyperlink" Target="http://afisha.yandex.ru/media/events/images/c03ce2481ffcc958e1a90f5adcfb7c3f.jpg" TargetMode="External"/><Relationship Id="rId24" Type="http://schemas.openxmlformats.org/officeDocument/2006/relationships/hyperlink" Target="http://afisha.yandex.ru/media/events/images/c03ce2481ffcc958e1a90f5adcfb7c3f.jpg" TargetMode="External"/><Relationship Id="rId25" Type="http://schemas.openxmlformats.org/officeDocument/2006/relationships/hyperlink" Target="http://afisha.yandex.ru/media/events/images/c03ce2481ffcc958e1a90f5adcfb7c3f.jpg" TargetMode="External"/><Relationship Id="rId26" Type="http://schemas.openxmlformats.org/officeDocument/2006/relationships/hyperlink" Target="http://afisha.yandex.ru/media/events/images/c03ce2481ffcc958e1a90f5adcfb7c3f.jpg" TargetMode="External"/><Relationship Id="rId27" Type="http://schemas.openxmlformats.org/officeDocument/2006/relationships/hyperlink" Target="http://img1.liveinternet.ru/images/attach/c/1/54/269/54269983_15328864_goruy.jpg" TargetMode="External"/><Relationship Id="rId28" Type="http://schemas.openxmlformats.org/officeDocument/2006/relationships/hyperlink" Target="http://img1.liveinternet.ru/images/attach/c/1/54/269/54269983_15328864_goruy.jpg" TargetMode="External"/><Relationship Id="rId29" Type="http://schemas.openxmlformats.org/officeDocument/2006/relationships/hyperlink" Target="http://img1.liveinternet.ru/images/attach/c/1/54/269/54269983_15328864_goruy.jpg" TargetMode="External"/><Relationship Id="rId30" Type="http://schemas.openxmlformats.org/officeDocument/2006/relationships/hyperlink" Target="http://img1.liveinternet.ru/images/attach/c/1/54/269/54269983_15328864_goruy.jpg" TargetMode="External"/><Relationship Id="rId31" Type="http://schemas.openxmlformats.org/officeDocument/2006/relationships/hyperlink" Target="http://img1.liveinternet.ru/images/attach/c/1/54/269/54269983_15328864_goruy.jpg" TargetMode="External"/><Relationship Id="rId32" Type="http://schemas.openxmlformats.org/officeDocument/2006/relationships/hyperlink" Target="http://img1.liveinternet.ru/images/foto/b/3/930/2923930/f_16660806.jpg" TargetMode="External"/><Relationship Id="rId33" Type="http://schemas.openxmlformats.org/officeDocument/2006/relationships/hyperlink" Target="http://img1.liveinternet.ru/images/foto/b/3/930/2923930/f_16660806.jpg" TargetMode="External"/><Relationship Id="rId34" Type="http://schemas.openxmlformats.org/officeDocument/2006/relationships/hyperlink" Target="http://img1.liveinternet.ru/images/foto/b/3/930/2923930/f_16660806.jpg" TargetMode="External"/><Relationship Id="rId35" Type="http://schemas.openxmlformats.org/officeDocument/2006/relationships/hyperlink" Target="http://img1.liveinternet.ru/images/foto/b/3/930/2923930/f_16660806.jpg" TargetMode="External"/><Relationship Id="rId36" Type="http://schemas.openxmlformats.org/officeDocument/2006/relationships/hyperlink" Target="http://img1.liveinternet.ru/images/foto/b/3/930/2923930/f_16660806.jpg" TargetMode="External"/><Relationship Id="rId37" Type="http://schemas.openxmlformats.org/officeDocument/2006/relationships/hyperlink" Target="http://img0.liveinternet.ru/images/attach/b/3/15/371/15371856_Manaraga__.jpg" TargetMode="External"/><Relationship Id="rId38" Type="http://schemas.openxmlformats.org/officeDocument/2006/relationships/hyperlink" Target="http://img0.liveinternet.ru/images/attach/b/3/15/371/15371856_Manaraga__.jpg" TargetMode="External"/><Relationship Id="rId39" Type="http://schemas.openxmlformats.org/officeDocument/2006/relationships/hyperlink" Target="http://img0.liveinternet.ru/images/attach/b/3/15/371/15371856_Manaraga__.jpg" TargetMode="External"/><Relationship Id="rId40" Type="http://schemas.openxmlformats.org/officeDocument/2006/relationships/hyperlink" Target="http://img0.liveinternet.ru/images/attach/b/3/15/371/15371856_Manaraga__.jpg" TargetMode="External"/><Relationship Id="rId41" Type="http://schemas.openxmlformats.org/officeDocument/2006/relationships/hyperlink" Target="http://img0.liveinternet.ru/images/attach/b/3/15/371/15371856_Manaraga__.jpg" TargetMode="External"/><Relationship Id="rId42" Type="http://schemas.openxmlformats.org/officeDocument/2006/relationships/hyperlink" Target="http://shopedu.ru/uploaded_files/shop_images/132.jpg" TargetMode="External"/><Relationship Id="rId43" Type="http://schemas.openxmlformats.org/officeDocument/2006/relationships/hyperlink" Target="http://shopedu.ru/uploaded_files/shop_images/132.jpg" TargetMode="External"/><Relationship Id="rId44" Type="http://schemas.openxmlformats.org/officeDocument/2006/relationships/hyperlink" Target="http://shopedu.ru/uploaded_files/shop_images/132.jpg" TargetMode="External"/><Relationship Id="rId45" Type="http://schemas.openxmlformats.org/officeDocument/2006/relationships/hyperlink" Target="http://shopedu.ru/uploaded_files/shop_images/132.jpg" TargetMode="External"/><Relationship Id="rId46" Type="http://schemas.openxmlformats.org/officeDocument/2006/relationships/hyperlink" Target="http://shopedu.ru/uploaded_files/shop_images/132.jpg" TargetMode="External"/><Relationship Id="rId47" Type="http://schemas.openxmlformats.org/officeDocument/2006/relationships/hyperlink" Target="http://shopedu.ru/uploaded_files/shop_images/132.jpg" TargetMode="External"/><Relationship Id="rId48" Type="http://schemas.openxmlformats.org/officeDocument/2006/relationships/hyperlink" Target="http://shopedu.ru/uploaded_files/shop_images/132.jpg" TargetMode="External"/><Relationship Id="rId49" Type="http://schemas.openxmlformats.org/officeDocument/2006/relationships/hyperlink" Target="http://shopedu.ru/uploaded_files/shop_images/132.jpg" TargetMode="External"/><Relationship Id="rId50" Type="http://schemas.openxmlformats.org/officeDocument/2006/relationships/hyperlink" Target="http://metodist.edu54.ru/sites/default/files/images/2011/02/13d130d30eecc42b4dfc7a50b354a4d3bff445_8.jpg" TargetMode="External"/><Relationship Id="rId51" Type="http://schemas.openxmlformats.org/officeDocument/2006/relationships/hyperlink" Target="http://metodist.edu54.ru/sites/default/files/images/2011/02/13d130d30eecc42b4dfc7a50b354a4d3bff445_8.jpg" TargetMode="External"/><Relationship Id="rId52" Type="http://schemas.openxmlformats.org/officeDocument/2006/relationships/hyperlink" Target="http://metodist.edu54.ru/sites/default/files/images/2011/02/13d130d30eecc42b4dfc7a50b354a4d3bff445_8.jpg" TargetMode="External"/><Relationship Id="rId53" Type="http://schemas.openxmlformats.org/officeDocument/2006/relationships/hyperlink" Target="http://metodist.edu54.ru/sites/default/files/images/2011/02/13d130d30eecc42b4dfc7a50b354a4d3bff445_8.jpg" TargetMode="External"/><Relationship Id="rId54" Type="http://schemas.openxmlformats.org/officeDocument/2006/relationships/hyperlink" Target="http://metodist.edu54.ru/sites/default/files/images/2011/02/13d130d30eecc42b4dfc7a50b354a4d3bff445_8.jpg" TargetMode="External"/><Relationship Id="rId55" Type="http://schemas.openxmlformats.org/officeDocument/2006/relationships/hyperlink" Target="http://metodist.edu54.ru/sites/default/files/images/2011/02/13d130d30eecc42b4dfc7a50b354a4d3bff445_8.jpg" TargetMode="External"/><Relationship Id="rId56" Type="http://schemas.openxmlformats.org/officeDocument/2006/relationships/hyperlink" Target="http://metodist.edu54.ru/sites/default/files/images/2011/02/13d130d30eecc42b4dfc7a50b354a4d3bff445_8.jpg" TargetMode="External"/><Relationship Id="rId57" Type="http://schemas.openxmlformats.org/officeDocument/2006/relationships/hyperlink" Target="http://metodist.edu54.ru/sites/default/files/images/2011/02/13d130d30eecc42b4dfc7a50b354a4d3bff445_8.jpg" TargetMode="External"/><Relationship Id="rId58" Type="http://schemas.openxmlformats.org/officeDocument/2006/relationships/hyperlink" Target="http://metodist.edu54.ru/sites/default/files/images/2011/02/13d130d30eecc42b4dfc7a50b354a4d3bff445_8.jpg" TargetMode="External"/><Relationship Id="rId5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gnovosib.fotki.yandex.ru/get/3105/kolests.0/0_1a0f3_94a9b53_XL" TargetMode="External"/><Relationship Id="rId2" Type="http://schemas.openxmlformats.org/officeDocument/2006/relationships/hyperlink" Target="http://imgnovosib.fotki.yandex.ru/get/3105/kolests.0/0_1a0f3_94a9b53_XL" TargetMode="External"/><Relationship Id="rId3" Type="http://schemas.openxmlformats.org/officeDocument/2006/relationships/hyperlink" Target="http://imgnovosib.fotki.yandex.ru/get/3105/kolests.0/0_1a0f3_94a9b53_XL" TargetMode="External"/><Relationship Id="rId4" Type="http://schemas.openxmlformats.org/officeDocument/2006/relationships/hyperlink" Target="http://imgnovosib.fotki.yandex.ru/get/3105/kolests.0/0_1a0f3_94a9b53_XL" TargetMode="External"/><Relationship Id="rId5" Type="http://schemas.openxmlformats.org/officeDocument/2006/relationships/hyperlink" Target="http://imgnovosib.fotki.yandex.ru/get/3105/kolests.0/0_1a0f3_94a9b53_XL" TargetMode="External"/><Relationship Id="rId6" Type="http://schemas.openxmlformats.org/officeDocument/2006/relationships/hyperlink" Target="http://mos-holidays.ru/wp-content/gallery/goroda-reki-skaly-i-pr/talkov-kamen3.jpg" TargetMode="External"/><Relationship Id="rId7" Type="http://schemas.openxmlformats.org/officeDocument/2006/relationships/hyperlink" Target="http://mos-holidays.ru/wp-content/gallery/goroda-reki-skaly-i-pr/talkov-kamen3.jpg" TargetMode="External"/><Relationship Id="rId8" Type="http://schemas.openxmlformats.org/officeDocument/2006/relationships/hyperlink" Target="http://mos-holidays.ru/wp-content/gallery/goroda-reki-skaly-i-pr/talkov-kamen3.jpg" TargetMode="External"/><Relationship Id="rId9" Type="http://schemas.openxmlformats.org/officeDocument/2006/relationships/hyperlink" Target="http://mos-holidays.ru/wp-content/gallery/goroda-reki-skaly-i-pr/talkov-kamen3.jpg" TargetMode="External"/><Relationship Id="rId10" Type="http://schemas.openxmlformats.org/officeDocument/2006/relationships/hyperlink" Target="http://mos-holidays.ru/wp-content/gallery/goroda-reki-skaly-i-pr/talkov-kamen3.jpg" TargetMode="External"/><Relationship Id="rId11" Type="http://schemas.openxmlformats.org/officeDocument/2006/relationships/hyperlink" Target="http://mos-holidays.ru/wp-content/gallery/goroda-reki-skaly-i-pr/talkov-kamen3.jpg" TargetMode="External"/><Relationship Id="rId12" Type="http://schemas.openxmlformats.org/officeDocument/2006/relationships/hyperlink" Target="http://mos-holidays.ru/wp-content/gallery/goroda-reki-skaly-i-pr/talkov-kamen3.jpg" TargetMode="External"/><Relationship Id="rId13" Type="http://schemas.openxmlformats.org/officeDocument/2006/relationships/hyperlink" Target="http://mos-holidays.ru/wp-content/gallery/goroda-reki-skaly-i-pr/talkov-kamen3.jpg" TargetMode="External"/><Relationship Id="rId14" Type="http://schemas.openxmlformats.org/officeDocument/2006/relationships/hyperlink" Target="http://mos-holidays.ru/wp-content/gallery/goroda-reki-skaly-i-pr/talkov-kamen3.jpg" TargetMode="External"/><Relationship Id="rId15" Type="http://schemas.openxmlformats.org/officeDocument/2006/relationships/hyperlink" Target="http://mos-holidays.ru/wp-content/gallery/goroda-reki-skaly-i-pr/talkov-kamen3.jpg" TargetMode="External"/><Relationship Id="rId16" Type="http://schemas.openxmlformats.org/officeDocument/2006/relationships/hyperlink" Target="http://mos-holidays.ru/wp-content/gallery/goroda-reki-skaly-i-pr/talkov-kamen3.jpg" TargetMode="External"/><Relationship Id="rId17" Type="http://schemas.openxmlformats.org/officeDocument/2006/relationships/hyperlink" Target="http://mos-holidays.ru/wp-content/gallery/goroda-reki-skaly-i-pr/talkov-kamen3.jpg" TargetMode="External"/><Relationship Id="rId18" Type="http://schemas.openxmlformats.org/officeDocument/2006/relationships/hyperlink" Target="http://mos-holidays.ru/wp-content/gallery/goroda-reki-skaly-i-pr/talkov-kamen1.jpg" TargetMode="External"/><Relationship Id="rId19" Type="http://schemas.openxmlformats.org/officeDocument/2006/relationships/hyperlink" Target="http://mos-holidays.ru/wp-content/gallery/goroda-reki-skaly-i-pr/talkov-kamen1.jpg" TargetMode="External"/><Relationship Id="rId20" Type="http://schemas.openxmlformats.org/officeDocument/2006/relationships/hyperlink" Target="http://mos-holidays.ru/wp-content/gallery/goroda-reki-skaly-i-pr/talkov-kamen1.jpg" TargetMode="External"/><Relationship Id="rId21" Type="http://schemas.openxmlformats.org/officeDocument/2006/relationships/hyperlink" Target="http://mos-holidays.ru/wp-content/gallery/goroda-reki-skaly-i-pr/talkov-kamen1.jpg" TargetMode="External"/><Relationship Id="rId22" Type="http://schemas.openxmlformats.org/officeDocument/2006/relationships/hyperlink" Target="http://mos-holidays.ru/wp-content/gallery/goroda-reki-skaly-i-pr/talkov-kamen1.jpg" TargetMode="External"/><Relationship Id="rId23" Type="http://schemas.openxmlformats.org/officeDocument/2006/relationships/hyperlink" Target="http://mos-holidays.ru/wp-content/gallery/goroda-reki-skaly-i-pr/talkov-kamen1.jpg" TargetMode="External"/><Relationship Id="rId24" Type="http://schemas.openxmlformats.org/officeDocument/2006/relationships/hyperlink" Target="http://mos-holidays.ru/wp-content/gallery/goroda-reki-skaly-i-pr/talkov-kamen1.jpg" TargetMode="External"/><Relationship Id="rId25" Type="http://schemas.openxmlformats.org/officeDocument/2006/relationships/hyperlink" Target="http://mos-holidays.ru/wp-content/gallery/goroda-reki-skaly-i-pr/talkov-kamen1.jpg" TargetMode="External"/><Relationship Id="rId26" Type="http://schemas.openxmlformats.org/officeDocument/2006/relationships/hyperlink" Target="http://mos-holidays.ru/wp-content/gallery/goroda-reki-skaly-i-pr/talkov-kamen1.jpg" TargetMode="External"/><Relationship Id="rId27" Type="http://schemas.openxmlformats.org/officeDocument/2006/relationships/hyperlink" Target="http://mos-holidays.ru/wp-content/gallery/goroda-reki-skaly-i-pr/talkov-kamen1.jpg" TargetMode="External"/><Relationship Id="rId28" Type="http://schemas.openxmlformats.org/officeDocument/2006/relationships/hyperlink" Target="http://mos-holidays.ru/wp-content/gallery/goroda-reki-skaly-i-pr/talkov-kamen1.jpg" TargetMode="External"/><Relationship Id="rId29" Type="http://schemas.openxmlformats.org/officeDocument/2006/relationships/hyperlink" Target="http://mos-holidays.ru/wp-content/gallery/goroda-reki-skaly-i-pr/talkov-kamen1.jpg" TargetMode="External"/><Relationship Id="rId30" Type="http://schemas.openxmlformats.org/officeDocument/2006/relationships/hyperlink" Target="http://freelance.ru/img/portfolio/big/220173.jpg" TargetMode="External"/><Relationship Id="rId31" Type="http://schemas.openxmlformats.org/officeDocument/2006/relationships/hyperlink" Target="http://freelance.ru/img/portfolio/big/220173.jpg" TargetMode="External"/><Relationship Id="rId32" Type="http://schemas.openxmlformats.org/officeDocument/2006/relationships/hyperlink" Target="http://freelance.ru/img/portfolio/big/220173.jpg" TargetMode="External"/><Relationship Id="rId33" Type="http://schemas.openxmlformats.org/officeDocument/2006/relationships/hyperlink" Target="http://freelance.ru/img/portfolio/big/220173.jpg" TargetMode="External"/><Relationship Id="rId34" Type="http://schemas.openxmlformats.org/officeDocument/2006/relationships/hyperlink" Target="http://freelance.ru/img/portfolio/big/220173.jpg" TargetMode="External"/><Relationship Id="rId35" Type="http://schemas.openxmlformats.org/officeDocument/2006/relationships/hyperlink" Target="http://freelance.ru/img/portfolio/big/220173.jpg" TargetMode="External"/><Relationship Id="rId36" Type="http://schemas.openxmlformats.org/officeDocument/2006/relationships/hyperlink" Target="http://freelance.ru/img/portfolio/big/220173.jpg" TargetMode="External"/><Relationship Id="rId37" Type="http://schemas.openxmlformats.org/officeDocument/2006/relationships/hyperlink" Target="http://freelance.ru/img/portfolio/big/220173.jpg" TargetMode="External"/><Relationship Id="rId38" Type="http://schemas.openxmlformats.org/officeDocument/2006/relationships/hyperlink" Target="http://freelance.ru/img/portfolio/big/220173.jpg" TargetMode="External"/><Relationship Id="rId39" Type="http://schemas.openxmlformats.org/officeDocument/2006/relationships/hyperlink" Target="http://freelance.ru/img/portfolio/big/220173.jpg" TargetMode="External"/><Relationship Id="rId40" Type="http://schemas.openxmlformats.org/officeDocument/2006/relationships/hyperlink" Target="http://bar.lib.rus.ec/i/35/136435/f-056.jpg" TargetMode="External"/><Relationship Id="rId41" Type="http://schemas.openxmlformats.org/officeDocument/2006/relationships/hyperlink" Target="http://bar.lib.rus.ec/i/35/136435/f-056.jpg" TargetMode="External"/><Relationship Id="rId42" Type="http://schemas.openxmlformats.org/officeDocument/2006/relationships/hyperlink" Target="http://bar.lib.rus.ec/i/35/136435/f-056.jpg" TargetMode="External"/><Relationship Id="rId43" Type="http://schemas.openxmlformats.org/officeDocument/2006/relationships/hyperlink" Target="http://bar.lib.rus.ec/i/35/136435/f-056.jpg" TargetMode="External"/><Relationship Id="rId44" Type="http://schemas.openxmlformats.org/officeDocument/2006/relationships/hyperlink" Target="http://www.wise-travel.ru/image/small/6350.jpg" TargetMode="External"/><Relationship Id="rId45" Type="http://schemas.openxmlformats.org/officeDocument/2006/relationships/hyperlink" Target="http://www.wise-travel.ru/image/small/6350.jpg" TargetMode="External"/><Relationship Id="rId46" Type="http://schemas.openxmlformats.org/officeDocument/2006/relationships/hyperlink" Target="http://www.wise-travel.ru/image/small/6350.jpg" TargetMode="External"/><Relationship Id="rId47" Type="http://schemas.openxmlformats.org/officeDocument/2006/relationships/hyperlink" Target="http://www.wise-travel.ru/image/small/6350.jpg" TargetMode="External"/><Relationship Id="rId48" Type="http://schemas.openxmlformats.org/officeDocument/2006/relationships/hyperlink" Target="http://www.wise-travel.ru/image/small/6350.jpg" TargetMode="External"/><Relationship Id="rId49" Type="http://schemas.openxmlformats.org/officeDocument/2006/relationships/hyperlink" Target="http://www.wise-travel.ru/image/small/6350.jpg" TargetMode="External"/><Relationship Id="rId50" Type="http://schemas.openxmlformats.org/officeDocument/2006/relationships/hyperlink" Target="http://www.wise-travel.ru/image/small/6350.jpg" TargetMode="External"/><Relationship Id="rId51" Type="http://schemas.openxmlformats.org/officeDocument/2006/relationships/hyperlink" Target="http://www.wise-travel.ru/image/small/6350.jpg" TargetMode="External"/><Relationship Id="rId52" Type="http://schemas.openxmlformats.org/officeDocument/2006/relationships/hyperlink" Target="http://s47.radikal.ru/i118/0903/57/21053b8be57e.jpg" TargetMode="External"/><Relationship Id="rId53" Type="http://schemas.openxmlformats.org/officeDocument/2006/relationships/hyperlink" Target="http://s47.radikal.ru/i118/0903/57/21053b8be57e.jpg" TargetMode="External"/><Relationship Id="rId54" Type="http://schemas.openxmlformats.org/officeDocument/2006/relationships/hyperlink" Target="http://www.ebftour.ru/images/load/Image/1s1(43).jpg" TargetMode="External"/><Relationship Id="rId55" Type="http://schemas.openxmlformats.org/officeDocument/2006/relationships/hyperlink" Target="http://www.ebftour.ru/images/load/Image/1s1(43).jpg" TargetMode="External"/><Relationship Id="rId56" Type="http://schemas.openxmlformats.org/officeDocument/2006/relationships/hyperlink" Target="http://www.ebftour.ru/images/load/Image/1s1(43).jpg" TargetMode="External"/><Relationship Id="rId57" Type="http://schemas.openxmlformats.org/officeDocument/2006/relationships/hyperlink" Target="http://www.ebftour.ru/images/load/Image/1s1(43).jpg" TargetMode="External"/><Relationship Id="rId58" Type="http://schemas.openxmlformats.org/officeDocument/2006/relationships/hyperlink" Target="http://www.ebftour.ru/images/load/Image/1s1(43).jpg" TargetMode="External"/><Relationship Id="rId59" Type="http://schemas.openxmlformats.org/officeDocument/2006/relationships/hyperlink" Target="http://www.ebftour.ru/images/load/Image/1s1(43).jpg" TargetMode="External"/><Relationship Id="rId60" Type="http://schemas.openxmlformats.org/officeDocument/2006/relationships/hyperlink" Target="http://www.ebftour.ru/images/load/Image/1s1(43).jpg" TargetMode="External"/><Relationship Id="rId61" Type="http://schemas.openxmlformats.org/officeDocument/2006/relationships/hyperlink" Target="http://www.ebftour.ru/images/load/Image/1s1(43).jpg" TargetMode="External"/><Relationship Id="rId62" Type="http://schemas.openxmlformats.org/officeDocument/2006/relationships/hyperlink" Target="http://www.ebftour.ru/images/load/Image/1s1(43).jpg" TargetMode="External"/><Relationship Id="rId63" Type="http://schemas.openxmlformats.org/officeDocument/2006/relationships/hyperlink" Target="http://www.ebftour.ru/images/load/Image/1s1(43).jpg" TargetMode="External"/><Relationship Id="rId64" Type="http://schemas.openxmlformats.org/officeDocument/2006/relationships/hyperlink" Target="http://www.ebftour.ru/images/load/Image/1s1(43).jpg" TargetMode="External"/><Relationship Id="rId65" Type="http://schemas.openxmlformats.org/officeDocument/2006/relationships/hyperlink" Target="http://f3.foto.rambler.ru/preview/r/668x501/471385d9-7a14-aa9a-32d3-67e148d2f77" TargetMode="External"/><Relationship Id="rId66" Type="http://schemas.openxmlformats.org/officeDocument/2006/relationships/hyperlink" Target="http://www.07.sk/IMG/POINTS/POINTS_55_50_11673.jpeg" TargetMode="External"/><Relationship Id="rId67" Type="http://schemas.openxmlformats.org/officeDocument/2006/relationships/hyperlink" Target="http://www.07.sk/IMG/POINTS/POINTS_55_50_11673.jpeg" TargetMode="External"/><Relationship Id="rId6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zipsites.ru/audio/video/multy/img/Serebryanoe_kopyttse_p2.jpg" TargetMode="External"/><Relationship Id="rId2" Type="http://schemas.openxmlformats.org/officeDocument/2006/relationships/hyperlink" Target="http://www.zipsites.ru/audio/video/multy/img/Serebryanoe_kopyttse_p2.jpg" TargetMode="External"/><Relationship Id="rId3" Type="http://schemas.openxmlformats.org/officeDocument/2006/relationships/hyperlink" Target="http://www.zipsites.ru/audio/video/multy/img/Serebryanoe_kopyttse_p2.jpg" TargetMode="External"/><Relationship Id="rId4" Type="http://schemas.openxmlformats.org/officeDocument/2006/relationships/hyperlink" Target="http://www.zipsites.ru/audio/video/multy/img/Serebryanoe_kopyttse_p2.jpg" TargetMode="External"/><Relationship Id="rId5" Type="http://schemas.openxmlformats.org/officeDocument/2006/relationships/hyperlink" Target="http://www.zipsites.ru/audio/video/multy/img/Serebryanoe_kopyttse_p2.jpg" TargetMode="External"/><Relationship Id="rId6" Type="http://schemas.openxmlformats.org/officeDocument/2006/relationships/hyperlink" Target="http://www.zipsites.ru/audio/video/multy/img/Serebryanoe_kopyttse_p2.jpg" TargetMode="External"/><Relationship Id="rId7" Type="http://schemas.openxmlformats.org/officeDocument/2006/relationships/hyperlink" Target="http://www.zipsites.ru/audio/video/multy/img/Serebryanoe_kopyttse_p2.jpg" TargetMode="External"/><Relationship Id="rId8" Type="http://schemas.openxmlformats.org/officeDocument/2006/relationships/hyperlink" Target="http://www.zipsites.ru/audio/video/multy/img/Serebryanoe_kopyttse_p2.jpg" TargetMode="External"/><Relationship Id="rId9" Type="http://schemas.openxmlformats.org/officeDocument/2006/relationships/hyperlink" Target="http://www.zipsites.ru/audio/video/multy/img/Serebryanoe_kopyttse_p2.jpg" TargetMode="External"/><Relationship Id="rId10" Type="http://schemas.openxmlformats.org/officeDocument/2006/relationships/hyperlink" Target="http://www.zipsites.ru/audio/video/multy/img/Serebryanoe_kopyttse_p2.jpg" TargetMode="External"/><Relationship Id="rId11" Type="http://schemas.openxmlformats.org/officeDocument/2006/relationships/hyperlink" Target="http://www.zipsites.ru/audio/video/multy/img/Serebryanoe_kopyttse_p2.jpg" TargetMode="External"/><Relationship Id="rId12" Type="http://schemas.openxmlformats.org/officeDocument/2006/relationships/hyperlink" Target="http://s1.afisha.ru/Afisha7Files/UGPhotos/090210121032/091121125021/p_F.jpg" TargetMode="External"/><Relationship Id="rId13" Type="http://schemas.openxmlformats.org/officeDocument/2006/relationships/hyperlink" Target="http://s1.afisha.ru/Afisha7Files/UGPhotos/090210121032/091121125021/p_F.jpg" TargetMode="External"/><Relationship Id="rId14" Type="http://schemas.openxmlformats.org/officeDocument/2006/relationships/hyperlink" Target="http://s1.afisha.ru/Afisha7Files/UGPhotos/090210121032/091121125021/p_F.jpg" TargetMode="External"/><Relationship Id="rId15" Type="http://schemas.openxmlformats.org/officeDocument/2006/relationships/hyperlink" Target="http://s1.afisha.ru/Afisha7Files/UGPhotos/090210121032/091121125021/p_F.jpg" TargetMode="External"/><Relationship Id="rId16" Type="http://schemas.openxmlformats.org/officeDocument/2006/relationships/hyperlink" Target="http://img-novosib.fotki.yandex.ru/get/3103/brilliant-t.0/0_1ab7_e6fac0e2_L" TargetMode="External"/><Relationship Id="rId17" Type="http://schemas.openxmlformats.org/officeDocument/2006/relationships/hyperlink" Target="http://img-novosib.fotki.yandex.ru/get/3103/brilliant-t.0/0_1ab7_e6fac0e2_L" TargetMode="External"/><Relationship Id="rId18" Type="http://schemas.openxmlformats.org/officeDocument/2006/relationships/hyperlink" Target="http://img-novosib.fotki.yandex.ru/get/3103/brilliant-t.0/0_1ab7_e6fac0e2_L" TargetMode="External"/><Relationship Id="rId19" Type="http://schemas.openxmlformats.org/officeDocument/2006/relationships/hyperlink" Target="http://img-novosib.fotki.yandex.ru/get/3103/brilliant-t.0/0_1ab7_e6fac0e2_L" TargetMode="External"/><Relationship Id="rId20" Type="http://schemas.openxmlformats.org/officeDocument/2006/relationships/hyperlink" Target="http://img-novosib.fotki.yandex.ru/get/3103/brilliant-t.0/0_1ab7_e6fac0e2_L" TargetMode="External"/><Relationship Id="rId21" Type="http://schemas.openxmlformats.org/officeDocument/2006/relationships/hyperlink" Target="http://img-novosib.fotki.yandex.ru/get/3103/brilliant-t.0/0_1ab7_e6fac0e2_L" TargetMode="External"/><Relationship Id="rId22" Type="http://schemas.openxmlformats.org/officeDocument/2006/relationships/hyperlink" Target="http://kaminchik.at.ua/_ph/2/2/262706483.jpg" TargetMode="External"/><Relationship Id="rId23" Type="http://schemas.openxmlformats.org/officeDocument/2006/relationships/hyperlink" Target="http://kaminchik.at.ua/_ph/2/2/262706483.jpg" TargetMode="External"/><Relationship Id="rId24" Type="http://schemas.openxmlformats.org/officeDocument/2006/relationships/hyperlink" Target="http://kaminchik.at.ua/_ph/2/2/262706483.jpg" TargetMode="External"/><Relationship Id="rId25" Type="http://schemas.openxmlformats.org/officeDocument/2006/relationships/hyperlink" Target="http://kaminchik.at.ua/_ph/2/2/262706483.jpg" TargetMode="External"/><Relationship Id="rId26" Type="http://schemas.openxmlformats.org/officeDocument/2006/relationships/hyperlink" Target="http://kaminchik.at.ua/_ph/2/2/262706483.jpg" TargetMode="External"/><Relationship Id="rId27" Type="http://schemas.openxmlformats.org/officeDocument/2006/relationships/hyperlink" Target="http://kaminchik.at.ua/_ph/2/2/262706483.jpg" TargetMode="External"/><Relationship Id="rId28" Type="http://schemas.openxmlformats.org/officeDocument/2006/relationships/hyperlink" Target="http://www.foto-konkurs.ru/data/media/6/-17.jpg" TargetMode="External"/><Relationship Id="rId29" Type="http://schemas.openxmlformats.org/officeDocument/2006/relationships/hyperlink" Target="http://www.foto-konkurs.ru/data/media/6/-17.jpg" TargetMode="External"/><Relationship Id="rId30" Type="http://schemas.openxmlformats.org/officeDocument/2006/relationships/hyperlink" Target="http://www.foto-konkurs.ru/data/media/6/-17.jpg" TargetMode="External"/><Relationship Id="rId31" Type="http://schemas.openxmlformats.org/officeDocument/2006/relationships/hyperlink" Target="http://www.foto-konkurs.ru/data/media/6/-17.jpg" TargetMode="External"/><Relationship Id="rId32" Type="http://schemas.openxmlformats.org/officeDocument/2006/relationships/hyperlink" Target="http://www.foto-konkurs.ru/data/media/6/-17.jpg" TargetMode="External"/><Relationship Id="rId33" Type="http://schemas.openxmlformats.org/officeDocument/2006/relationships/hyperlink" Target="http://www.foto-konkurs.ru/data/media/6/-17.jpg" TargetMode="External"/><Relationship Id="rId34" Type="http://schemas.openxmlformats.org/officeDocument/2006/relationships/hyperlink" Target="http://www.foto-konkurs.ru/data/media/6/-17.jpg" TargetMode="External"/><Relationship Id="rId35" Type="http://schemas.openxmlformats.org/officeDocument/2006/relationships/hyperlink" Target="http://www.foto-konkurs.ru/data/media/6/-17.jpg" TargetMode="External"/><Relationship Id="rId36" Type="http://schemas.openxmlformats.org/officeDocument/2006/relationships/hyperlink" Target="http://magicbay.ru/forum/uploads/monthly_05_2011/post-573-1306528368.jpg" TargetMode="External"/><Relationship Id="rId37" Type="http://schemas.openxmlformats.org/officeDocument/2006/relationships/hyperlink" Target="http://magicbay.ru/forum/uploads/monthly_05_2011/post-573-1306528368.jpg" TargetMode="External"/><Relationship Id="rId38" Type="http://schemas.openxmlformats.org/officeDocument/2006/relationships/hyperlink" Target="http://magicbay.ru/forum/uploads/monthly_05_2011/post-573-1306528368.jpg" TargetMode="External"/><Relationship Id="rId39" Type="http://schemas.openxmlformats.org/officeDocument/2006/relationships/hyperlink" Target="http://magicbay.ru/forum/uploads/monthly_05_2011/post-573-1306528368.jpg" TargetMode="External"/><Relationship Id="rId40" Type="http://schemas.openxmlformats.org/officeDocument/2006/relationships/hyperlink" Target="http://magicbay.ru/forum/uploads/monthly_05_2011/post-573-1306528368.jpg" TargetMode="External"/><Relationship Id="rId41" Type="http://schemas.openxmlformats.org/officeDocument/2006/relationships/hyperlink" Target="http://magicbay.ru/forum/uploads/monthly_05_2011/post-573-1306528368.jpg" TargetMode="External"/><Relationship Id="rId42" Type="http://schemas.openxmlformats.org/officeDocument/2006/relationships/hyperlink" Target="http://magicbay.ru/forum/uploads/monthly_05_2011/post-573-1306528368.jpg" TargetMode="External"/><Relationship Id="rId43" Type="http://schemas.openxmlformats.org/officeDocument/2006/relationships/hyperlink" Target="http://magicbay.ru/forum/uploads/monthly_05_2011/post-573-1306528368.jpg" TargetMode="External"/><Relationship Id="rId4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115640" y="907920"/>
            <a:ext cx="694836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к-и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«Путешествие в край      уральских самоцве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овая Татьяна Петр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У «СОШ №14», г.Новокузнец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19707600">
            <a:off x="1547640" y="1341000"/>
            <a:ext cx="1368720" cy="1027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1381800">
            <a:off x="3924000" y="3357720"/>
            <a:ext cx="1297080" cy="122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564200">
            <a:off x="6227280" y="1341000"/>
            <a:ext cx="1384560" cy="1084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620120" cy="5499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61440" cy="568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332480" cy="5185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95640" y="476280"/>
            <a:ext cx="4457520" cy="5715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61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771640" y="692280"/>
            <a:ext cx="3745080" cy="5411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1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4032000" cy="5185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568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Картинка 38 из 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620640"/>
            <a:ext cx="4103640" cy="547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835280" y="0"/>
            <a:ext cx="54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59280" y="620640"/>
            <a:ext cx="3816360" cy="5689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268360" y="0"/>
            <a:ext cx="532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35280" y="692280"/>
            <a:ext cx="5184720" cy="5473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691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Картинка 2 из 123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836640"/>
            <a:ext cx="6480000" cy="532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626160" cy="5185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476960" cy="5667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4724" t="0" r="4724" b="0"/>
          <a:stretch/>
        </p:blipFill>
        <p:spPr>
          <a:xfrm>
            <a:off x="1346040" y="765000"/>
            <a:ext cx="6250320" cy="5400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626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626160" cy="532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181080" y="-5234040"/>
            <a:ext cx="181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3680" y="4438800"/>
            <a:ext cx="8756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11280" y="620640"/>
            <a:ext cx="4319640" cy="5451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568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7056360" cy="5614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636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912000" cy="5042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4824720" cy="5770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87280" y="0"/>
            <a:ext cx="662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632720" cy="5286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200720" cy="540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257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697800" cy="5256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553080" cy="5472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697800" cy="540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6985080" cy="5472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697800" cy="5400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7272360" cy="5570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63640" y="83664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нет-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484280"/>
            <a:ext cx="777744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mages.yandex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yandsearch?rpt=simage&amp;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www.museum-21.ru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file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15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gem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DSC02758+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//www.museum-21.ru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file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15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gem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/DSC02755+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http://foksik.ru/uploads/posts/201101/thumbs/1295574809_foto0067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afisha.yandex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medi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event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image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/c03ce2481ffcc958e1a90f5adcfb7c3f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://img1.liveinternet.ru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image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attach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/c/1/54/269/54269983_15328864_goruy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http://img1.liveinternet.ru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image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foto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/b/3/930/2923930/f_1666080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http://img0.liveinternet.ru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image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attach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/b/3/15/371/15371856_Manaraga__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shopedu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uploaded_file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shop_image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/13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http://metodist.edu54.ru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site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defaul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file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image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/2011/02/13d130d30eecc42b4dfc7a50b 54a4d3bff445_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15640" y="691920"/>
            <a:ext cx="7201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mgnovosib.fotki.yandex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e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3105/kolests.0/0_1a0f3_94a9b53_X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mos-holidays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p-conten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gallery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goroda-reki-skaly-i-pr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talkov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 kamen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mos-holidays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p-conten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gallery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goroda-reki-skaly-i-pr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talkov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 kamen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freelance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img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portfolio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big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/22017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bar.lib.rus.ec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/i/35/136435/f-05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www.wise-travel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image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small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/635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://s47.radikal.ru/i118/0903/57/21053b8be57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www.ebftour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image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load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Image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/1s1(43)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4"/>
              </a:rPr>
              <a:t>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5"/>
              </a:rPr>
              <a:t>http://f3.foto.rambler.ru/preview/r/668x501/471385d9-7a14-aa9a-32d3-67e148d2f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7"/>
              </a:rPr>
              <a:t>://www.07.sk/IMG/POINTS/POINTS_55_50_11673.jp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71640" y="1125000"/>
            <a:ext cx="720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3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ipsites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udio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video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multy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img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Serebryanoe_kopyttse_p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4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s1.afisha.ru/Afisha7Files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UGPhoto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090210121032/091121125021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_F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5. http://s45.radikal.ru/i107/1007/a0/3616b86fbb3c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6. http://img-2005-01.photosight.ru/31/74600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7. www.antiquebooks.ru/pic/16/1844/87305_9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8. http://gorod.tomsk.ru/i/u/5212/17063815100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9.http://horoscopes.rambler.ru/images/47738_32.1146948493.0981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img-novosib.fotki.yandex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ge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3103/brilliant-t.0/0_1ab7_e6fac0e2_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1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kaminchik.at.u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_ph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/2/2/26270648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2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www.foto-konkurs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dat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medi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/6/-17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3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magicbay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foru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upload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/monthly_05_2011/post-573-130652836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7056360" cy="5083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1612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065920" cy="5977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65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3012"/>
          <a:stretch/>
        </p:blipFill>
        <p:spPr>
          <a:xfrm>
            <a:off x="755640" y="620640"/>
            <a:ext cx="7561440" cy="547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775280" cy="583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56000" y="907920"/>
            <a:ext cx="3960720" cy="5113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63640" y="0"/>
            <a:ext cx="554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15118"/>
          <a:stretch/>
        </p:blipFill>
        <p:spPr>
          <a:xfrm>
            <a:off x="826920" y="765000"/>
            <a:ext cx="7417080" cy="5411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5T10:48:07Z</dcterms:created>
  <dc:creator>Admin</dc:creator>
  <dc:description/>
  <dc:language>en-US</dc:language>
  <cp:lastModifiedBy>Admin</cp:lastModifiedBy>
  <dcterms:modified xsi:type="dcterms:W3CDTF">2011-07-19T19:40:41Z</dcterms:modified>
  <cp:revision>7</cp:revision>
  <dc:subject/>
  <dc:title>Слайд 1</dc:title>
</cp:coreProperties>
</file>