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750-4A18-4CB8-9B5C-5E8CA807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CF0-880F-45AB-B054-A027A79D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23C-7271-4DD6-B847-16D1F112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27D-0B98-4484-8F78-9010CF7C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24F-FA94-44F9-AAFE-F116EFA9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CB5-0033-4BCF-8F0C-8CED2825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0E6-A273-49C7-B893-10870C10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F9F-EFEA-4413-9E5D-2A8EF045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213-92BC-4DB4-881B-CA8FC109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A08-5C99-4713-A5B8-284C36AB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178-745A-4591-B179-9F86A16C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BE6-0EB3-42E5-A194-286F9D87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3549-4915-46E7-9A57-943348124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057400" y="1371240"/>
            <a:ext cx="5486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нимание!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чинается урок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н пойдет ребятам впрок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тарайтесь все понять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читесь тайны открывать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веты полные давайт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 на уроке не зевайт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Фанфары трубы.mp3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11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7"/>
          <p:cNvSpPr/>
          <p:nvPr/>
        </p:nvSpPr>
        <p:spPr>
          <a:xfrm>
            <a:off x="1295280" y="1752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go2.imgsmail.ru/imgpreview?key=http%3A//img0.liveinternet.ru/images/attach/c/2/72/500/72500796_07033123.jpg&amp;mb=imgdb_preview_932"/>
          <p:cNvPicPr/>
          <p:nvPr/>
        </p:nvPicPr>
        <p:blipFill>
          <a:blip r:embed="rId1"/>
          <a:stretch/>
        </p:blipFill>
        <p:spPr>
          <a:xfrm>
            <a:off x="3886200" y="1295280"/>
            <a:ext cx="164772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2534760" y="685800"/>
            <a:ext cx="38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ётр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царь и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6172200" y="16765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5793480" y="2438280"/>
            <a:ext cx="296208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Трудолюби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остой в обхо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Требовате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е любил роско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Бережли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Любознате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стойчи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ешите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375840" y="2438280"/>
            <a:ext cx="445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строил г.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ткрыл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ставлял учиться за гран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ыпустил первую газ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вел арабские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здал армию, флот, заводы, фаб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овый год стали отмечать 1 янв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go2.imgsmail.ru/imgpreview?key=http%3A//img0.liveinternet.ru/images/attach/c/2/72/500/72500796_07033123.jpg&amp;mb=imgdb_preview_932"/>
          <p:cNvPicPr/>
          <p:nvPr/>
        </p:nvPicPr>
        <p:blipFill>
          <a:blip r:embed="rId1"/>
          <a:stretch/>
        </p:blipFill>
        <p:spPr>
          <a:xfrm>
            <a:off x="1066680" y="228600"/>
            <a:ext cx="1648080" cy="220032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2839680" y="762120"/>
            <a:ext cx="38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ётр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царь и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685800" y="260244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72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году родился первый император России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ётр Алесеевич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Он был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ебенком в семье. Отцом Петра I является царь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ей Михайлович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, а матерью –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алья Нарышкина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 Отец Петра умер, когда мальчику исполнилось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ода. После смерти отца на престол взошел старший сын от первого брака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ёдо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Федор скончался, правителями стали малолетние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оанн и Пёт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Однако фактически власть оказалась в руках их сестры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фь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Она правила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лет. После раскрытия заговора против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а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Софью сослали в монастырь, и он стал единоличны правителе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go2.imgsmail.ru/imgpreview?key=http%3A//img0.liveinternet.ru/images/attach/c/2/72/500/72500796_07033123.jpg&amp;mb=imgdb_preview_932"/>
          <p:cNvPicPr/>
          <p:nvPr/>
        </p:nvPicPr>
        <p:blipFill>
          <a:blip r:embed="rId1"/>
          <a:stretch/>
        </p:blipFill>
        <p:spPr>
          <a:xfrm>
            <a:off x="6781680" y="380880"/>
            <a:ext cx="1648080" cy="2200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1848960" y="762120"/>
            <a:ext cx="38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ётр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царь и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img4"/>
          <p:cNvPicPr/>
          <p:nvPr/>
        </p:nvPicPr>
        <p:blipFill>
          <a:blip r:embed="rId2"/>
          <a:stretch/>
        </p:blipFill>
        <p:spPr>
          <a:xfrm>
            <a:off x="838080" y="1600200"/>
            <a:ext cx="579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.Стр. 99-102 вопросы - учеб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. Узнать из различных источников каким изображают Петра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эты , художники, пис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3.  Подготовить тест по теме: «Как Московская Русь стала Российской империей. Пётр Вели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Содержимое 3"/>
          <p:cNvSpPr/>
          <p:nvPr/>
        </p:nvSpPr>
        <p:spPr>
          <a:xfrm>
            <a:off x="2057400" y="914400"/>
            <a:ext cx="5715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ель грозить мы будем шве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есь будет город зало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зло надменному сос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ой здесь нам сужд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Европу прорубить ок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гою твердой стать при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юда по новым им вол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флаги в гости будут к 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апируем на просторе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Фанфары трубы.mp3" descr=""/>
          <p:cNvPicPr/>
          <p:nvPr/>
        </p:nvPicPr>
        <p:blipFill>
          <a:blip r:embed="rId1"/>
          <a:stretch/>
        </p:blipFill>
        <p:spPr>
          <a:xfrm>
            <a:off x="8380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11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6"/>
          <p:cNvSpPr/>
          <p:nvPr/>
        </p:nvSpPr>
        <p:spPr>
          <a:xfrm>
            <a:off x="2619360" y="914400"/>
            <a:ext cx="433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ц-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1155600" y="21337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Назовите годы жизни Петра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8"/>
          <p:cNvSpPr/>
          <p:nvPr/>
        </p:nvSpPr>
        <p:spPr>
          <a:xfrm>
            <a:off x="5878080" y="205740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1672- 172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1249560" y="2971800"/>
            <a:ext cx="51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Назовите годы правления Петра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6336360" y="28195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1689-172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1311840" y="3809880"/>
            <a:ext cx="45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Кто были родители Петра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?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5klass.net/datas/literatura/Tolstoj-Aleksej-o-Rodine/0014-014-Roditeli-Petra-Pervogo.jpg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6"/>
          <p:cNvSpPr/>
          <p:nvPr/>
        </p:nvSpPr>
        <p:spPr>
          <a:xfrm>
            <a:off x="2619360" y="914400"/>
            <a:ext cx="433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ц-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574920" y="2286000"/>
            <a:ext cx="81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Какие игры и увлечения были у Петра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 детст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900igr.net/datai/istorija/Poteshnye-vojska/0001-001-Poteshnye-polki-Petra-1.jpg"/>
          <p:cNvPicPr/>
          <p:nvPr/>
        </p:nvPicPr>
        <p:blipFill>
          <a:blip r:embed="rId1"/>
          <a:stretch/>
        </p:blipFill>
        <p:spPr>
          <a:xfrm>
            <a:off x="2514600" y="3581280"/>
            <a:ext cx="426708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Игры потешных войск Петра I возле села Преображенское."/>
          <p:cNvPicPr/>
          <p:nvPr/>
        </p:nvPicPr>
        <p:blipFill>
          <a:blip r:embed="rId2"/>
          <a:stretch/>
        </p:blipFill>
        <p:spPr>
          <a:xfrm>
            <a:off x="762120" y="533520"/>
            <a:ext cx="419076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lixabedanachalo.ru/wp-content/uploads/2012/01/botik_petra.jpg"/>
          <p:cNvPicPr/>
          <p:nvPr/>
        </p:nvPicPr>
        <p:blipFill>
          <a:blip r:embed="rId3"/>
          <a:stretch/>
        </p:blipFill>
        <p:spPr>
          <a:xfrm>
            <a:off x="5029200" y="304920"/>
            <a:ext cx="35053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2543040" y="609480"/>
            <a:ext cx="433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ц-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1316520" y="182880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5.Расскажите о борьбе к выходу к мо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900igr.net/datai/istorija/Vneshnjaja-politika-Petra-1/0019-030-Severnaja-vojna-1700-1721-gg.png"/>
          <p:cNvPicPr/>
          <p:nvPr/>
        </p:nvPicPr>
        <p:blipFill>
          <a:blip r:embed="rId1"/>
          <a:stretch/>
        </p:blipFill>
        <p:spPr>
          <a:xfrm>
            <a:off x="1752480" y="236232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6"/>
          <p:cNvSpPr/>
          <p:nvPr/>
        </p:nvSpPr>
        <p:spPr>
          <a:xfrm>
            <a:off x="1143000" y="762120"/>
            <a:ext cx="73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фруй тему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981080" y="22860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ьр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ёртП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елвч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Прямоугольник 5"/>
          <p:cNvGrpSpPr/>
          <p:nvPr/>
        </p:nvGrpSpPr>
        <p:grpSpPr>
          <a:xfrm>
            <a:off x="1127160" y="1719360"/>
            <a:ext cx="6853320" cy="3340080"/>
            <a:chOff x="1127160" y="1719360"/>
            <a:chExt cx="6853320" cy="3340080"/>
          </a:xfrm>
        </p:grpSpPr>
        <p:pic>
          <p:nvPicPr>
            <p:cNvPr id="63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127160" y="1719360"/>
              <a:ext cx="685332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295280" y="1752480"/>
              <a:ext cx="6629400" cy="32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4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ётр </a:t>
              </a:r>
              <a:r>
                <a:rPr b="1" lang="en-US" sz="4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I</a:t>
              </a:r>
              <a:r>
                <a:rPr b="1" lang="ru-RU" sz="4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– царь и челове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7"/>
          <p:cNvSpPr/>
          <p:nvPr/>
        </p:nvSpPr>
        <p:spPr>
          <a:xfrm>
            <a:off x="990720" y="2209680"/>
            <a:ext cx="75438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арактеризовать Петра I как выдающуюся историческую личность, отметить прогрессивность его деятельности на благо От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снить, благодаря чему Россия превратилась в одно из сильнейших государств в Евр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go2.imgsmail.ru/imgpreview?key=http%3A//img0.liveinternet.ru/images/attach/c/2/72/500/72500796_07033123.jpg&amp;mb=imgdb_preview_932"/>
          <p:cNvPicPr/>
          <p:nvPr/>
        </p:nvPicPr>
        <p:blipFill>
          <a:blip r:embed="rId1"/>
          <a:stretch/>
        </p:blipFill>
        <p:spPr>
          <a:xfrm>
            <a:off x="5943600" y="380880"/>
            <a:ext cx="164772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1315440" y="762120"/>
            <a:ext cx="38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ётр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царь и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7"/>
          <p:cNvSpPr/>
          <p:nvPr/>
        </p:nvSpPr>
        <p:spPr>
          <a:xfrm>
            <a:off x="990720" y="220968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лан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.Личность Петра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.Реформы, связанные с просвещением, наукой,  образ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.Реформы, связанные с народом (бытом),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go2.imgsmail.ru/imgpreview?key=http%3A//img0.liveinternet.ru/images/attach/c/2/72/500/72500796_07033123.jpg&amp;mb=imgdb_preview_932"/>
          <p:cNvPicPr/>
          <p:nvPr/>
        </p:nvPicPr>
        <p:blipFill>
          <a:blip r:embed="rId1"/>
          <a:stretch/>
        </p:blipFill>
        <p:spPr>
          <a:xfrm>
            <a:off x="5943600" y="380880"/>
            <a:ext cx="1647720" cy="220032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1315440" y="762120"/>
            <a:ext cx="38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ётр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царь и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user</cp:lastModifiedBy>
  <dcterms:modified xsi:type="dcterms:W3CDTF">2014-02-22T14:17:2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