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50C-21BC-43D7-9118-8CC98CD7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095-7BB6-4F82-9A01-9967C030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B82-1CA2-4EDD-A920-C88B3369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84F-6AD1-48B7-9E0B-E28AB89F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E28-8001-40CD-873B-7556891F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355-BEB2-4AC9-9031-6FB4A74C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4F3-91A0-423A-A979-04850C9A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75C-48CB-475D-A38A-EADF5EAA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CDC-37D8-43AC-ADD3-08DA1BB0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679-CDFB-4CC1-BCF4-5D6403B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33A-3981-44DF-94DA-45ED75A9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0E2-D84A-48CC-A40E-89BF34C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2CA9-6B23-4307-BB70-AD8992F5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1981080"/>
            <a:ext cx="6096240" cy="297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в обществ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872320" y="3124080"/>
            <a:ext cx="3024000" cy="373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1800" y="3276720"/>
            <a:ext cx="337032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ниципальное казённое общеобразовательное учреждение «средняя общеобразовательная школа№1» п. Куй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ришкевич Е.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475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6324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абывайте подарить доб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едям, родственнику,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о, как истинное волшеб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вернётся к вам по к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151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Б. Фесюкова Моя семья. – Ярославль: Академия развития 201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Б. Фесюкова Уроки доброты. – Ярославль: Академия развития 201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Б. Фесюкова Моя семья. – Ярославль: Академия развития 201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живётся дру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может лучше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сориться не ну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можно всех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0770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210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онфликт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толкновение разных интересов, взглядов, мнений, выраженное в обострённой форме, либо ситуации, в которых двое или несколько человек не могут достичь согласия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гла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327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омпромис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13200" y="1980360"/>
            <a:ext cx="523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 соглашение на основе взаимных уступ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ревнеиндийские мудрец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же в плохом настроении нельзя произносить слова, которые могут обидеть друг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266360"/>
            <a:ext cx="72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о – как стрела, которая даже может убить челове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12T05:21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