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020-98A2-4FEA-A1A6-5E39EAE9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41E-A4FE-4E9F-895B-55E9BB19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AA1-2C57-430A-84EF-9F1FB3B3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7D8-30A9-41DB-935C-558B4F7B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1E9-54DF-4064-B395-E696B3DD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36F-90B0-4151-B358-2B64D140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EB3-7BC2-4FEA-B667-2AF8C9D0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F51-0C7B-4227-B468-C958FB55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AEE-5510-4A73-9E4F-3B9A975B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532-9B13-4CD7-A1FE-38C812C2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B89-ABB2-406C-831B-AC8EC75D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E1D-4F07-477B-A7A3-5B5A0BFC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702C-C14B-41E9-BBD1-2631446AC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84360" y="765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44792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mpir Deco"/>
              </a:rPr>
              <a:t>2 А класс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2012-2013 уч.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447920" y="838080"/>
            <a:ext cx="670536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чины и последствия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ской агрессии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1476360" y="5734080"/>
            <a:ext cx="187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/рук: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12"/>
          <p:cNvSpPr txBox="1"/>
          <p:nvPr/>
        </p:nvSpPr>
        <p:spPr>
          <a:xfrm>
            <a:off x="3635280" y="4581360"/>
            <a:ext cx="3241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чкаева Л. А.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193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5334120" y="685800"/>
            <a:ext cx="293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агно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066680" y="2286000"/>
            <a:ext cx="7620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0099"/>
              </a:buClr>
              <a:buFont typeface="Cleopat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Временам кажется, что в него вселился злой ду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2. Он не может, промолча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ь</a:t>
            </a: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, когда чем-то недовол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3. Когда кто-то причиняет ему зло, он обязательно старается отплатить тем 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4. Иногда ему без всякой причины хочется выруг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5. Бывает, что он с удовольствием ломает игрушки, что-то разбивает, потрош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2193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5334120" y="685800"/>
            <a:ext cx="293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агно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219320" y="2286000"/>
            <a:ext cx="7391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6. Иногда он так настаивает на чем-то, что окружающие теряют терп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7. Он не прочь подразнить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8. Переспорить его тру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9. Очень сердится, когда ему кажется, что кто-то над ним подшучив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10. Иногда у него вспыхивает желание сделать что-то плохое, шокирующее окружающих.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2193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5334120" y="685800"/>
            <a:ext cx="293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агно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371600" y="2209680"/>
            <a:ext cx="73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11. В ответ на обычные распоряжения стремится сделать все на- оборо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12. Часто не по возрасту ворчли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13. Воспринимает себя как самостоятельного и решитель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14. Любит быть первым, командовать, подчинят себе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15. Неудачи вызывают у него сильное раздражение, желание найти винов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2193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7"/>
          <p:cNvSpPr txBox="1"/>
          <p:nvPr/>
        </p:nvSpPr>
        <p:spPr>
          <a:xfrm>
            <a:off x="5334120" y="685800"/>
            <a:ext cx="293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агно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295280" y="2438280"/>
            <a:ext cx="7467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16. Легко ссорится, вступает в дра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17. Старается общаться с младшими и физически более слаб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18. У него нередко приступы мрачной раздражи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19. Не считается со сверстниками, не уступает, не дел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Cleopatra"/>
              </a:rPr>
              <a:t>20.Уверен, что любое задание выполнит лучше все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2193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29200" y="609480"/>
            <a:ext cx="3471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итерии оценки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700360" y="1981080"/>
            <a:ext cx="60627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15 – 20 баллов</a:t>
            </a:r>
            <a:r>
              <a:rPr b="1" lang="en-US" sz="2800" spc="-1" strike="noStrike">
                <a:solidFill>
                  <a:srgbClr val="ff0066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"/>
              </a:rPr>
              <a:t>высокая агрессив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7 – 14 баллов</a:t>
            </a:r>
            <a:r>
              <a:rPr b="1" lang="en-US" sz="2800" spc="-1" strike="noStrike">
                <a:solidFill>
                  <a:srgbClr val="ff0066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"/>
              </a:rPr>
              <a:t>средняя агрессив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"/>
              </a:rPr>
              <a:t>1 – 6 баллов</a:t>
            </a:r>
            <a:r>
              <a:rPr b="1" lang="en-US" sz="2800" spc="-1" strike="noStrike">
                <a:solidFill>
                  <a:srgbClr val="ff0066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"/>
              </a:rPr>
              <a:t>низкая агресси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CNTMPRRY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219320" y="18446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119700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2276640"/>
            <a:ext cx="756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«Золотые» правила воспитания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Учитесь слушать и слышать своего ребён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Постарайтесь быть внимательными к ребёнку и почувствовать его эмоциональное напряж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Умейте принять и любить его таким, каков он е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Повиновение, послушание и исполнительность будут там, где они предъявляются разум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К агрессивным проявлениям в поведении ребёнка приводит агрессивность семь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Проводите больше времени вместе с деть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2193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7"/>
          <p:cNvSpPr txBox="1"/>
          <p:nvPr/>
        </p:nvSpPr>
        <p:spPr>
          <a:xfrm>
            <a:off x="1116000" y="2637000"/>
            <a:ext cx="73850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95280" y="14479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CHLD406"/>
          <p:cNvPicPr/>
          <p:nvPr/>
        </p:nvPicPr>
        <p:blipFill>
          <a:blip r:embed="rId2"/>
          <a:stretch/>
        </p:blipFill>
        <p:spPr>
          <a:xfrm>
            <a:off x="4800600" y="1752480"/>
            <a:ext cx="1752480" cy="1752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56" name="WordArt 16"/>
          <p:cNvSpPr txBox="1"/>
          <p:nvPr/>
        </p:nvSpPr>
        <p:spPr>
          <a:xfrm>
            <a:off x="4800600" y="533520"/>
            <a:ext cx="30481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гресс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629400" y="1981080"/>
            <a:ext cx="19810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 латин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mpir Deco"/>
              </a:rPr>
              <a:t>«напад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mpir Deco"/>
              </a:rPr>
              <a:t>«приступ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656280" y="4122000"/>
            <a:ext cx="804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Это способ выражения гнева, проте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основе лежит боль, унижение, оби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трах, которые возникают от неудовле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еловеческой потребности в любви и н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 rot="569400">
            <a:off x="3124080" y="2057400"/>
            <a:ext cx="1067040" cy="190512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34662"/>
                <a:lnTo>
                  <a:pt x="6164" y="19328"/>
                </a:lnTo>
                <a:lnTo>
                  <a:pt x="21600" y="17280"/>
                </a:lnTo>
                <a:lnTo>
                  <a:pt x="6164" y="10688"/>
                </a:lnTo>
                <a:lnTo>
                  <a:pt x="6164" y="12848"/>
                </a:lnTo>
                <a:arcTo wR="21600" hR="7560" stAng="9665338" swAng="77722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193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4"/>
          <p:cNvPicPr/>
          <p:nvPr/>
        </p:nvPicPr>
        <p:blipFill>
          <a:blip r:embed="rId2"/>
          <a:stretch/>
        </p:blipFill>
        <p:spPr>
          <a:xfrm>
            <a:off x="1143000" y="2438280"/>
            <a:ext cx="685800" cy="579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4"/>
          <p:cNvPicPr/>
          <p:nvPr/>
        </p:nvPicPr>
        <p:blipFill>
          <a:blip r:embed="rId3"/>
          <a:stretch/>
        </p:blipFill>
        <p:spPr>
          <a:xfrm>
            <a:off x="1143000" y="3429000"/>
            <a:ext cx="685800" cy="579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4"/>
          <p:cNvPicPr/>
          <p:nvPr/>
        </p:nvPicPr>
        <p:blipFill>
          <a:blip r:embed="rId4"/>
          <a:stretch/>
        </p:blipFill>
        <p:spPr>
          <a:xfrm>
            <a:off x="1143000" y="4495680"/>
            <a:ext cx="685800" cy="57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4"/>
          <p:cNvPicPr/>
          <p:nvPr/>
        </p:nvPicPr>
        <p:blipFill>
          <a:blip r:embed="rId5"/>
          <a:stretch/>
        </p:blipFill>
        <p:spPr>
          <a:xfrm>
            <a:off x="1143000" y="5486400"/>
            <a:ext cx="685800" cy="579600"/>
          </a:xfrm>
          <a:prstGeom prst="rect">
            <a:avLst/>
          </a:prstGeom>
          <a:ln w="0">
            <a:noFill/>
          </a:ln>
        </p:spPr>
      </p:pic>
      <p:sp>
        <p:nvSpPr>
          <p:cNvPr id="69" name="WordArt 12"/>
          <p:cNvSpPr txBox="1"/>
          <p:nvPr/>
        </p:nvSpPr>
        <p:spPr>
          <a:xfrm>
            <a:off x="4724280" y="609480"/>
            <a:ext cx="38862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агрессивных  действий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13"/>
          <p:cNvSpPr txBox="1"/>
          <p:nvPr/>
        </p:nvSpPr>
        <p:spPr>
          <a:xfrm>
            <a:off x="2209680" y="2362320"/>
            <a:ext cx="5886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стижение какой-либо значимой цели;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14"/>
          <p:cNvSpPr txBox="1"/>
          <p:nvPr/>
        </p:nvSpPr>
        <p:spPr>
          <a:xfrm>
            <a:off x="2362320" y="3505320"/>
            <a:ext cx="5257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сихологическая разрядка;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15"/>
          <p:cNvSpPr txBox="1"/>
          <p:nvPr/>
        </p:nvSpPr>
        <p:spPr>
          <a:xfrm>
            <a:off x="2133720" y="4343400"/>
            <a:ext cx="624816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соб удовлетворения потребностей;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16"/>
          <p:cNvSpPr txBox="1"/>
          <p:nvPr/>
        </p:nvSpPr>
        <p:spPr>
          <a:xfrm>
            <a:off x="2209680" y="5486400"/>
            <a:ext cx="6096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ореализация и самоутверждение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0" y="76212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mpir Deco"/>
              </a:rPr>
              <a:t>М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ff00"/>
                </a:solidFill>
                <a:latin typeface="Ampir Deco"/>
              </a:rPr>
              <a:t>ОУ «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Одесская </a:t>
            </a:r>
            <a:r>
              <a:rPr b="1" lang="en-US" sz="1800" spc="-1" strike="noStrike">
                <a:solidFill>
                  <a:srgbClr val="ffff00"/>
                </a:solidFill>
                <a:latin typeface="Ampir Deco"/>
              </a:rPr>
              <a:t>СОШ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mpir Deco"/>
              </a:rPr>
              <a:t>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9640" y="144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7"/>
          <p:cNvSpPr txBox="1"/>
          <p:nvPr/>
        </p:nvSpPr>
        <p:spPr>
          <a:xfrm rot="557400">
            <a:off x="4114440" y="2819160"/>
            <a:ext cx="2862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24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агрессии: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24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8" descr="CHLD261"/>
          <p:cNvPicPr/>
          <p:nvPr/>
        </p:nvPicPr>
        <p:blipFill>
          <a:blip r:embed="rId2"/>
          <a:stretch/>
        </p:blipFill>
        <p:spPr>
          <a:xfrm>
            <a:off x="1295280" y="2286000"/>
            <a:ext cx="1600200" cy="16002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82" name="Text Box 9"/>
          <p:cNvSpPr/>
          <p:nvPr/>
        </p:nvSpPr>
        <p:spPr>
          <a:xfrm>
            <a:off x="1143000" y="4038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Физическая</a:t>
            </a:r>
            <a:r>
              <a:rPr b="1" lang="en-US" sz="2400" spc="-1" strike="noStrike">
                <a:solidFill>
                  <a:srgbClr val="000000"/>
                </a:solidFill>
                <a:latin typeface="Ampir Dec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Chld097"/>
          <p:cNvPicPr/>
          <p:nvPr/>
        </p:nvPicPr>
        <p:blipFill>
          <a:blip r:embed="rId3"/>
          <a:stretch/>
        </p:blipFill>
        <p:spPr>
          <a:xfrm>
            <a:off x="5029200" y="609480"/>
            <a:ext cx="1600200" cy="16002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84" name="Text Box 11"/>
          <p:cNvSpPr/>
          <p:nvPr/>
        </p:nvSpPr>
        <p:spPr>
          <a:xfrm>
            <a:off x="47242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Вербальная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Chld091"/>
          <p:cNvPicPr/>
          <p:nvPr/>
        </p:nvPicPr>
        <p:blipFill>
          <a:blip r:embed="rId4"/>
          <a:stretch/>
        </p:blipFill>
        <p:spPr>
          <a:xfrm>
            <a:off x="3657600" y="4648320"/>
            <a:ext cx="1676520" cy="16761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86" name="Text Box 13"/>
          <p:cNvSpPr/>
          <p:nvPr/>
        </p:nvSpPr>
        <p:spPr>
          <a:xfrm>
            <a:off x="3733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omic Sans MS"/>
              </a:rPr>
              <a:t>Аутоа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914400" y="44956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mpir Deco"/>
              </a:rPr>
              <a:t>Сила против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mpir Deco"/>
              </a:rPr>
              <a:t>Разрушени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mpir Deco"/>
              </a:rPr>
              <a:t>Боль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781680" y="685800"/>
            <a:ext cx="2057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mpir Deco"/>
              </a:rPr>
              <a:t>Угроза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mpir Deco"/>
              </a:rPr>
              <a:t>Прокляти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mpir Deco"/>
              </a:rPr>
              <a:t>Брань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mpir Deco"/>
              </a:rPr>
              <a:t>Кри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562720" y="46483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mpir Deco"/>
              </a:rPr>
              <a:t>Самообвин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mpir Deco"/>
              </a:rPr>
              <a:t>Самоуниж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mpir Deco"/>
              </a:rPr>
              <a:t>Нанесение телесных повре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NTMPRRY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219320" y="1268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4724280" y="533520"/>
            <a:ext cx="385308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грессивные реакции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11"/>
          <p:cNvSpPr txBox="1"/>
          <p:nvPr/>
        </p:nvSpPr>
        <p:spPr>
          <a:xfrm>
            <a:off x="1447920" y="2362320"/>
            <a:ext cx="269244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ые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14"/>
          <p:cNvSpPr txBox="1"/>
          <p:nvPr/>
        </p:nvSpPr>
        <p:spPr>
          <a:xfrm>
            <a:off x="4788000" y="2276640"/>
            <a:ext cx="35938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свенные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WordArt 17"/>
          <p:cNvSpPr txBox="1"/>
          <p:nvPr/>
        </p:nvSpPr>
        <p:spPr>
          <a:xfrm>
            <a:off x="2340000" y="5300640"/>
            <a:ext cx="4537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струментальны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22"/>
          <p:cNvSpPr txBox="1"/>
          <p:nvPr/>
        </p:nvSpPr>
        <p:spPr>
          <a:xfrm>
            <a:off x="2743200" y="3500280"/>
            <a:ext cx="35575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Враждебные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24000" y="54936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2193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5257800" y="533520"/>
            <a:ext cx="253368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акторы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6324480" y="1371600"/>
            <a:ext cx="1809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овоцирующие 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5715000" y="1676520"/>
            <a:ext cx="303372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грессивность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990720" y="1905120"/>
            <a:ext cx="426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Наследственно-характерологические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219320" y="3276720"/>
            <a:ext cx="7391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следственная предрасположенность к агрессивному повед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сихопатоподобное, аффективно-возбудимое поведение родителей или взрослых в окружении ребе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личие выраженной тревожности и гиперактивности у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11280" y="14479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5257800" y="533520"/>
            <a:ext cx="253368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акторы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6324480" y="1371600"/>
            <a:ext cx="1809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овоцирующие 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5562720" y="1676520"/>
            <a:ext cx="303372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грессивность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10"/>
          <p:cNvSpPr txBox="1"/>
          <p:nvPr/>
        </p:nvSpPr>
        <p:spPr>
          <a:xfrm rot="269400">
            <a:off x="1142640" y="2362320"/>
            <a:ext cx="426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Органические факторы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676520" y="3809880"/>
            <a:ext cx="6095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равмы головного моз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собенности нервной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2193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5257800" y="533520"/>
            <a:ext cx="253368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акторы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6324480" y="1371600"/>
            <a:ext cx="1809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овоцирующие 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5257800" y="1676520"/>
            <a:ext cx="303372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грессивность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990720" y="2057400"/>
            <a:ext cx="426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Социально - бытовые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219320" y="3429000"/>
            <a:ext cx="73911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благоприятные условия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адекватно жесткий родительский контр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раждебное или оскорбительное отношение к ребен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нфликт между супру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NTMPR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5800" y="762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2193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ff00"/>
                </a:solidFill>
                <a:latin typeface="Ampir Deco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7"/>
          <p:cNvSpPr txBox="1"/>
          <p:nvPr/>
        </p:nvSpPr>
        <p:spPr>
          <a:xfrm>
            <a:off x="5257800" y="533520"/>
            <a:ext cx="253368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акторы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6324480" y="1371600"/>
            <a:ext cx="1809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овоцирующие 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1" name="WordArt 9"/>
          <p:cNvSpPr txBox="1"/>
          <p:nvPr/>
        </p:nvSpPr>
        <p:spPr>
          <a:xfrm>
            <a:off x="5257800" y="1676520"/>
            <a:ext cx="303372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грессивность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10"/>
          <p:cNvSpPr txBox="1"/>
          <p:nvPr/>
        </p:nvSpPr>
        <p:spPr>
          <a:xfrm>
            <a:off x="990720" y="1905120"/>
            <a:ext cx="426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cc00cc"/>
                </a:solidFill>
                <a:latin typeface="Arial"/>
              </a:rPr>
              <a:t>Ситуационные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cc00cc"/>
              </a:solidFill>
              <a:latin typeface="Arial"/>
              <a:ea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3276720"/>
            <a:ext cx="77835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еактивность на присутствие нов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увствительность к оценке, осуждению, пориц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ведение ограничений в поведение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овизна, увеличивающая трево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растание утомления  у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4000" y="7621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КОУ «Одес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8:24:17Z</dcterms:created>
  <dc:creator>Лариса</dc:creator>
  <dc:description/>
  <dc:language>en-US</dc:language>
  <cp:lastModifiedBy>Лариса</cp:lastModifiedBy>
  <dcterms:modified xsi:type="dcterms:W3CDTF">2013-01-16T13:24:07Z</dcterms:modified>
  <cp:revision>4</cp:revision>
  <dc:subject/>
  <dc:title>Слайд 1</dc:title>
</cp:coreProperties>
</file>