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2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3C9A-8E16-4445-83A4-DB273CF8AC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C2F2-591C-4195-9A69-7FA7A554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6C6F-CD52-4264-85F5-BAE65CA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74F5-9538-4F52-976F-6881634EB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67AFB-E736-451B-A799-65CA66E171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80C82-85C6-4F7D-BF19-B1E9112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C0CFD-602B-48F1-8A98-417C051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A885D-E832-4382-9D4D-59F4554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87324-A510-4A50-B1AF-6113E131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813C7-ACC3-4780-B267-272FECE3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03C9D-51F9-4F89-9CDB-4473975A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FF47-C523-4BCE-9F5F-657021B6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B37A-418C-45FF-9637-007137D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63E73-F4B7-4033-BE6D-6A9E4422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5F4E1-8F9E-4B65-A0FF-A16ADD3D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62C42-C845-4FBF-A69A-ECDEFB1C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233CE-AB82-4916-B5F1-B4043E737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6EB4E-BD01-4043-9FAA-A66DECA7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F6B84-7A8E-4BEF-8C67-62D07D0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D3E34-826C-48BD-98B6-D595BDBD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998F83-FD61-4349-ADDF-781680C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6D50A-9224-4156-AEDF-A32D5224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B4BC-F149-44D8-8CEC-77039AA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DDFDF-A831-427E-8834-906C78A7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F1650-1FF8-44F4-9DD2-1C764BD9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12D34-9E59-4600-9C4D-B846B0FF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49606-3ED8-4385-9456-8D33C688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00DCC-F439-4638-8E21-658E741E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0837C-F160-43A3-9E98-1A848235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68536-35AE-4CA8-89A5-1951A562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2D00D-8042-4B55-B626-FC48F33D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F9651-1EF7-4706-AB6B-1F513DB4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C7F0E-2B5F-49A5-8BFF-AF92FFA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AF12-05C1-4431-8CD6-1358419D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68712-82FC-4A16-95F5-92163114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45BA6-E7A5-476D-931C-FA2F82CC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3856C-21C1-4982-A554-A8A0DB02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4CDA3-91D7-4801-9BF6-6874287F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6F782-DC5C-4AF8-9F5F-1D68ECF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24ABA-BD85-4BDF-99F3-A7C7E08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2F2D5-71CE-47F6-BDC8-C1BE5563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57F2B-0041-4333-9CDA-72196F55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C3038-D10A-4650-BED2-21621C70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D8DE-0713-441D-ACB1-2D2D1F17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0CB7-7F76-4E6A-8477-CE2603F5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3ACE-27CA-4D2F-963B-D434FDAC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B0D4-5269-46E6-B3ED-06E1BD18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EDC0-CE55-44D9-9BE9-B52234D3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5.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8A2C58-B730-4E53-8A60-17AA69991A7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5.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60F675-B568-465B-A118-1C1221B6016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792BB1-F4AF-4986-B4ED-D9EB1E49AE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C47829-C7EE-4768-A80A-F2C9DF3979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7120" y="285840"/>
            <a:ext cx="8429760" cy="621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08280" y="571680"/>
            <a:ext cx="37209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усский яз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7120" y="1928880"/>
            <a:ext cx="835812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Тем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Твёрдые и мягкие согласные зв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 буквы для их обознач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4005000"/>
            <a:ext cx="842976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 урока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способов обознач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ягкости согласных звуков на пись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5840" y="214200"/>
            <a:ext cx="8572320" cy="642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286000" y="1855800"/>
            <a:ext cx="44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з – подняться, потянуться.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ва – согнуться, разогну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и – в ладоши три хлоп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ловою три ки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 четыре – руки ш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ять – руками помах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есть – за парту тихо сесть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5840" y="214200"/>
            <a:ext cx="8572320" cy="642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429000" y="1305360"/>
            <a:ext cx="3929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ту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ры -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ни -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-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лё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189000"/>
            <a:ext cx="8572680" cy="642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1857600" cy="30067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492360" y="1268280"/>
            <a:ext cx="292896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я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ля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ы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14200"/>
            <a:ext cx="8572320" cy="642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500880" y="3143160"/>
            <a:ext cx="1928880" cy="3121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143160" y="1089360"/>
            <a:ext cx="4000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…нан          л…мон                п…рс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ишн…         гр…ша                мандар…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03160" y="1071720"/>
            <a:ext cx="462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3520" y="1714680"/>
            <a:ext cx="464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03160" y="2286000"/>
            <a:ext cx="462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03960" y="2928960"/>
            <a:ext cx="455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46440" y="3571920"/>
            <a:ext cx="435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4143240"/>
            <a:ext cx="464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8572680" cy="642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268360" y="1843560"/>
            <a:ext cx="607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ер  зах стучат д  т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  жа и Пет   кормят инд  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Вали зав  ли цвет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  ся л  бит в  ш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   грела ут 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92360" y="1785960"/>
            <a:ext cx="21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4360" y="1785960"/>
            <a:ext cx="36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00240" y="2214720"/>
            <a:ext cx="470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720" y="2276640"/>
            <a:ext cx="455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2781360"/>
            <a:ext cx="455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32200" y="3714840"/>
            <a:ext cx="455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20000" y="2349360"/>
            <a:ext cx="5238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3440" y="3286080"/>
            <a:ext cx="5238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18200" y="3357720"/>
            <a:ext cx="5238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3860640"/>
            <a:ext cx="500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24360" y="2781360"/>
            <a:ext cx="5097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3284640"/>
            <a:ext cx="4366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19640" y="1773360"/>
            <a:ext cx="28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24360" y="1785960"/>
            <a:ext cx="43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16360" y="2205000"/>
            <a:ext cx="36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16360" y="2276640"/>
            <a:ext cx="36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20000" y="2276640"/>
            <a:ext cx="435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000" y="2781360"/>
            <a:ext cx="462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24360" y="2781360"/>
            <a:ext cx="463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3440" y="3214800"/>
            <a:ext cx="435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3284640"/>
            <a:ext cx="435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00360" y="3213000"/>
            <a:ext cx="545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31840" y="3714840"/>
            <a:ext cx="462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43280" y="3716280"/>
            <a:ext cx="435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4200" y="214200"/>
            <a:ext cx="8572680" cy="642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500200" y="2012040"/>
            <a:ext cx="135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29160" y="2000160"/>
            <a:ext cx="150012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лю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мя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-4.44444 -6 L -0.17864 0.17223 E">
                                      <p:cBhvr>
                                        <p:cTn id="241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687 -0.0838 E">
                                      <p:cBhvr>
                                        <p:cTn id="24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3.7037 -7 L -0.1875 -0.08241 E">
                                      <p:cBhvr>
                                        <p:cTn id="249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25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257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189000"/>
            <a:ext cx="8572320" cy="642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357280" y="1938600"/>
            <a:ext cx="5572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 …     хорошей оце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ва  …      кусок г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ый  …    очень полез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копали глубокий 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  …      в теат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48240" y="1857240"/>
            <a:ext cx="912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62400" y="2286000"/>
            <a:ext cx="979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30840" y="2714760"/>
            <a:ext cx="869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19680" y="3143160"/>
            <a:ext cx="927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20920" y="3571920"/>
            <a:ext cx="1288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9280" y="189000"/>
            <a:ext cx="8715600" cy="642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1571760" cy="25430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6929280" y="3429000"/>
            <a:ext cx="1714680" cy="2774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435760" y="4572000"/>
            <a:ext cx="43898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аботал  хорош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мог бы луч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50800" y="1428840"/>
            <a:ext cx="4412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лично поработ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авился со вс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1297080" cy="973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1763640" y="692280"/>
            <a:ext cx="230364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87280" y="1268280"/>
            <a:ext cx="71298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На уроке я узнал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87280" y="2276640"/>
            <a:ext cx="71298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На уроке я научил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284640"/>
            <a:ext cx="71298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Самым трудным на уроке был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404640"/>
            <a:ext cx="2592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7826400" y="4724280"/>
            <a:ext cx="1317600" cy="21337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14065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68360" y="333360"/>
          <a:ext cx="820728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820728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ое больше нравиться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1773360"/>
            <a:ext cx="3167280" cy="2952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88000" y="1844640"/>
            <a:ext cx="3168720" cy="30243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1574640" cy="1181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132000" y="83664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627280" y="299736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611280" y="256536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1332000" y="472428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4859280" y="292428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8"/>
          <a:stretch/>
        </p:blipFill>
        <p:spPr>
          <a:xfrm>
            <a:off x="4140360" y="486900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9"/>
          <a:stretch/>
        </p:blipFill>
        <p:spPr>
          <a:xfrm>
            <a:off x="6443640" y="450864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0"/>
          <a:stretch/>
        </p:blipFill>
        <p:spPr>
          <a:xfrm>
            <a:off x="6804000" y="2060640"/>
            <a:ext cx="1617840" cy="1212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765080" y="776160"/>
            <a:ext cx="485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05640" y="958680"/>
            <a:ext cx="5356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9080" y="415800"/>
            <a:ext cx="4719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76200" y="2254320"/>
            <a:ext cx="509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56200" y="2759040"/>
            <a:ext cx="586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3008160"/>
            <a:ext cx="485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0920" y="3046320"/>
            <a:ext cx="511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32920" y="4846680"/>
            <a:ext cx="642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68920" y="4919760"/>
            <a:ext cx="485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19080" y="4703760"/>
            <a:ext cx="509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333360"/>
            <a:ext cx="8501040" cy="614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87800"/>
            <a:ext cx="7316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а о у 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Calibri"/>
              </a:rPr>
              <a:t>э и е ё я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35120" y="587520"/>
            <a:ext cx="3189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71720" y="357120"/>
            <a:ext cx="1714320" cy="21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7120" y="285840"/>
            <a:ext cx="84297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714760" y="1100880"/>
            <a:ext cx="521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2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Могут сделать что у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2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мок выстроить за н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2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лые силы превозм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2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удеса творят люб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2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 совсем они не з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2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м не нужны учеб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2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едь их зовут во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…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5840" y="214200"/>
            <a:ext cx="8572320" cy="642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1014480" cy="1643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786720" y="357120"/>
            <a:ext cx="1071360" cy="1733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286000" y="4857840"/>
            <a:ext cx="357120" cy="4903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4572000" y="5715000"/>
            <a:ext cx="642960" cy="4986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6929280" y="5572080"/>
            <a:ext cx="1247760" cy="819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6754680" y="3767040"/>
            <a:ext cx="743040" cy="928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3643200" y="4643280"/>
            <a:ext cx="1071720" cy="979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8"/>
          <a:stretch/>
        </p:blipFill>
        <p:spPr>
          <a:xfrm>
            <a:off x="2857680" y="5500800"/>
            <a:ext cx="795240" cy="928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9"/>
          <a:stretch/>
        </p:blipFill>
        <p:spPr>
          <a:xfrm>
            <a:off x="785880" y="5286240"/>
            <a:ext cx="1009440" cy="10638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0"/>
          <a:stretch/>
        </p:blipFill>
        <p:spPr>
          <a:xfrm>
            <a:off x="2928960" y="4000680"/>
            <a:ext cx="571320" cy="9522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1"/>
          <a:stretch/>
        </p:blipFill>
        <p:spPr>
          <a:xfrm>
            <a:off x="5500800" y="5286240"/>
            <a:ext cx="1285920" cy="13384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2"/>
          <a:stretch/>
        </p:blipFill>
        <p:spPr>
          <a:xfrm>
            <a:off x="7500960" y="4714920"/>
            <a:ext cx="984240" cy="8859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3"/>
          <a:stretch/>
        </p:blipFill>
        <p:spPr>
          <a:xfrm>
            <a:off x="857160" y="4143240"/>
            <a:ext cx="785880" cy="99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4"/>
          <a:stretch/>
        </p:blipFill>
        <p:spPr>
          <a:xfrm>
            <a:off x="5072040" y="4500720"/>
            <a:ext cx="1317600" cy="74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-2.22222 -6 L 0.11024 -0.46203 E">
                                      <p:cBhvr>
                                        <p:cTn id="13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2.96296 -6 L 0.00278 -0.71482">
                                      <p:cBhvr>
                                        <p:cTn id="17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2 -0.06482 L 0.12274 -0.47431 E">
                                      <p:cBhvr>
                                        <p:cTn id="2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04 0.01528 L 0.4809 -0.41759 E">
                                      <p:cBhvr>
                                        <p:cTn id="2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-6.66667 -6 L -0.08663 -0.07339 E">
                                      <p:cBhvr>
                                        <p:cTn id="2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 -6 L -2.59259 -6 L -0.16545 0.01065 E">
                                      <p:cBhvr>
                                        <p:cTn id="3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-3.7037 -7 L 0.32292 -0.50394 E">
                                      <p:cBhvr>
                                        <p:cTn id="37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97 -0.10602 L -0.66476 0.09329 E">
                                      <p:cBhvr>
                                        <p:cTn id="41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 -6 L 1.11111 -6 L 0.00781 -0.19954 E">
                                      <p:cBhvr>
                                        <p:cTn id="45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6 L 6.2963 -6 L -0.18124 -0.08402 E">
                                      <p:cBhvr>
                                        <p:cTn id="49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96 0.00579 L -0.62535 0.01621 E">
                                      <p:cBhvr>
                                        <p:cTn id="5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L -5.18519 -6 L 0.16528 -0.09468 E">
                                      <p:cBhvr>
                                        <p:cTn id="5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5840" y="214200"/>
            <a:ext cx="8572320" cy="642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00240" y="1928880"/>
            <a:ext cx="192888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57840" y="1928880"/>
            <a:ext cx="192888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5840" y="214200"/>
            <a:ext cx="857232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857240" cy="3006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429240" y="3071880"/>
            <a:ext cx="1928880" cy="3120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2357280" y="785880"/>
            <a:ext cx="4629240" cy="1762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071800" y="4357800"/>
            <a:ext cx="4628880" cy="1761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372200" y="1285920"/>
            <a:ext cx="239508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е ё и ю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1360" y="4857840"/>
            <a:ext cx="2124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 о у ы 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аиля</cp:lastModifiedBy>
  <dcterms:modified xsi:type="dcterms:W3CDTF">2012-04-10T21:10:42Z</dcterms:modified>
  <cp:revision>1</cp:revision>
  <dc:subject/>
  <dc:title>Слайд 1</dc:title>
</cp:coreProperties>
</file>